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3CB43-9581-40BB-88AA-EE93B91B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E7CD-85D1-4A67-9A2B-399E624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3506D-EDE8-44BF-8ECC-0FFAF1AE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81E45-9360-4910-9D8E-2F9DA43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C161-15AE-4059-A3F1-FBF93D3C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DE28-E4EF-4E51-B7DD-C93AD8E2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41EDA-2BF4-471E-B843-B407F103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0D28B-8C86-4B87-88E4-796B8D5C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C8BAF-FAD0-4244-BE3F-5109E529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500CF-650B-46E0-97AF-84EFC288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5AADF-935C-4CD9-A329-DBD418B3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67654-8836-4F3A-A4A4-FEAB9BD3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B7401-A920-43E7-B99D-5D7618F7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4D804-43F4-4B76-B1AC-36643259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A55D-53F7-4554-9B2F-B5F97E5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8A9AC-1E96-4717-A04F-A2897175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DBC6D-BCD7-44EA-8E68-DCD5F828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CBD3B-4718-493B-98BF-8CC309A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C98EA-64B9-4EF2-BA09-069C7B05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2AEBB-D350-4198-86B6-840D2D96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F5274-688B-4315-A501-FB396DE7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1697A-8025-4B83-8E66-ABAFE232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23F9A-5C88-440C-986B-EDFB4B5B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9877E-DEB1-485D-8291-4A9FCBB0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F43D5-BC66-4366-9AE8-C97988B4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98CF0-B35B-48A9-8501-C4B92593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0E648-BD63-4063-973E-0F3500CC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EA3E7-F754-4735-B29F-3335BE30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622D1-3236-4CC8-B25C-9AA07A6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51B5A-0C1B-498F-ADEF-78FB2810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D32-EA7A-4AC3-A872-DC574180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748DF-E46A-46BC-A8F8-77A76175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C7AD2-7886-48A5-9A84-C65FF716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24904-3D0A-4D8E-9408-338A308E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32F3B-6885-4646-9A39-D68681E9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6CDA5-DD16-4AC0-B467-39057DF2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1CA8A-A045-488C-B94A-6BBD6E2D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3DA3E-547A-4CBF-8810-5B181A1F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B35ED-A6A8-4E68-815C-C513B6A8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524BA-3561-471D-89FC-12EC58AA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06B74-C68F-4494-8143-B54EDB5D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40A-C28F-448D-BA0C-8A22A973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BEAC7-9536-45F2-ABF6-CD08B0E1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41149-619A-4D33-ACF5-56A95DA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B0DE9-B251-4EF6-8813-F5480B61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1BD06-59B9-4847-A646-7C2BD22C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C1EB4-2642-45DD-B6CF-0CF85EC5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A5B-D0DB-48EA-99D3-8FC99417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C75-9B59-4B9D-AEE3-9AFFF781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E9B-3302-419B-842C-B391E379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5F1-E7DA-4E6C-A739-9A94EDBB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47B-DC3A-4FF0-81B4-D120D00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C97-B544-4195-9210-CC96E47A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D82-CA6A-435E-9777-848C702F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252-4626-4AC4-A84A-186D0549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0E0-05C8-450D-8029-0DD4664C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E76-D515-4FC5-89B3-6021BC8C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1B60-351A-481A-9E00-5EFFB357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99CF-6243-4FDF-AF7A-DF51A23F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330D-4245-4729-82FD-9B81774C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E972-802A-4BC1-B065-E02E3829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3D37-FF48-4BAE-BB1C-67BED65B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61FD-1B64-40F4-94AF-4A3FFA07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A1D7-2A81-474D-A5CF-4F5D5647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15B9-ED05-4393-97E4-45C45024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1CA5-ECF3-477B-9C3E-8ABCA8F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B78B-4F5D-4339-87AF-BB0B81BA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E43A-4545-4F64-8284-B2233591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5D0F-1C8D-461A-AEFB-84F24B1B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C1C50-2C97-4F23-9288-D76B492A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E348-8AC7-459B-85F0-E77CBF00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39DB-0C45-4637-AF89-F616EE05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DDA0-A41F-4621-9CE6-E274F89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E8E6-A7C0-4EDF-81DC-F47E834E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E538-E8CE-4F64-8EC1-8BBDB49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6F60-3D3F-46AE-BC37-DB091547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ECC0-4995-48EE-BE82-D13D2FBC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6D15-6F1D-4928-955F-E0B6AAC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4DDF-411F-49DD-BA0C-2AA4D46D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1B9F-590C-4106-A6CE-F8DD4C5A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D27E-3201-4359-B8F7-8039715D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AAAA-F480-420B-8865-B43B1FB6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86E0-9022-4841-8F31-C959E4A1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76EF-96D2-4852-84BA-F0E706A7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1C9F-CBC9-4FA3-9DD5-FD75A985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F1A8-D517-4EAD-B3B4-CF47D41A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851D-960E-456D-8186-8D09B419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4B7A-F8F3-42F8-B65A-3BAB92E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EFA6-B956-4213-9235-BDBDD650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E8E73-FB32-406E-BF92-EC1EDAFA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60E5-6746-475E-8ADF-F8985EF7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8ED37-4E32-4A56-A008-F2A8B5BA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0125-493B-43DA-910E-EDAAF9EF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1065D-6FC2-4DD4-9F50-9DAC9C6E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E75F-8BAF-49C8-8D7A-22B640CD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E3B8F-8FCE-4588-B953-BA1380CC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E5CE6-7FC9-4406-8734-6E79A25B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0374-B046-49C2-83BC-E57C8C02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A0C5-9DE1-4660-AD17-86BCAB91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DE113-8F7E-4490-90ED-C683D31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87F5-3178-48EE-ACC1-2674444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4426C-73F5-4C6E-80FC-AFE9E4F6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5B699-37B5-442E-8303-FD03619F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CA00-45F7-4FFE-B919-8369439D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D1F8-8BF8-4717-BC3B-9B1401E6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74DC1-6140-4531-B095-7F94F853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E25FB-23E9-45AF-81ED-3665489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A722E-B819-41FA-B67E-EE3E313A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D3A2D-E567-41CC-9B40-C3738567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03C51-ECE3-4D7C-8BB9-2FEA26AD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77B7C-3F05-4B9D-9C67-1195750D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72FE7-E3E9-4D8D-8F7F-4ABD9D1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74384-49B2-4113-817A-A38D337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0F744-5788-4F28-B24B-2265629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81D1F-014C-4AEA-B07E-5C67F3CD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0D1F7-223A-4EF2-9E8C-A04F7C34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A30E7-1517-4996-9D41-D5277B55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1D11C-E11B-48C5-8A09-CC5D8B5B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8239E-5C9C-4086-8B69-D0F065F3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54231-1361-4BF3-B35D-EEE1DC5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B5D9E-E7E8-4D1E-A888-B53C7A65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F8546-599B-483B-B796-5701EB87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B4B94-85C9-4FCA-B260-97AFD68D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3C19B-A0CA-4CBB-BF22-58AFC8E5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374FC-6289-4F60-AA29-219ACBB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5D912-9984-44C3-871C-A72385C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6057-D77F-4630-996E-AEF4AD27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BE665-A063-4334-BC96-C39FCEA0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386C6-6734-454C-B3C9-53F8B1FA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64740-8D7C-4E85-8842-C9B2C726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7879-2BFD-42A9-9B70-60DC29E0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2BF8-0B59-4D74-8453-6D8E168B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3231-13FC-439F-92F5-F2C8AF88F3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C98B-FA59-4B5F-8D63-676BCCF47F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1A45-2E25-47B6-99D1-3157B15456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7EBE-ABB5-4595-A214-3D06EA1D60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1903-FA50-497D-A161-5A38022531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21B8-C555-48B8-A307-3438961E9F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BCC7-F11B-43FD-970E-3F9D3BD9CE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AC82-D536-439D-AB66-A9A10B157B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5E5C-EAFA-4CC8-BB51-F702D96F1B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0DB2-8CF4-4F12-8B04-AD0738F134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6FB2-9650-45D7-B3F1-EB9238CFFA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01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10.htm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dreamkidland.com/thhb/booboo/10.htm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11.htm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dreamkidland.com/thhb/booboo/11.htm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12.htm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dreamkidland.com/thhb/booboo/12.htm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13.htm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dreamkidland.com/thhb/booboo/13.htm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14.htm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dreamkidland.com/thhb/booboo/14.htm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15.htm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dreamkidland.com/thhb/booboo/15.htm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16.htm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dreamkidland.com/thhb/booboo/16.htm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index.htm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dreamkidland.com/thhb/booboo/index.htm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dreamkidland.com/thhb/booboo/02.htm" TargetMode="External"/><Relationship Id="rId17" Type="http://schemas.openxmlformats.org/officeDocument/2006/relationships/image" Target="../media/image2.jpeg"/><Relationship Id="rId18" Type="http://schemas.openxmlformats.org/officeDocument/2006/relationships/hyperlink" Target="http://www.dreamkidland.com/thhb/booboo/02.htm" TargetMode="External"/><Relationship Id="rId19" Type="http://schemas.openxmlformats.org/officeDocument/2006/relationships/image" Target="../media/image3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03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dreamkidland.com/thhb/booboo/03.htm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04.htm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dreamkidland.com/thhb/booboo/04.htm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05.htm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dreamkidland.com/thhb/booboo/05.htm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06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dreamkidland.com/thhb/booboo/06.htm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07.htm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dreamkidland.com/thhb/booboo/07.htm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08.htm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dreamkidland.com/thhb/booboo/08.htm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reamkidland.com/thhb/booboo/09.htm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dreamkidland.com/thhb/booboo/09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780000" y="2208240"/>
            <a:ext cx="504000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隶书"/>
                <a:ea typeface="华文隶书"/>
              </a:rPr>
              <a:t>作者：</a:t>
            </a:r>
            <a:r>
              <a:rPr b="0" lang="en-US" sz="3600" spc="-1" strike="noStrike">
                <a:solidFill>
                  <a:srgbClr val="7030a0"/>
                </a:solidFill>
                <a:latin typeface="华文隶书"/>
                <a:ea typeface="华文隶书"/>
              </a:rPr>
              <a:t>Olivier Dunr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隶书"/>
                <a:ea typeface="华文隶书"/>
              </a:rPr>
              <a:t>翻译：艾斯苔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隶书"/>
                <a:ea typeface="华文隶书"/>
              </a:rPr>
              <a:t>推荐：</a:t>
            </a:r>
            <a:r>
              <a:rPr b="0" lang="en-US" sz="3600" spc="-1" strike="noStrike">
                <a:solidFill>
                  <a:srgbClr val="7030a0"/>
                </a:solidFill>
                <a:latin typeface="华文隶书"/>
                <a:ea typeface="华文隶书"/>
              </a:rPr>
              <a:t>0</a:t>
            </a:r>
            <a:r>
              <a:rPr b="0" lang="zh-CN" sz="3600" spc="-1" strike="noStrike">
                <a:solidFill>
                  <a:srgbClr val="7030a0"/>
                </a:solidFill>
                <a:latin typeface="华文隶书"/>
                <a:ea typeface="华文隶书"/>
              </a:rPr>
              <a:t>～</a:t>
            </a:r>
            <a:r>
              <a:rPr b="0" lang="en-US" sz="3600" spc="-1" strike="noStrike">
                <a:solidFill>
                  <a:srgbClr val="7030a0"/>
                </a:solidFill>
                <a:latin typeface="华文隶书"/>
                <a:ea typeface="华文隶书"/>
              </a:rPr>
              <a:t>3</a:t>
            </a:r>
            <a:r>
              <a:rPr b="0" lang="zh-CN" sz="3600" spc="-1" strike="noStrike">
                <a:solidFill>
                  <a:srgbClr val="7030a0"/>
                </a:solidFill>
                <a:latin typeface="华文隶书"/>
                <a:ea typeface="华文隶书"/>
              </a:rPr>
              <a:t>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Cov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个下午，波波都要到池塘里游泳。她去啃一口芦苇枝。她说：“好吃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76500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69228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波波是一只蓝色的，好奇的小鹅。            也很贪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3336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天下午，波波看见池塘上飘着好多泡泡。她张嘴吞下一个发亮的蓝泡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5" descr="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0464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吃，”波波说。    然后，她打了一个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500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62064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她一边前进一边打嗝。                她一边后退一边打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3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她在水里打嗝。                        她在草里打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0464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喝水！”乌龟说。波波狂喝了好多水。她又打了一个嗝，打出来一个不丁点大的小泡泡。“好吃，”她说。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7" descr="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" descr="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6028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波波是只小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只蓝色的、贪吃的、小小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什么东西它都吃过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0792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Ba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76500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8"/>
          <p:cNvSpPr/>
          <p:nvPr/>
        </p:nvSpPr>
        <p:spPr>
          <a:xfrm>
            <a:off x="1476360" y="315288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01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84360" y="191628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02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859280" y="155736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5949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波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5" descr="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4210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1337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9640" y="58050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波波是只小鹅。一只蓝色的，贪吃的小小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2864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26828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波波喜欢吃，从早吃到晚。天天都如此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90792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90792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544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上，她吃光饭碗里的每一样东西。她说：“好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052640"/>
            <a:ext cx="3333960" cy="3333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34136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波波来看母鸡，顺便狼吞虎咽地吃掉她们的谷粒。她说：“好吃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5" descr="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76500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76500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波波来看山羊，顺便把尖嘴戳进他的食槽里。她说：“好吃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7628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波波来看老鼠，顺便舔舔他的碟子。她说：“好吃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5264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98100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57:16Z</dcterms:created>
  <dc:creator>maling</dc:creator>
  <dc:description/>
  <dc:language>en-US</dc:language>
  <cp:lastModifiedBy>lenovo</cp:lastModifiedBy>
  <dcterms:modified xsi:type="dcterms:W3CDTF">2015-08-10T01:07:2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