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20D-4F3A-4CBE-AF0A-291AD436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9C3-27D6-43E9-9AFE-335C2B9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1FFDD-DFB6-4289-AF1F-E7E913D5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B36BE-85EC-4C6A-AB60-CB256A6A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41B8D-DE0F-4EDA-9DE8-14EC6153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4F86F-FB3E-474E-A442-62EF8760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BADF2-E226-4CDB-974B-5BEEBE63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D9CBD-5B34-4CB7-BA8A-93C2AE1A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7A06E-DF26-4228-B789-C3A00579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1F5D9-E18B-40D3-8D8D-E7D18831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95B25-0BBE-4CEB-B2F3-A815D553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25F22-4F49-435B-821F-6D71884F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162-8A94-42DF-B52D-112A82B4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E3B71-A999-476C-A228-8D6E854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84A92-F75D-4887-A023-743184B3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8D59D-9E67-4A54-9A16-2C241502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6C0A1-A7D2-4EE6-BE82-D200CB94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60D53-246B-48C4-9A60-22513D5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38CD0-396F-473A-82EB-7883078F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6C00C-08A9-427D-A88E-CE7F87A1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78973-3B54-4A55-9002-A7CEB8E9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20CC6-BBEB-47F0-A187-AC4AD045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8A64-3DDC-4A72-9E14-28B2CA05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257-9D4B-4088-BF4C-E0F83440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44D50-4AE2-41D4-8E5F-C2D54074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CE05C-AF13-448C-B424-0337843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98370-1224-41E7-A4BC-6C92CB1B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FDBD2-1097-4AFB-8C13-7E6324B9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4B2E7-CD55-49E0-B870-21BF192C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A0393-2798-4E75-861E-A80F49B2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2CC8-ED0A-46C8-8C15-761BFC0A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69B61-4270-45AF-B592-2610CE8C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A2589-78F6-44BC-BCA6-F416485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8C0DD-F701-4863-8D93-913563A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2DAF-3D7A-4A14-8215-BFB73472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75CED-8136-4734-93E2-EEFE8770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5E091-2579-434A-AE4D-762B4AA2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F0529-F1C0-4CF0-8F77-DF87D72E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C2BBA-CD0C-42CA-8CB2-C5A48ABD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EDAD5-431E-4A83-8D1B-F3908AE5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F6878-1DCD-482E-BC1E-870ECFB4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04AD4-7E7E-4174-9926-4A2E1AB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4A50F-116D-4ECA-B052-B3E0AFE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A8B12-7177-46E4-89B0-D9A68C23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1F0BD-12EB-45BF-A418-0C1A479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C1BD-F0AA-47A9-AECF-A5468CF6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900DF-2319-4DA8-B9CA-6A9B9E0E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5DE37-C934-49DD-A6DF-09B5993F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38765-4FD5-4D97-BB3F-DE6E43D5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307C3-7805-484F-BF46-CF4E49DA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1A7A4-6428-4C4D-BABD-51E8F203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E65D-E4F1-4554-9EA1-78918AF4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A8A5-670E-49E9-901F-332D244D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EA54-2875-4DBD-A2C2-1D34492D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9201-64E5-4369-B869-0567D3C6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8B26-386A-492C-916D-F860444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E56-2AA1-4107-9493-488F7652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2329-8881-48B7-A45F-F1F12F9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916E-0826-4789-BCEE-2BEEBC22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4E1D-CA30-4C2B-BD3B-4759E054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754B-CB34-4CA2-AD57-8D123AE5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9D17-50BF-4608-B50C-ECC500C0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1F1A-F61A-4FA3-8F59-050822CA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5F52-B307-4940-AD99-26D42F96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1D59-F8DE-4D34-BA78-24B73E21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1D7A-5494-46F2-900E-2E3E2381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0BDF-7F8B-4E0A-AB7C-5C94DEA0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0E4-C66C-4EEF-B7BE-47FF096B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B9BE-9A52-4DCF-9FD7-1F9CCB28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7237-C6AB-40BB-8D53-E363B99A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50A4-8BE1-4596-B7A8-7D449141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4479-0C14-4904-A069-3D0FF7F9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AACB-A606-451F-964B-71B20082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1F32-FDA9-4112-AA31-ABAD2D24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A968-9FB5-4320-80C3-4FDD77C3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71936-0743-4B42-BBAD-BAFE3A97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5A3B-0904-419C-8401-1AFB90A0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FDBA2-D75F-4EBF-8072-E4D08400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A36-556B-4364-811B-EF149E15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37D1C-43AC-47E3-A15A-31E6D0D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B77D-9EBF-4001-86C1-8922D0B0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57D5F-D2C4-4648-A3E4-28F8EAC8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D554-C5BD-4B0F-A701-5C8644D3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D2CBE-E084-484E-AE0C-9AFF6461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9F72-FEC3-4326-AB26-21C1882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8E88-83B1-4B4D-9CE5-4092414A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FD20A-DE6D-4968-ADDC-8F4D9DD8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CE044-BCB9-498C-918F-1ACFB7EB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2FB4-6CCB-47E0-BA56-C2C12BBC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127-55FA-4A08-9CDB-1FD7D88F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7CCAE-E197-4B95-B936-2CD06B27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1D367-C9D0-4FF7-8832-7DE3D798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2C254-8ABD-4984-9527-BB469A12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C7B3-B4BB-49E9-967F-A023CDB8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B05FC-6428-4109-8146-DEA0D39C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84E7-CFAD-4A3A-AF79-149A2E32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33935-8BC6-4AF4-A326-F99C306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2070-868B-4A8D-979A-16E6EF8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F11E6-A572-45F7-873D-3048DF9F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0F361-549C-40F3-A7DC-5EB3122B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7EE-1AF6-401E-8818-C688FB02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F440-0CC0-4DF6-BCB1-99934212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AF17D-4516-4728-8EE6-C9B723A6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61115-5287-4736-9389-114503FA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BE8FD-A404-4416-A550-5F8E0AA5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9E950-EF25-417B-8A48-105A7F4A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FFB42-FD8C-4DA9-AB11-4F350B52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74B92-656B-4D9E-9DFC-7D2D5E2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B0E43-D6F9-4DCA-93C3-3A73FC35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237D-71D3-4FB2-8647-993A88E2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31D49-434D-4A16-9462-B814B55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36E-CB97-4E7E-A082-80F9A59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EC8C-039E-4F78-AC82-BF0CF52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06E42-DF72-481A-94A5-CD6F449B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80540-209D-4945-86D9-31F2AB3F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BA13C-74CC-4C52-9582-EA7380AA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E9CE5-3359-4656-A5B7-6110F300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B5C6A-DAD6-4DB1-B4DB-AAE5951F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17C4-0F2D-4DE3-9035-2AE2004E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C8AD4-B07B-40B6-85D6-450A04AB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063A3-F537-4C8C-BD8A-A1F0493F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9A1D7-05A8-4F2F-83D7-000F5523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44B-9C1F-405D-920D-0C41847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E7E9F-9BF3-4DAC-805E-79D0C02C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D8B4-60DF-4784-B7C7-B8BF95E9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531A4-F108-49B5-AF1B-B48F4FC1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6689E-C123-484E-A996-94D641F3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E370-E03E-4DCC-A0AA-BED73A90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E6CB2-98F2-4F0E-9D69-9B8DDE08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14CC3-3885-4809-8774-C5AEAA98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ED274-89FD-4002-8A15-294E0957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D6709-7CA6-4560-A067-B047FD7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C8914-E9DA-4F0F-8C52-C87A4665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1F3-6806-438A-B328-483C600E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DEDC-01F2-42FE-9608-21FCA0F9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F63E1-4D9C-4B85-B656-3C5079AE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11C51-4109-453B-BB00-70785AC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8095E-D3ED-4FA2-98AA-2AFFF75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A31CF-A87E-4784-8CBD-14457E15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0A0B0-B748-4802-A8EF-BB9A30C8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36F49-E63C-46BE-8A23-29136AB5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11D69-DF4B-4B48-A749-71957DCA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F7C15-E358-4247-827E-AFEE65F3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E0B43-3366-48E3-8E12-29439730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2D3C44F1-5BC4-4645-A909-70106F8FF532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A416-56E6-44CF-8F60-87B87C4EC75C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6C69-96C3-458D-B831-DFD4563845BD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FE3D-B124-4474-AFBF-F1B11D0CA0DE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fld id="{FC2E83AE-9E8A-48B5-A7A6-85BEDE11784D}" type="slidenum">
              <a:rPr b="0" lang="zh-CN" sz="2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CE7F-F899-4995-9271-1C094DBC3957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0C1B-F316-463A-A664-9C1F78F79F72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1ACD-2D6A-468A-90D7-F8E3B826B267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5569-476C-4E1F-861D-6E9AD8D952CA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7A47-DE9C-4B96-B0BC-304FF362CF4C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EEA1-55BC-4C2D-99E8-30B0DA185CC4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AE6A-D75C-4219-9FDC-EA9364268604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3527280" y="55440"/>
            <a:ext cx="10298160" cy="12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"/>
          <p:cNvPicPr/>
          <p:nvPr/>
        </p:nvPicPr>
        <p:blipFill>
          <a:blip r:embed="rId1"/>
          <a:stretch/>
        </p:blipFill>
        <p:spPr>
          <a:xfrm>
            <a:off x="216000" y="936720"/>
            <a:ext cx="16849800" cy="110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3672000" y="415800"/>
            <a:ext cx="9432720" cy="119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4176720" y="431640"/>
            <a:ext cx="9255240" cy="12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3557520" y="-1440"/>
            <a:ext cx="10166400" cy="129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3600360" y="14400"/>
            <a:ext cx="10068120" cy="128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3548160" y="-30240"/>
            <a:ext cx="10185480" cy="13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3592440" y="69840"/>
            <a:ext cx="10096560" cy="128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3736800" y="-1440"/>
            <a:ext cx="9807840" cy="129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"/>
          <p:cNvPicPr/>
          <p:nvPr/>
        </p:nvPicPr>
        <p:blipFill>
          <a:blip r:embed="rId1"/>
          <a:stretch/>
        </p:blipFill>
        <p:spPr>
          <a:xfrm>
            <a:off x="3643200" y="41400"/>
            <a:ext cx="9995040" cy="128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3797280" y="-25560"/>
            <a:ext cx="9686880" cy="13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"/>
          <p:cNvPicPr/>
          <p:nvPr/>
        </p:nvPicPr>
        <p:blipFill>
          <a:blip r:embed="rId1"/>
          <a:stretch/>
        </p:blipFill>
        <p:spPr>
          <a:xfrm>
            <a:off x="14400" y="552600"/>
            <a:ext cx="17262360" cy="118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3527280" y="79200"/>
            <a:ext cx="10226880" cy="128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3586320" y="27000"/>
            <a:ext cx="10109160" cy="129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"/>
          <p:cNvPicPr/>
          <p:nvPr/>
        </p:nvPicPr>
        <p:blipFill>
          <a:blip r:embed="rId1"/>
          <a:stretch/>
        </p:blipFill>
        <p:spPr>
          <a:xfrm>
            <a:off x="3527280" y="79200"/>
            <a:ext cx="10226880" cy="128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3382920" y="65160"/>
            <a:ext cx="10515600" cy="128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3746520" y="0"/>
            <a:ext cx="9740880" cy="128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7" descr=""/>
          <p:cNvPicPr/>
          <p:nvPr/>
        </p:nvPicPr>
        <p:blipFill>
          <a:blip r:embed="rId1"/>
          <a:stretch/>
        </p:blipFill>
        <p:spPr>
          <a:xfrm>
            <a:off x="73080" y="1258920"/>
            <a:ext cx="16921080" cy="1065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5"/>
          <p:cNvSpPr/>
          <p:nvPr/>
        </p:nvSpPr>
        <p:spPr>
          <a:xfrm>
            <a:off x="2519280" y="540072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6" descr=""/>
          <p:cNvPicPr/>
          <p:nvPr/>
        </p:nvPicPr>
        <p:blipFill>
          <a:blip r:embed="rId16"/>
          <a:stretch/>
        </p:blipFill>
        <p:spPr>
          <a:xfrm>
            <a:off x="511200" y="1008000"/>
            <a:ext cx="16259040" cy="107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6" descr=""/>
          <p:cNvPicPr/>
          <p:nvPr/>
        </p:nvPicPr>
        <p:blipFill>
          <a:blip r:embed="rId1"/>
          <a:stretch/>
        </p:blipFill>
        <p:spPr>
          <a:xfrm>
            <a:off x="216000" y="1100160"/>
            <a:ext cx="16849800" cy="108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6" descr=""/>
          <p:cNvPicPr/>
          <p:nvPr/>
        </p:nvPicPr>
        <p:blipFill>
          <a:blip r:embed="rId1"/>
          <a:stretch/>
        </p:blipFill>
        <p:spPr>
          <a:xfrm>
            <a:off x="431640" y="912960"/>
            <a:ext cx="16345080" cy="10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"/>
          <p:cNvPicPr/>
          <p:nvPr/>
        </p:nvPicPr>
        <p:blipFill>
          <a:blip r:embed="rId1"/>
          <a:stretch/>
        </p:blipFill>
        <p:spPr>
          <a:xfrm>
            <a:off x="431640" y="1066680"/>
            <a:ext cx="16489440" cy="1089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360360" y="1065240"/>
            <a:ext cx="16560720" cy="1083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59:21Z</dcterms:created>
  <dc:creator>新教育</dc:creator>
  <dc:description/>
  <dc:language>en-US</dc:language>
  <cp:lastModifiedBy>User</cp:lastModifiedBy>
  <dcterms:modified xsi:type="dcterms:W3CDTF">2015-07-18T02:19:58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