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3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4.png" ContentType="image/png"/>
  <Override PartName="/ppt/media/image75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18.jpeg" ContentType="image/jpeg"/>
  <Override PartName="/ppt/media/image20.jpeg" ContentType="image/jpeg"/>
  <Override PartName="/ppt/media/image16.jpeg" ContentType="image/jpeg"/>
  <Override PartName="/ppt/media/image3.jpeg" ContentType="image/jpeg"/>
  <Override PartName="/ppt/media/image37.jpeg" ContentType="image/jpeg"/>
  <Override PartName="/ppt/media/image15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17.jpeg" ContentType="image/jpeg"/>
  <Override PartName="/ppt/media/image4.jpeg" ContentType="image/jpeg"/>
  <Override PartName="/ppt/media/image51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1.jpeg" ContentType="image/jpeg"/>
  <Override PartName="/ppt/media/image78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5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9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86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78A-2130-43B5-8266-54F840E3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9BA-CB7E-4B99-925D-7EEC3915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759-693F-4310-B04C-58547876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EF4-392A-44CD-B406-79E2E05C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6AF-B6B4-42CC-85BD-1BD05A0D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2B8-3A5B-43BF-B1D2-469EB724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871-62F9-4482-A371-151768F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548-E4E3-483F-B6A2-7B890295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190-3408-42DC-A75A-667340CE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DF2-7C73-43BA-A1CD-795876D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83B8-6486-4D0B-AF57-FFEC672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092-94D7-469E-B8CF-7D3B149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243-4A13-4400-9655-D451FCDDC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599" t="-595" r="11540" b="137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art 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美丽与哀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0546" t="0" r="25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41068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1462" t="0" r="15536" b="14278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146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7400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1047" t="0" r="3921" b="0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244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16745" r="0" b="12196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者伉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0330" t="16824" r="0" b="0"/>
          <a:stretch/>
        </p:blipFill>
        <p:spPr>
          <a:xfrm>
            <a:off x="0" y="3435480"/>
            <a:ext cx="6559560" cy="3422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32293" t="0" r="28342" b="0"/>
          <a:stretch/>
        </p:blipFill>
        <p:spPr>
          <a:xfrm>
            <a:off x="6264360" y="2743200"/>
            <a:ext cx="2879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7062" t="0" r="7968" b="7909"/>
          <a:stretch/>
        </p:blipFill>
        <p:spPr>
          <a:xfrm>
            <a:off x="0" y="0"/>
            <a:ext cx="475308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24414" t="0" r="3730" b="0"/>
          <a:stretch/>
        </p:blipFill>
        <p:spPr>
          <a:xfrm>
            <a:off x="3887640" y="0"/>
            <a:ext cx="525636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21658" t="0" r="0" b="12502"/>
          <a:stretch/>
        </p:blipFill>
        <p:spPr>
          <a:xfrm>
            <a:off x="0" y="3257640"/>
            <a:ext cx="57308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rcRect l="50005" t="0" r="0" b="0"/>
          <a:stretch/>
        </p:blipFill>
        <p:spPr>
          <a:xfrm>
            <a:off x="5486400" y="27432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9636" t="0" r="15536" b="0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3588" t="0" r="520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3888" t="0" r="76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462" t="0" r="10635" b="0"/>
          <a:stretch/>
        </p:blipFill>
        <p:spPr>
          <a:xfrm>
            <a:off x="0" y="3933720"/>
            <a:ext cx="3708360" cy="292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22638" t="0" r="7490" b="12502"/>
          <a:stretch/>
        </p:blipFill>
        <p:spPr>
          <a:xfrm>
            <a:off x="0" y="0"/>
            <a:ext cx="5580000" cy="393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23415" t="0" r="0" b="0"/>
          <a:stretch/>
        </p:blipFill>
        <p:spPr>
          <a:xfrm>
            <a:off x="3743280" y="0"/>
            <a:ext cx="5400720" cy="3284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0" r="0" b="15004"/>
          <a:stretch/>
        </p:blipFill>
        <p:spPr>
          <a:xfrm>
            <a:off x="1828800" y="3284640"/>
            <a:ext cx="7315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9355" t="0" r="796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753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冰心与吴文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9321" t="0" r="27367" b="0"/>
          <a:stretch/>
        </p:blipFill>
        <p:spPr>
          <a:xfrm>
            <a:off x="0" y="0"/>
            <a:ext cx="52815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0" r="0" b="34450"/>
          <a:stretch/>
        </p:blipFill>
        <p:spPr>
          <a:xfrm>
            <a:off x="5292720" y="0"/>
            <a:ext cx="38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19237" b="0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16203" t="32527" r="10886" b="0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42386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10223" t="0" r="11229" b="0"/>
          <a:stretch/>
        </p:blipFill>
        <p:spPr>
          <a:xfrm>
            <a:off x="0" y="0"/>
            <a:ext cx="48798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徐志摩与陆小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702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2244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尊严不是无代价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3612" t="0" r="9365" b="125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6803" r="0" b="0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2322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13273" t="0" r="24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26" t="4861" r="3257" b="50004"/>
          <a:stretch/>
        </p:blipFill>
        <p:spPr>
          <a:xfrm>
            <a:off x="0" y="0"/>
            <a:ext cx="54007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4504" t="0" r="8690" b="0"/>
          <a:stretch/>
        </p:blipFill>
        <p:spPr>
          <a:xfrm>
            <a:off x="5327640" y="0"/>
            <a:ext cx="38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6026" t="60027" r="7028" b="4861"/>
          <a:stretch/>
        </p:blipFill>
        <p:spPr>
          <a:xfrm>
            <a:off x="0" y="3429000"/>
            <a:ext cx="53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19488" t="0" r="16535" b="13158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林徽因的弟弟林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3730" t="13237" r="2932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2441" t="0" r="7682" b="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7996" r="0" b="19513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16720" cy="3538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 rot="19485600">
            <a:off x="3132000" y="981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724360" y="189000"/>
            <a:ext cx="3194280" cy="426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 rot="1310400">
            <a:off x="3276720" y="3716280"/>
            <a:ext cx="5222880" cy="2649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 rot="187200">
            <a:off x="250560" y="3067200"/>
            <a:ext cx="5715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9636" t="0" r="96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rcRect l="5709" t="0" r="60832" b="0"/>
          <a:stretch/>
        </p:blipFill>
        <p:spPr>
          <a:xfrm>
            <a:off x="0" y="0"/>
            <a:ext cx="40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8366" t="0" r="93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6870" t="0" r="130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8853" t="0" r="896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5145" t="0" r="16048" b="4576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37240" y="2060640"/>
            <a:ext cx="3506760" cy="479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627280" y="836640"/>
            <a:ext cx="367668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18716" t="-726" r="0" b="53220"/>
          <a:stretch/>
        </p:blipFill>
        <p:spPr>
          <a:xfrm>
            <a:off x="250920" y="0"/>
            <a:ext cx="8388360" cy="2637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13770" t="18478" r="12987" b="15048"/>
          <a:stretch/>
        </p:blipFill>
        <p:spPr>
          <a:xfrm rot="716400">
            <a:off x="2124000" y="1413000"/>
            <a:ext cx="6697800" cy="3141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18686" t="4514" r="8465" b="30752"/>
          <a:stretch/>
        </p:blipFill>
        <p:spPr>
          <a:xfrm>
            <a:off x="0" y="3500280"/>
            <a:ext cx="532908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0" t="12266" r="0" b="15976"/>
          <a:stretch/>
        </p:blipFill>
        <p:spPr>
          <a:xfrm>
            <a:off x="1619280" y="3905280"/>
            <a:ext cx="7315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28342" t="0" r="31294" b="0"/>
          <a:stretch/>
        </p:blipFill>
        <p:spPr>
          <a:xfrm>
            <a:off x="4222800" y="0"/>
            <a:ext cx="49212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17180" t="0" r="66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67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11560" y="0"/>
            <a:ext cx="503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13588" t="1006" r="96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0" t="15739" r="0" b="0"/>
          <a:stretch/>
        </p:blipFill>
        <p:spPr>
          <a:xfrm>
            <a:off x="1222200" y="3103560"/>
            <a:ext cx="7921800" cy="3754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0" t="0" r="0" b="13237"/>
          <a:stretch/>
        </p:blipFill>
        <p:spPr>
          <a:xfrm>
            <a:off x="0" y="0"/>
            <a:ext cx="73152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8248" t="0" r="967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5145" t="0" r="16048" b="4576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4436640"/>
            <a:ext cx="7236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幻灯片制作：戴煜婷 张玉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125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及文案：韩丁洋 戴煜婷 张玉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2852640"/>
            <a:ext cx="86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收集：林娟 刘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1125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244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12231" r="3357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165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1:48:23Z</dcterms:created>
  <dc:creator>YlmF</dc:creator>
  <dc:description/>
  <dc:language>en-US</dc:language>
  <cp:lastModifiedBy>YlmF</cp:lastModifiedBy>
  <dcterms:modified xsi:type="dcterms:W3CDTF">2011-03-13T22:32:37Z</dcterms:modified>
  <cp:revision>16</cp:revision>
  <dc:subject/>
  <dc:title>幻灯片 1</dc:title>
</cp:coreProperties>
</file>