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28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gif" ContentType="image/gif"/>
  <Override PartName="/ppt/media/image9.png" ContentType="image/png"/>
  <Override PartName="/ppt/media/image5.gif" ContentType="image/gif"/>
  <Override PartName="/ppt/media/image14.jpeg" ContentType="image/jpeg"/>
  <Override PartName="/ppt/media/image11.jpeg" ContentType="image/jpeg"/>
  <Override PartName="/ppt/media/image27.wmf" ContentType="image/x-wmf"/>
  <Override PartName="/ppt/media/image16.jpeg" ContentType="image/jpeg"/>
  <Override PartName="/ppt/media/image26.png" ContentType="image/png"/>
  <Override PartName="/ppt/media/image24.png" ContentType="image/png"/>
  <Override PartName="/ppt/media/image21.png" ContentType="image/png"/>
  <Override PartName="/ppt/media/image19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30E-5DE1-4896-A1D9-285069FC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A6C-0213-4B49-ADA8-7AC4380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DA3-0C59-4258-A08E-9EBEACEE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F09-5213-4A2E-BB13-96946124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916-B70A-4CDC-AA3E-14CBB64D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A0A-61CA-4EF4-A07F-C181670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229-228C-4E98-B0CB-20E3C083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249-457D-49DE-A5EB-B42265A8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768-AE28-4872-9A96-1056B04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288-E973-4957-9BE1-A601FAA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EF1-8EAB-446F-B870-5220C1E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0AA-A6CE-42BD-86F6-EB96665B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C1FF-6B8F-4DCB-8444-9D1440B97F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aike.baidu.com/view/253345.htm" TargetMode="Externa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5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9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5000" y="1844640"/>
            <a:ext cx="476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1844640"/>
            <a:ext cx="4762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4005360"/>
            <a:ext cx="13618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38480" y="20019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1240" y="117360"/>
            <a:ext cx="903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李白解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把中国古典文学的世界比成浩瀚的苍穹，那么李白就是其中的最璀璨的一颗巨星；如果把中国古典诗歌比成巍峨的山峦，那么李白就是诗歌群峰中不可逾越的珠穆朗玛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潮平两岸阔，风正一帆悬”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隶书"/>
              </a:rPr>
              <a:t>潮水涨满，两岸之间水面宽阔，顺风行船恰好把帆儿高悬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盛唐气象的宏阔、豪迈、自信化为生命的汁液，构建了李白的骨架，哺育了李白的血肉，盛唐的气象的魅力集中在李白的身上四溢充盈，喷薄而出！可谓“天精地气，一时凑泊；大千造化，集于一身”。李白舌灿莲花，笔挟风云，简直就是才气、自信、豪迈、飘逸的代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38480" y="20019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240" y="117360"/>
            <a:ext cx="90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他冲天而起，破空而出，如芙蓉初发，清新自然；似龙泉出鞘，锋芒毕露！他心雄万夫，平交王侯；他桀骜不驯，睥睨天下。李白是盛唐气象孕育出来的最完美的骄子。他是踵地摩天、扶摇直上的大鹏，是横戈跃马、左冲右突的侠士，是飘荡卷舒、异彩纷呈的云霞，是皎洁明华、丰润光鲜的朗月，是猎猎酒旗潇洒傲岸的微笑。李白身上涌动着一种雷霆万钧的气势，彰显着一种涵盖万有的博大，飘散着一种鹤立鸡群的风神！他是唐诗的最高峰巅，他是个体人格的最高代表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38480" y="20019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1240" y="117360"/>
            <a:ext cx="903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言李白无古双，至今采石生辉光”！他是太白金星降凡，他是青莲居士临世。他集神仙、剑客、游侠、酒圣、诗人于一身，览诸子百家经籍，有超脱尘俗思想，具建功立业抱负，欲为鲁仲连，心仪谢安石，可谓“气吞一代，目无千古”。他的血液里流淌着湖人的放荡不羁的血液，他的体内激扬着激情自由的热血。自由是李白诗歌的精神内核，是其生命最原始的冲动！自由，形成一种性格；狂傲，构成一种火焰；飘逸，凝成一种飞动。三者合一，构成李白诗天风海雨般的气势。李白是历史上任何诗人都不可比拟的，“屈子何悴，宋玉何悲，贾生何戚，相如何瘦”！他抒真情，见其人格之俊爽；写激情，见其愤世之不平；表柔情，见其心灵之善美；字里行间燃烧着电一般的生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38480" y="20019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240" y="117360"/>
            <a:ext cx="9032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读李白的诗，你的感觉是力量和气势，那惊涛拍岸，长河奔流，飞瀑直下；是香象渡河，金翅劈海，骐骥驰野；是笔走龙蛇，语惊鬼神，口吐锦绣。无论是“气雄高畅”的歌行，还是“气势张皇”的七古，也无论是“气象雄逸”的五律，还是“气体高妙”的五绝，“气概挥斥”的乐府，李白都是信手拈来，独占鳌头，另标高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能诗能剑亦能酒，李白风采照千秋。他列竹溪六逸，属饮中八仙。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隶书"/>
              </a:rPr>
              <a:t>指唐朝嗜酒的八位学者名人，亦称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/>
              </a:rPr>
              <a:t>酒中八仙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隶书"/>
              </a:rPr>
              <a:t>或醉八仙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宇宙的启悟，酒神的鼓舞，神仙的飘拂，把他的生命意识推到，了极致，也把他的生命价值提升到了极致。天道自然，豪放不拘，飘逸不群，就是李白的诗风，也是李白的人格，更是李白的精神，李白的神韵！李白的诗纯属天籁，无迹可求，臻于化境。读万卷书，行万里路，极大地拓展了他的胸襟，更壮大了他的抱负，还平添了他作诗的豪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487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此诗系太白恃酒逞才使气之作。它乎没有什么章法，也不暇安排，完全是凭一时之感情驱使，随气所之，气出而言随，气盛而言盛，气变而言变。严羽评此诗云：“一往豪情，使人不能句字赏摘。盖他人作诗用笔想，太白用胸口一喷即是，此其所长。”任情使气，是这首诗的基本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333360"/>
            <a:ext cx="236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字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500280"/>
            <a:ext cx="914400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      樽     烹      岑       馔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裘     沽     恣      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565360"/>
            <a:ext cx="1513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i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2565360"/>
            <a:ext cx="1224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1512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ē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2565360"/>
            <a:ext cx="1728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05440" y="2565360"/>
            <a:ext cx="23385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hu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581360"/>
            <a:ext cx="1152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í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581360"/>
            <a:ext cx="1295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7080" y="47260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zì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21440" y="47260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uè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5280" cy="35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11822" t="0" r="0" b="0"/>
          <a:stretch/>
        </p:blipFill>
        <p:spPr>
          <a:xfrm>
            <a:off x="6084720" y="0"/>
            <a:ext cx="30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3021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你没看见吗？黄河之水是由天上而来。波涛滚滚奔向东海，永不回头。你没看见吗？可悲的是高堂明镜照见了白发，早晨如青丝般乌黑，傍晚白得如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0" y="225360"/>
            <a:ext cx="46814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君不见黄河之水天上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奔流到海不复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君不见高堂明镜悲白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朝如青丝暮成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360" y="1484280"/>
            <a:ext cx="91440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人生得意时，要尽情地寻欢作乐，别让金杯玉露，空对天上明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天地造就我的才干，必有它的用处，即使千金耗尽，还会重新再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Unicode MS"/>
                <a:ea typeface="黑体"/>
              </a:rPr>
              <a:t>烹羊宰牛，且图眼前欢乐，应该痛痛快快一口气喝它三百杯</a:t>
            </a: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4800" y="189000"/>
            <a:ext cx="53013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生得意须尽欢，莫使金樽空对月。天生我材必有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千金散尽还复来。烹羊宰牛且为乐，会须一饮三百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595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岑勋先生呵，丹邱先生呵，快快进酒吧，杯儿不要停！让我为你们唱一曲，请你们侧耳仔细听：钟鸣鼓响饮食如玉，何足珍贵？我只愿长醉享乐，不愿醒来受罪！古来圣贤，生活恐怕都寂寞，世上唯有酒徒，他们却芳名永驻。古时陈王曹植曾在平乐观宴饮寻欢，斗酒十千不嫌贵，任性地享乐一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602800" y="0"/>
            <a:ext cx="5677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岑夫子，丹丘生，将进酒，杯莫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与君歌一曲，请君为我倾耳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钟鼓馔玉不足贵，但愿长醉不复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古来圣贤皆寂寞，惟有饮者留其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陈王昔时宴平乐，斗酒十千恣欢谑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7168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Unicode MS"/>
                <a:ea typeface="黑体"/>
              </a:rPr>
              <a:t>主人呵，为何说我少银钱？直接沽取醇酒，咱对饮个醉意绵绵，这一匹名贵的五花马，这一件价值千金的皮裘，叫孩儿们拿去换美酒吧，我与你喝个大醉，同销万古长愁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22400"/>
            <a:ext cx="9372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主人何为言少钱，径须沽取对君酌。五花马，千金裘，呼儿将出换美酒，与尔同销万古愁。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81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-530640"/>
            <a:ext cx="32004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                   </a:t>
            </a:r>
            <a:r>
              <a:rPr b="1" lang="zh-CN" sz="4400" spc="-1" strike="noStrike">
                <a:solidFill>
                  <a:srgbClr val="ccccff"/>
                </a:solidFill>
                <a:latin typeface="Times New Roman"/>
              </a:rPr>
              <a:t>李白与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79640" y="9079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李白斗酒诗百篇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长安市上酒家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天子呼来不上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自称臣是酒中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           ——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杜甫《饮中八仙歌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 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金樽清酒斗十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玉盘珍馐值万钱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停杯投箸不能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拔剑四顾心茫然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隶书"/>
                <a:ea typeface="隶书"/>
              </a:rPr>
              <a:t>—— 李白《行路难 》 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838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12682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8305920" y="6400800"/>
            <a:ext cx="533160" cy="228600"/>
          </a:xfrm>
          <a:custGeom>
            <a:avLst/>
            <a:gdLst>
              <a:gd name="textAreaLeft" fmla="*/ 14040 w 533160"/>
              <a:gd name="textAreaRight" fmla="*/ 519120 w 5331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82" y="1350"/>
                </a:lnTo>
                <a:lnTo>
                  <a:pt x="1350" y="135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82" y="20250"/>
                </a:lnTo>
                <a:lnTo>
                  <a:pt x="48982" y="135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982" y="2025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0332" h="21600">
                <a:moveTo>
                  <a:pt x="18122" y="10800"/>
                </a:moveTo>
                <a:lnTo>
                  <a:pt x="32210" y="3756"/>
                </a:lnTo>
                <a:lnTo>
                  <a:pt x="32210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2789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此诗咏的是饮酒，是一首名符其实的劝酒歌。诗的首尾相应，中间虽起伏跌宕，但句句与饮酒销愁有关。起首二句，说黄河如海一去不归，高堂白发难转青丝，是说时间不能倒转，青春小鸟一去不回来，一愁也；既然青春难再，不纵酒行欢更待何时？于是引起了举杯销愁愁更愁纵酒行乐的主题。“天生我材必有用”，本是自信的豪语，但实际上是怀才不遇，有才不用，二愁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千金散尽”本应“还复来”，但如今本应复来的“千金”终始未来，且连饮酒还要用“千金裘”和“五花马”来换，三愁也；自古“圣贤”本应流芳百世，彪炳史册，但如今却“皆寂寞”，而让那些无所事事醉生梦死的饮者“留其名”，世事之颠倒如此，四愁也；此四愁皆千古之愁，“何以解忧，唯有杜康”啊！于是，诗的主题就是干杯，干杯，而且还要一连干它三百杯！此诗忧愤深广，又豪情四溢，虽说的是饮酒，其深怀却在忧世。可以说是酒诗中的奇葩，一朵在酒文化中生出的旷世奇花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13000"/>
            <a:ext cx="89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将进酒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感情奔放，气势雄浑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曲折低回，跌宕起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请你找出诗中带有情感色彩的字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24000" y="6137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rcRect l="11812" t="21745" r="46170" b="14076"/>
          <a:stretch/>
        </p:blipFill>
        <p:spPr>
          <a:xfrm>
            <a:off x="6227640" y="3500280"/>
            <a:ext cx="29718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1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4920" y="350028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3462" t="52539" r="11073" b="12357"/>
          <a:stretch/>
        </p:blipFill>
        <p:spPr>
          <a:xfrm>
            <a:off x="6948360" y="5505480"/>
            <a:ext cx="2195640" cy="1352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0560" y="1844640"/>
            <a:ext cx="700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君不见黄河之水天上来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奔流到海不复回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君不见高堂明镜悲白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朝如青丝暮成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39240" y="1700280"/>
            <a:ext cx="10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2720" y="2492280"/>
            <a:ext cx="0" cy="584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3306600"/>
            <a:ext cx="110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15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4920" y="1773360"/>
            <a:ext cx="64620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773360"/>
            <a:ext cx="982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生得意须尽欢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莫使金樽空对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天生我材必有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千金散尽还复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烹羊宰牛且为乐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会须一饮三百杯。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岑夫子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丹丘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将进酒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杯莫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与君歌一曲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,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请君为我倾耳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2000" y="170028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52000" y="3284640"/>
            <a:ext cx="9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07320" y="2481120"/>
            <a:ext cx="0" cy="5860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50160" y="41385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3560" y="1730520"/>
            <a:ext cx="11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150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4920" y="2201760"/>
            <a:ext cx="649440" cy="650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720" y="1549440"/>
            <a:ext cx="68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钟鼓馔玉不足贵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但愿长醉不愿醒。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古来圣贤皆寂寞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惟有饮者留其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陈王昔时宴平乐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斗酒十千恣欢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052640"/>
            <a:ext cx="13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27960" y="26528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27960" y="4321080"/>
            <a:ext cx="14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34320" y="183348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77160" y="349092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05600" y="517680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440" y="2924280"/>
            <a:ext cx="45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1480" y="2781360"/>
            <a:ext cx="789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怀才不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1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9360" y="4797360"/>
            <a:ext cx="6458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54840" y="289080"/>
            <a:ext cx="19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情感脉络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3280" y="176544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主人何为言少钱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径须沽取对君酌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五花马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千金裘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呼儿将出换美酒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与尔同销万古愁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02280" y="105264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276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500280"/>
            <a:ext cx="8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4941720"/>
            <a:ext cx="88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6920" y="17733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15120" y="30369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24840" y="421164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720" y="5516640"/>
            <a:ext cx="496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5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00720" y="4807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08360" y="155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00000" y="4940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8423280" y="3284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0800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77760"/>
            <a:ext cx="23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情感脉络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rcRect l="28899" t="23807" r="13956" b="10188"/>
          <a:stretch/>
        </p:blipFill>
        <p:spPr>
          <a:xfrm rot="20968200">
            <a:off x="0" y="1701720"/>
            <a:ext cx="9178920" cy="4533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09800" y="41562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46520" y="10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0400" y="407664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21760" y="2565360"/>
            <a:ext cx="11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0" y="-3492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73880" y="71280"/>
            <a:ext cx="96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(7-6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-106200" y="260280"/>
            <a:ext cx="3934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2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3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15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归纳小结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1125360"/>
            <a:ext cx="134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56360" y="2565360"/>
            <a:ext cx="134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40053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5591160"/>
            <a:ext cx="17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89800" y="212256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61080" y="3564000"/>
            <a:ext cx="0" cy="58572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5249880"/>
            <a:ext cx="0" cy="557280"/>
          </a:xfrm>
          <a:prstGeom prst="line">
            <a:avLst/>
          </a:prstGeom>
          <a:ln w="57240">
            <a:solidFill>
              <a:srgbClr val="ff8e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48428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君不见高堂明镜悲白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7080" y="272088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人生得意须尽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98560" y="57405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与尔同销万古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1497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琥珀"/>
                <a:ea typeface="华文琥珀"/>
              </a:rPr>
              <a:t>但愿长醉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57340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738036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7451640" y="2852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7524720" y="414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752472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9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150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3357720"/>
            <a:ext cx="98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钟鼓馔玉不足贵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但愿长醉不愿醒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95920" y="46530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表现了诗人对权贵的鄙弃和蔑视的态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154152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你认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将进酒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这首诗的全篇主旨是哪一句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6560" y="15415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5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归纳小结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15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98100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试将“钟鼓馔玉不足贵，但愿长醉不愿醒”跟“安能摧眉折腰事权贵，使我不得开心颜”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梦游天姥吟留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）做一比较，说说二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表达的感情和表现手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有什么不同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932360" y="3703680"/>
            <a:ext cx="4211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1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2209680"/>
            <a:ext cx="896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体会诗人强烈的感情。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重难点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在诵读、品味的过程中</a:t>
            </a: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了解李白诗歌的浪漫主义特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19700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9440" y="30312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4200" spc="-1" strike="noStrike">
                <a:solidFill>
                  <a:srgbClr val="ffcc00"/>
                </a:solidFill>
                <a:latin typeface="华文新魏"/>
                <a:ea typeface="华文新魏"/>
              </a:rPr>
              <a:t>教学目标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1" name=""/>
          <p:cNvSpPr/>
          <p:nvPr/>
        </p:nvSpPr>
        <p:spPr>
          <a:xfrm>
            <a:off x="-420840" y="1557360"/>
            <a:ext cx="266076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钟鼓馔玉不足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但愿长醉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9240" y="1557360"/>
            <a:ext cx="21121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安能摧眉折腰事权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使我不得开心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4160" y="1327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愤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95440" y="2300400"/>
            <a:ext cx="729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昂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88040" y="2309760"/>
            <a:ext cx="127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低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96360" y="479736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6200" y="1700280"/>
            <a:ext cx="0" cy="165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36680" y="4581360"/>
            <a:ext cx="72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委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95440" y="4581360"/>
            <a:ext cx="729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直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8680" y="3367080"/>
            <a:ext cx="729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不愿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62600" y="1566720"/>
            <a:ext cx="7290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安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076720" y="1403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059280" y="3789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076720" y="3736800"/>
            <a:ext cx="792360" cy="721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7594560" y="836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2920" y="17002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5280" y="170028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1500" autoRev="1" fill="hold"/>
                                        <p:tgtEl>
                                          <p:spTgt spid="2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1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4367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杜甫曾赞扬李白：“李白斗酒诗百篇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安市上酒家眠。天子呼来不上船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称臣是酒中仙。”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中八仙歌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进酒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哪些诗句说明李白无愧于“酒中仙”这个称号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1500" autoRev="1" fill="hold"/>
                                        <p:tgtEl>
                                          <p:spTgt spid="2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03280" y="1662120"/>
            <a:ext cx="83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生得意须尽欢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莫使金樽空对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羊宰牛且为乐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会须一饮三百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进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杯莫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愿长醉不愿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径须沽取对君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花马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千金裘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呼儿将出换美酒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尔同销万古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0" y="29242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0" y="35002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0" y="414972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0" y="4724280"/>
            <a:ext cx="539640" cy="720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0" y="5300640"/>
            <a:ext cx="539640" cy="720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23160" y="289080"/>
            <a:ext cx="17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扩展练习</a:t>
            </a:r>
            <a:r>
              <a:rPr b="0" lang="en-US" sz="3000" spc="-1" strike="noStrike">
                <a:solidFill>
                  <a:srgbClr val="ffcc00"/>
                </a:solidFill>
                <a:latin typeface="华文新魏"/>
                <a:ea typeface="华文新魏"/>
              </a:rPr>
              <a:t>2-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9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150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rcRect l="9730" t="0" r="1168" b="0"/>
          <a:stretch/>
        </p:blipFill>
        <p:spPr>
          <a:xfrm>
            <a:off x="0" y="3141720"/>
            <a:ext cx="9144000" cy="3744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47360" y="857160"/>
            <a:ext cx="2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1413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谪仙人李白纵酒高歌 ：“但愿长醉不愿醒”，为何他才高八斗却嗜酒如命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李白借酒抒万丈豪情，李白用酒写万古柔情。李白因酒越发洒脱飘逸，酒因李白更加酣畅淋漓！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431120" y="6480"/>
            <a:ext cx="167796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79000" y="549360"/>
            <a:ext cx="576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1116000" cy="925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258920" y="471600"/>
            <a:ext cx="180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latin typeface="华文行楷"/>
              </a:rPr>
              <a:t>拓展思考：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9080" y="44280"/>
            <a:ext cx="39528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1500" autoRev="1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1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43020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187280" y="442800"/>
            <a:ext cx="820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很想走近李白，走近他飞扬的人生，从他的诗里，从他的酒中，但李白是那样遥不可及，因为他是仙，酒仙加诗仙。李白所创造的岂止半个盛唐？李白也许天生就是为喝酒为写诗而生的，没有李白中国的诗坛何以灿烂，没有李白中国的酒哪有诗情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是酒壮了他的豪情，是诗添了他的浪漫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“天若不爱酒，酒星不在天。地若不爱酒，地应无黄泉”、“百年三万六千日，一日须倾三百杯”、“天子呼来不上船”、“天生我材必有用，千金散尽还复来”、“安能摧眉折腰事权贵，使我不得开心颜。”、“古来圣贤皆寂寞，惟有饮者留其名。”这是何等自在，！“君爱身后名，我爱眼前酒。饮酒眼前乐，虚名何处有？”“唯愿当歌对酒时，月光长照金樽里”、“人生难得须尽欢，莫使金樽空对月。”这是何等的洒脱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900000" y="0"/>
            <a:ext cx="39528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8429760" y="629604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611280" y="115920"/>
            <a:ext cx="14396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布置作业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83808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9079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酒就是胡闹的理由，胡闹就是梦幻的再现。酒是凡人和上帝之间的使者，它提升它愿意提升的凡人。天堂也许是空荡荡，然而天堂毕竟还是天堂，幻景漂亮得美不胜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                            </a:t>
            </a: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池莉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喝酒及其他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4005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该如何看待李白嗜酒如命的放浪行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395280" cy="3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1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研究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从下列两句诗中，你看出了诗人思想上的什么特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900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天生我材必有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但愿长醉不愿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297180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3352680"/>
            <a:ext cx="161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矛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探究艺术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539640" y="1125360"/>
            <a:ext cx="921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君不见，黄河之水天上来，奔流到海不复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君不见，高堂明镜悲白发，朝如青丝暮成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2924280"/>
            <a:ext cx="325440" cy="2519280"/>
          </a:xfrm>
          <a:custGeom>
            <a:avLst/>
            <a:gdLst>
              <a:gd name="textAreaLeft" fmla="*/ 0 w 325440"/>
              <a:gd name="textAreaRight" fmla="*/ 117360 w 325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85080" y="981000"/>
            <a:ext cx="1768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比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反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2637000"/>
            <a:ext cx="81532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饮三百杯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斗酒千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万古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黄河之水天上来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朝如青丝暮成雪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3789360"/>
            <a:ext cx="893448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豪放的性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豪放飘逸的诗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3068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夸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5805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句式错落有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6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1960" y="115920"/>
            <a:ext cx="31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cc00"/>
                </a:solidFill>
                <a:latin typeface="华文新魏"/>
                <a:ea typeface="华文新魏"/>
              </a:rPr>
              <a:t>作者简介：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0880" y="836640"/>
            <a:ext cx="2535480" cy="1440"/>
          </a:xfrm>
          <a:prstGeom prst="line">
            <a:avLst/>
          </a:prstGeom>
          <a:ln w="93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37080" y="2660760"/>
            <a:ext cx="49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李白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(701—762)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字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太白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号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青莲居士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素有</a:t>
            </a:r>
            <a:r>
              <a:rPr b="1" lang="zh-CN" sz="4800" spc="-1" strike="noStrike" u="sng">
                <a:solidFill>
                  <a:srgbClr val="ffffff"/>
                </a:solidFill>
                <a:uFillTx/>
                <a:latin typeface="Times New Roman"/>
                <a:ea typeface="隶书"/>
              </a:rPr>
              <a:t>诗仙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之称。李白是继屈原之后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我国古代最伟大的浪漫主义诗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15800" y="1268280"/>
            <a:ext cx="2716200" cy="518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981000"/>
            <a:ext cx="4343400" cy="0"/>
          </a:xfrm>
          <a:prstGeom prst="line">
            <a:avLst/>
          </a:prstGeom>
          <a:ln w="38160">
            <a:solidFill>
              <a:srgbClr val="64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308720" y="189000"/>
            <a:ext cx="16779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5d5ff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华文行楷"/>
              </a:rPr>
              <a:t>将进酒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5d5ff"/>
                  </a:gs>
                  <a:gs pos="100000">
                    <a:srgbClr val="fefefe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79000" y="765000"/>
            <a:ext cx="57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李白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9080" y="387360"/>
            <a:ext cx="395280" cy="35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1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0"/>
            <a:ext cx="5616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97000"/>
            <a:ext cx="644364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qiāng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请、劝）进酒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即“劝酒歌”。此诗约作于天宝十一载（</a:t>
            </a:r>
            <a:r>
              <a:rPr b="1" lang="en-US" sz="3200" spc="-1" strike="noStrike">
                <a:solidFill>
                  <a:srgbClr val="ff66ff"/>
                </a:solidFill>
                <a:latin typeface="黑体"/>
                <a:ea typeface="黑体"/>
              </a:rPr>
              <a:t>752</a:t>
            </a: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，距诗人被唐玄宗“赐金放还”已达八年之久。他当时与友人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岑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到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元丹丘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家里做客，三人登高饮宴。人生快事莫若置酒会友，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正值作者怀才不遇之际，于是将满腔的不合时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借酒兴诗情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来了一次淋漓尽致的抒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335640" y="0"/>
            <a:ext cx="2808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意象，作者心中的图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</a:rPr>
              <a:t>意象，就是表意之象，即诗歌中熔铸了作者主观感情的客观物象，是作者内在的思想情感与外在的客观物象的统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95280" y="914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990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90080" y="586728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6095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914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990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90080" y="586728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53280" y="6095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914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990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90080" y="586728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6095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肖平</dc:creator>
  <dc:description/>
  <dc:language>en-US</dc:language>
  <cp:lastModifiedBy>微软用户</cp:lastModifiedBy>
  <cp:lastPrinted>1899-12-30T00:00:00Z</cp:lastPrinted>
  <dcterms:modified xsi:type="dcterms:W3CDTF">2013-04-10T04:00:05Z</dcterms:modified>
  <cp:revision>7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