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91E-245A-4EFA-99FE-D21047A04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F99-E639-4C8C-B265-5716FA11B0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9FB-2795-4FE8-90E8-4E736097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922-1B07-4815-B5BE-7436DCD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1AB-2ACB-4CED-AE3F-658D906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952-97F4-472A-9B60-E2F8542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1CE-7912-4BC5-BDB1-12EFDD44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D1D-1348-47C0-9816-A141AED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847-F0B3-4B2E-8C6B-95539B78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A83-A7E6-453D-B8CC-D34CCE3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95A-C30F-4ACD-87F6-7557017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A53-65F7-48B7-BE06-A733B9E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AE8-626F-4C82-A996-F3CD104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1A1-E258-425B-BAAA-C49F631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B85-18B1-4B6A-AD02-A24FC54811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5724360" y="5661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------</a:t>
            </a:r>
            <a:r>
              <a:rPr b="0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李白</a:t>
            </a: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195640" y="-171360"/>
            <a:ext cx="7200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说说这幅图上画的是什么？看到这幅图，你会想到什么？</a:t>
            </a:r>
            <a:endParaRPr b="1" lang="en-US" sz="32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p:transition spd="med" advTm="2000">
    <p:circl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476360" y="3044160"/>
            <a:ext cx="70563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李白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，唐代著名大诗人。一生中写下了上千首诗歌，有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诗圣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”之称。是最伟大的浪漫主义诗人。</a:t>
            </a: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71640" y="765000"/>
            <a:ext cx="275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作者简介</a:t>
            </a:r>
            <a:endParaRPr b="1" lang="en-US" sz="40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2060640"/>
            <a:ext cx="9612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请大家思考</a:t>
            </a: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静夜思</a:t>
            </a:r>
            <a:r>
              <a:rPr b="1" lang="en-US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中的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思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”是什么意思？</a:t>
            </a:r>
            <a:endParaRPr b="1" lang="en-US" sz="32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说说诗人在什么时候，思念什么？</a:t>
            </a:r>
            <a:endParaRPr b="1" lang="en-US" sz="32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539640" y="333360"/>
            <a:ext cx="2808360" cy="8650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800000" cy="719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410680" y="4221000"/>
            <a:ext cx="73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340000" y="4365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夜晚    思念故乡</a:t>
            </a:r>
            <a:endParaRPr b="1" lang="en-US" sz="36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1174320" y="333360"/>
            <a:ext cx="7349400" cy="617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            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jìng yè   sī</a:t>
            </a:r>
            <a:endParaRPr b="1" lang="en-US" sz="2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  <a:ea typeface="BatangChe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  <a:ea typeface="BatangChe"/>
              </a:rPr>
              <a:t>静 夜 思</a:t>
            </a:r>
            <a:endParaRPr b="1" lang="en-US" sz="40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Verdana"/>
                <a:ea typeface="BatangChe"/>
              </a:rPr>
              <a:t>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Verdana"/>
                <a:ea typeface="BatangChe"/>
              </a:rPr>
              <a:t>李白</a:t>
            </a:r>
            <a:endParaRPr b="1" lang="en-US" sz="32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BatangChe"/>
              </a:rPr>
              <a:t>chuáng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qián 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míng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yuè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guāng</a:t>
            </a:r>
            <a:endParaRPr b="1" lang="en-US" sz="2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Verdana"/>
                <a:ea typeface="BatangChe"/>
              </a:rPr>
              <a:t>床  前  明  月  光，</a:t>
            </a:r>
            <a:endParaRPr b="1" lang="en-US" sz="4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BatangCh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yí      shì     dì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shàng shuāng</a:t>
            </a:r>
            <a:endParaRPr b="1" lang="en-US" sz="2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Verdana"/>
                <a:ea typeface="BatangChe"/>
              </a:rPr>
              <a:t>疑  是  地  上  霜。</a:t>
            </a:r>
            <a:endParaRPr b="1" lang="en-US" sz="4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BatangCh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jǔ      tóu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wàng  míng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yuè</a:t>
            </a:r>
            <a:endParaRPr b="1" lang="en-US" sz="2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Verdana"/>
                <a:ea typeface="BatangChe"/>
              </a:rPr>
              <a:t>举  头  望  明  月，</a:t>
            </a:r>
            <a:endParaRPr b="1" lang="en-US" sz="4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Verdana"/>
                <a:ea typeface="BatangCh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dī     tóu     sī     gù 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  <a:ea typeface="BatangChe"/>
              </a:rPr>
              <a:t>xiāng</a:t>
            </a:r>
            <a:endParaRPr b="1" lang="en-US" sz="2400" spc="-1" strike="noStrike">
              <a:solidFill>
                <a:srgbClr val="06561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  <a:ea typeface="BatangChe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Verdana"/>
                <a:ea typeface="BatangChe"/>
              </a:rPr>
              <a:t>低  头  思  故  乡。</a:t>
            </a:r>
            <a:endParaRPr b="1" lang="en-US" sz="4400" spc="-1" strike="noStrike">
              <a:solidFill>
                <a:srgbClr val="06561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Sky123.Org</cp:lastModifiedBy>
  <dcterms:modified xsi:type="dcterms:W3CDTF">2015-07-14T07:15:58Z</dcterms:modified>
  <cp:revision>67</cp:revision>
  <dc:subject/>
  <dc:title>幻灯片 1</dc:title>
</cp:coreProperties>
</file>