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27F-55E8-42D7-A749-8DF2D1EB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360" y="379800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E4B5-7CE3-46E2-A2AC-6735A76F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420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827-0449-4C45-834E-5E5C5605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212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024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36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212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024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AB3-4CF5-4EB5-B59C-7E62A0A1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DD2E-047B-4084-8C64-152DA789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B00B-A91D-42B2-BF88-D959488A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F770-3BD0-4A88-A8E7-756678A2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DA32-C802-47A7-A5E0-4A75098D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9CA2-8428-4D35-8CA9-0054F1F5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4360" y="214200"/>
            <a:ext cx="82155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8439-E446-46A3-BBC0-8A927C4A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B308-D7D3-4E23-8D84-6CD8DC0B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C11-58D7-4E75-A012-34F786C1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420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53E8-CAB1-4A16-9494-D666BEEA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1A7A-53DE-44C5-862A-68D36044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360" y="379800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90FE-6844-4630-B7FD-330A6A1C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420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2909-3377-458B-89D2-55A180D7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212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024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436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212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024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6563-66F2-4B3E-8F3C-09427ADE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83F-6FF0-4C91-9A39-22A65A0A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854-88B8-4392-8E45-1DE9ECCC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8662-42AF-43FF-BFAD-FEB3F16B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4360" y="214200"/>
            <a:ext cx="82155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4490-6AA0-4EBE-881F-5EE7FD1E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FB2-3327-464B-8140-13F91F7D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420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CBE-D3B8-4BB5-AA79-1355FC1D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F3C-5203-4B71-964C-46F012F9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6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2820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156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156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029040" y="6463800"/>
            <a:ext cx="3085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56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5647"/>
                </a:solidFill>
                <a:latin typeface="Times New Roman"/>
              </a:rPr>
              <a:t>&lt;</a:t>
            </a:r>
            <a:r>
              <a:rPr b="0" lang="zh-CN" sz="1200" spc="-1" strike="noStrike">
                <a:solidFill>
                  <a:srgbClr val="615647"/>
                </a:solidFill>
                <a:latin typeface="Times New Roman"/>
              </a:rPr>
              <a:t>页脚</a:t>
            </a:r>
            <a:r>
              <a:rPr b="0" lang="en-US" sz="1200" spc="-1" strike="noStrike">
                <a:solidFill>
                  <a:srgbClr val="615647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457680" y="6451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156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6C4D-E4EA-47AB-ACAC-C1D4EBC0ABBF}" type="slidenum">
              <a:rPr b="0" lang="zh-CN" sz="1200" spc="-1" strike="noStrike">
                <a:solidFill>
                  <a:srgbClr val="6156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ffe89f"/>
              </a:buClr>
              <a:buSzPct val="50000"/>
              <a:buFont typeface="Wingdings" charset="2"/>
              <a:buChar char="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625f42"/>
                </a:solidFill>
                <a:latin typeface="仿宋"/>
              </a:rPr>
              <a:t>Click to edit the outline text format</a:t>
            </a: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b8b697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625f42"/>
                </a:solidFill>
                <a:latin typeface="仿宋"/>
              </a:rPr>
              <a:t>Second Outline Level</a:t>
            </a: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625f42"/>
                </a:solidFill>
                <a:latin typeface="仿宋"/>
              </a:rPr>
              <a:t>Third Outline Level</a:t>
            </a: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625f42"/>
                </a:solidFill>
                <a:latin typeface="仿宋"/>
              </a:rPr>
              <a:t>Fourth Outline Level</a:t>
            </a: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625f42"/>
                </a:solidFill>
                <a:latin typeface="仿宋"/>
              </a:rPr>
              <a:t>Fifth Outline Level</a:t>
            </a: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625f42"/>
                </a:solidFill>
                <a:latin typeface="仿宋"/>
              </a:rPr>
              <a:t>Sixth Outline Level</a:t>
            </a: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625f42"/>
                </a:solidFill>
                <a:latin typeface="仿宋"/>
              </a:rPr>
              <a:t>Seventh Outline Level</a:t>
            </a: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6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4240" cy="6888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156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6156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156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5647"/>
                </a:solidFill>
                <a:latin typeface="Times New Roman"/>
              </a:rPr>
              <a:t>&lt;</a:t>
            </a:r>
            <a:r>
              <a:rPr b="0" lang="zh-CN" sz="1200" spc="-1" strike="noStrike">
                <a:solidFill>
                  <a:srgbClr val="615647"/>
                </a:solidFill>
                <a:latin typeface="Times New Roman"/>
              </a:rPr>
              <a:t>页脚</a:t>
            </a:r>
            <a:r>
              <a:rPr b="0" lang="en-US" sz="1200" spc="-1" strike="noStrike">
                <a:solidFill>
                  <a:srgbClr val="615647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156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877B-2999-42F2-9DD1-64E5331A96E3}" type="slidenum">
              <a:rPr b="0" lang="zh-CN" sz="1200" spc="-1" strike="noStrike">
                <a:solidFill>
                  <a:srgbClr val="6156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3479760" y="1177920"/>
            <a:ext cx="5486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  <a:p>
            <a:pPr lvl="1" indent="0" algn="ctr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615647"/>
                </a:solidFill>
                <a:latin typeface="仿宋"/>
              </a:rPr>
              <a:t>Second Outline Level</a:t>
            </a:r>
            <a:endParaRPr b="1" lang="en-US" sz="1600" spc="-1" strike="noStrike">
              <a:solidFill>
                <a:srgbClr val="615647"/>
              </a:solidFill>
              <a:latin typeface="仿宋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5" marL="137160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lvl="6" marL="1371600"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6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79760" y="1177920"/>
            <a:ext cx="5486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467160" y="2133720"/>
            <a:ext cx="5486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ffffff"/>
              </a:solidFill>
              <a:latin typeface="仿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6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625f42"/>
              </a:solidFill>
              <a:latin typeface="仿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52:00Z</dcterms:created>
  <dc:creator>admin</dc:creator>
  <dc:description/>
  <dc:language>en-US</dc:language>
  <cp:lastModifiedBy>adminh</cp:lastModifiedBy>
  <dcterms:modified xsi:type="dcterms:W3CDTF">2015-07-24T07:21:37Z</dcterms:modified>
  <cp:revision>111</cp:revision>
  <dc:subject/>
  <dc:title>fds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80435</vt:lpwstr>
  </property>
  <property fmtid="{D5CDD505-2E9C-101B-9397-08002B2CF9AE}" pid="3" name="name">
    <vt:lpwstr>A000120150716A02PWBG.ppt</vt:lpwstr>
  </property>
</Properties>
</file>