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DE8-23DF-468A-B5EE-36E6F273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EAF-FF65-410E-87D3-F57B3E34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A95-7A21-45C1-8837-101B9FD4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5D7-659D-44C7-9129-6C4CC6B3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1CE-ECE9-4A9B-B83F-717A0AFB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149-9BCD-4C1D-AAAE-B4C18B85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BB4-4F38-40EA-AEE1-99B6298B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86E-7D59-4FAA-ACF1-8BAAEBC4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BE0-44AA-454C-9DC8-55489F24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700-8A3A-4E3D-BC75-B20182BE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E63-0CFE-4E53-A6C7-486DE9D2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F92-9205-4E4E-A58B-63974E5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7C13-F442-4425-A5C5-5C4625A47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35226669173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纯音乐 - 初雪（The  First  Snowflakes）.mp3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1828800" y="3809880"/>
            <a:ext cx="3657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80"/>
                </a:solidFill>
                <a:latin typeface="Arial"/>
                <a:ea typeface="华文彩云"/>
              </a:rPr>
              <a:t>滋补原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冬时节的营养应以增加热能为主。可适当多吃瘦肉、鸡蛋、鱼类、乳类、豆类及富含碳水化合物和脂肪的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冬季在饮食养生方面，中医学认为应少食咸，多吃点苦味的食物，道理是冬季为肾经旺盛之时，而肾主咸，心主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 rot="5400000">
            <a:off x="113760" y="1028520"/>
            <a:ext cx="5562720" cy="4419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注意保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晚上睡觉盖好被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87" name="Picture 6" descr="93d079e0gd141d593f34c&amp;690"/>
          <p:cNvPicPr/>
          <p:nvPr/>
        </p:nvPicPr>
        <p:blipFill>
          <a:blip r:embed="rId2"/>
          <a:stretch/>
        </p:blipFill>
        <p:spPr>
          <a:xfrm>
            <a:off x="5486400" y="2286000"/>
            <a:ext cx="3429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 rot="5400000">
            <a:off x="3733560" y="1523880"/>
            <a:ext cx="6248520" cy="396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防寒保暖，穿棉衣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戴口罩，戴帽子，戴手套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" name="Picture 6" descr="1358575027411_417"/>
          <p:cNvPicPr/>
          <p:nvPr/>
        </p:nvPicPr>
        <p:blipFill>
          <a:blip r:embed="rId2"/>
          <a:stretch/>
        </p:blipFill>
        <p:spPr>
          <a:xfrm>
            <a:off x="609480" y="762120"/>
            <a:ext cx="3505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 rot="5400000">
            <a:off x="114120" y="1485720"/>
            <a:ext cx="4876920" cy="4038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阳光灿烂海南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哈尔滨冰雪风情之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93" name="Picture 6" descr="LOCAL201301151709000012283380503"/>
          <p:cNvPicPr/>
          <p:nvPr/>
        </p:nvPicPr>
        <p:blipFill>
          <a:blip r:embed="rId2"/>
          <a:stretch/>
        </p:blipFill>
        <p:spPr>
          <a:xfrm>
            <a:off x="4876920" y="380880"/>
            <a:ext cx="366372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103810usccu78d8lfucdzv"/>
          <p:cNvPicPr/>
          <p:nvPr/>
        </p:nvPicPr>
        <p:blipFill>
          <a:blip r:embed="rId3"/>
          <a:stretch/>
        </p:blipFill>
        <p:spPr>
          <a:xfrm>
            <a:off x="2133720" y="1523880"/>
            <a:ext cx="584820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 rot="5400000">
            <a:off x="6400800" y="2514600"/>
            <a:ext cx="289584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购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保暖物品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7" name="Picture 6" descr="217e79634be8f03f_0"/>
          <p:cNvPicPr/>
          <p:nvPr/>
        </p:nvPicPr>
        <p:blipFill>
          <a:blip r:embed="rId2"/>
          <a:stretch/>
        </p:blipFill>
        <p:spPr>
          <a:xfrm>
            <a:off x="762120" y="1523880"/>
            <a:ext cx="5333760" cy="3594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39d2284f29317c0dc46fdd6c3524_1200_1200"/>
          <p:cNvPicPr/>
          <p:nvPr/>
        </p:nvPicPr>
        <p:blipFill>
          <a:blip r:embed="rId3"/>
          <a:stretch/>
        </p:blipFill>
        <p:spPr>
          <a:xfrm>
            <a:off x="457200" y="533520"/>
            <a:ext cx="4724280" cy="5486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21-495453856948"/>
          <p:cNvPicPr/>
          <p:nvPr/>
        </p:nvPicPr>
        <p:blipFill>
          <a:blip r:embed="rId4"/>
          <a:stretch/>
        </p:blipFill>
        <p:spPr>
          <a:xfrm>
            <a:off x="1981080" y="3200400"/>
            <a:ext cx="4762800" cy="2981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8dd072f930b0ebaa"/>
          <p:cNvPicPr/>
          <p:nvPr/>
        </p:nvPicPr>
        <p:blipFill>
          <a:blip r:embed="rId5"/>
          <a:stretch/>
        </p:blipFill>
        <p:spPr>
          <a:xfrm>
            <a:off x="838080" y="533520"/>
            <a:ext cx="5800680" cy="5800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5ab5c9ea15ce36d30f0cc8213bf33a87e950b193"/>
          <p:cNvPicPr/>
          <p:nvPr/>
        </p:nvPicPr>
        <p:blipFill>
          <a:blip r:embed="rId6"/>
          <a:stretch/>
        </p:blipFill>
        <p:spPr>
          <a:xfrm>
            <a:off x="838080" y="533520"/>
            <a:ext cx="59058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 rot="5400000">
            <a:off x="1028160" y="2018880"/>
            <a:ext cx="137160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104" name="Picture 6" descr="u=3754695287,2581859857&amp;fm=90&amp;gp=0"/>
          <p:cNvPicPr/>
          <p:nvPr/>
        </p:nvPicPr>
        <p:blipFill>
          <a:blip r:embed="rId2"/>
          <a:stretch/>
        </p:blipFill>
        <p:spPr>
          <a:xfrm>
            <a:off x="3505320" y="914400"/>
            <a:ext cx="4647960" cy="4800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0_121224125527_1"/>
          <p:cNvPicPr/>
          <p:nvPr/>
        </p:nvPicPr>
        <p:blipFill>
          <a:blip r:embed="rId3"/>
          <a:stretch/>
        </p:blipFill>
        <p:spPr>
          <a:xfrm>
            <a:off x="3352680" y="1447920"/>
            <a:ext cx="4762800" cy="333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10_121224125645_1"/>
          <p:cNvPicPr/>
          <p:nvPr/>
        </p:nvPicPr>
        <p:blipFill>
          <a:blip r:embed="rId4"/>
          <a:stretch/>
        </p:blipFill>
        <p:spPr>
          <a:xfrm>
            <a:off x="3733920" y="609480"/>
            <a:ext cx="4343400" cy="5639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10_121224125827_1"/>
          <p:cNvPicPr/>
          <p:nvPr/>
        </p:nvPicPr>
        <p:blipFill>
          <a:blip r:embed="rId5"/>
          <a:stretch/>
        </p:blipFill>
        <p:spPr>
          <a:xfrm>
            <a:off x="2819520" y="1676520"/>
            <a:ext cx="58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509214d395af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5" descr=""/>
          <p:cNvPicPr/>
          <p:nvPr/>
        </p:nvPicPr>
        <p:blipFill>
          <a:blip r:embed="rId2"/>
          <a:stretch/>
        </p:blipFill>
        <p:spPr>
          <a:xfrm>
            <a:off x="109440" y="1444680"/>
            <a:ext cx="89488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447920" y="274320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饭店管理课上，正在和大家分享立冬的故事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Diagram 6"/>
          <p:cNvGrpSpPr/>
          <p:nvPr/>
        </p:nvGrpSpPr>
        <p:grpSpPr>
          <a:xfrm>
            <a:off x="1081080" y="930240"/>
            <a:ext cx="7056360" cy="5063400"/>
            <a:chOff x="1081080" y="930240"/>
            <a:chExt cx="7056360" cy="5063400"/>
          </a:xfrm>
        </p:grpSpPr>
        <p:sp>
          <p:nvSpPr>
            <p:cNvPr id="58" name="_s1028"/>
            <p:cNvSpPr/>
            <p:nvPr/>
          </p:nvSpPr>
          <p:spPr>
            <a:xfrm flipV="1">
              <a:off x="4609440" y="2196360"/>
              <a:ext cx="0" cy="63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29"/>
            <p:cNvSpPr/>
            <p:nvPr/>
          </p:nvSpPr>
          <p:spPr>
            <a:xfrm>
              <a:off x="3628440" y="930240"/>
              <a:ext cx="1961640" cy="126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0"/>
            <p:cNvSpPr/>
            <p:nvPr/>
          </p:nvSpPr>
          <p:spPr>
            <a:xfrm flipV="1">
              <a:off x="5458320" y="2829240"/>
              <a:ext cx="849240" cy="31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1"/>
            <p:cNvSpPr/>
            <p:nvPr/>
          </p:nvSpPr>
          <p:spPr>
            <a:xfrm>
              <a:off x="6175800" y="1879920"/>
              <a:ext cx="1961640" cy="126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5458320" y="3777840"/>
              <a:ext cx="849240" cy="31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3"/>
            <p:cNvSpPr/>
            <p:nvPr/>
          </p:nvSpPr>
          <p:spPr>
            <a:xfrm>
              <a:off x="6175800" y="3777840"/>
              <a:ext cx="1961640" cy="126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4"/>
            <p:cNvSpPr/>
            <p:nvPr/>
          </p:nvSpPr>
          <p:spPr>
            <a:xfrm>
              <a:off x="4609440" y="4094280"/>
              <a:ext cx="0" cy="63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3628440" y="4727520"/>
              <a:ext cx="1961640" cy="126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6"/>
            <p:cNvSpPr/>
            <p:nvPr/>
          </p:nvSpPr>
          <p:spPr>
            <a:xfrm flipH="1">
              <a:off x="2910600" y="3777840"/>
              <a:ext cx="849240" cy="31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1081080" y="3777840"/>
              <a:ext cx="1961640" cy="126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8"/>
            <p:cNvSpPr/>
            <p:nvPr/>
          </p:nvSpPr>
          <p:spPr>
            <a:xfrm flipH="1" flipV="1">
              <a:off x="2910600" y="2827440"/>
              <a:ext cx="849240" cy="31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9"/>
            <p:cNvSpPr/>
            <p:nvPr/>
          </p:nvSpPr>
          <p:spPr>
            <a:xfrm>
              <a:off x="1081080" y="1878120"/>
              <a:ext cx="1961640" cy="126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0"/>
            <p:cNvSpPr/>
            <p:nvPr/>
          </p:nvSpPr>
          <p:spPr>
            <a:xfrm>
              <a:off x="3628440" y="2829600"/>
              <a:ext cx="1961640" cy="126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立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：每年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立冬节气，高空西风急流在亚洲南部地区已完全建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立冬前后，中国大部分地区降水显著减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另外，立冬后空气一般渐趋干燥，土壤含水较少，中国此时开始注重林区的防火工作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286000" y="457200"/>
            <a:ext cx="4800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立冬简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 rot="4969200">
            <a:off x="4114440" y="1828440"/>
            <a:ext cx="4191120" cy="3124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食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立冬食补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滋补原则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6" name="Picture 6" descr="u=4116663663,2819299922&amp;fm=21&amp;gp=0"/>
          <p:cNvPicPr/>
          <p:nvPr/>
        </p:nvPicPr>
        <p:blipFill>
          <a:blip r:embed="rId2"/>
          <a:stretch/>
        </p:blipFill>
        <p:spPr>
          <a:xfrm>
            <a:off x="533520" y="762120"/>
            <a:ext cx="3581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0111030105852202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80"/>
                </a:solidFill>
                <a:latin typeface="Arial"/>
                <a:ea typeface="华文彩云"/>
              </a:rPr>
              <a:t>立冬食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方热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方饺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01300000144878120901060001351"/>
          <p:cNvPicPr/>
          <p:nvPr/>
        </p:nvPicPr>
        <p:blipFill>
          <a:blip r:embed="rId2"/>
          <a:stretch/>
        </p:blipFill>
        <p:spPr>
          <a:xfrm>
            <a:off x="3886200" y="3808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001c25d342ed120454df42"/>
          <p:cNvPicPr/>
          <p:nvPr/>
        </p:nvPicPr>
        <p:blipFill>
          <a:blip r:embed="rId3"/>
          <a:stretch/>
        </p:blipFill>
        <p:spPr>
          <a:xfrm>
            <a:off x="914400" y="3124080"/>
            <a:ext cx="439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3:10:56Z</dcterms:created>
  <dc:creator>m</dc:creator>
  <dc:description/>
  <dc:language>en-US</dc:language>
  <cp:lastModifiedBy>Sky123.Org</cp:lastModifiedBy>
  <dcterms:modified xsi:type="dcterms:W3CDTF">2015-08-07T09:12:21Z</dcterms:modified>
  <cp:revision>17</cp:revision>
  <dc:subject/>
  <dc:title>幻灯片 1</dc:title>
</cp:coreProperties>
</file>