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647-8DE8-4A5B-BFB5-D853EE25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0A3-F557-47A8-9EE9-FCD0D15C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438-3BE2-423E-8E1E-B57984BB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94A-6EBF-40DF-B136-435BD248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8BC-4515-46A1-8625-1FDB9603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BE6-EC1C-41BB-924C-643696D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D3A-A6BC-4E8B-906D-9D1BC471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84C-B72D-44B5-9F67-363688E6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663-B10C-4E2A-8947-A6C4C453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6ED-730E-4F4A-91BF-7582825B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739-4039-4815-ACB9-7118B73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852-9D4D-4968-AC0D-62302EFE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2031-6D46-4343-AB20-718B82185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6440" y="1142280"/>
            <a:ext cx="585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“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大河百代，众浪齐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淘尽万古英雄汉；词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千载，群芳竞秀，盛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一枝女儿花。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5406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此时的北宋王朝正面临着灭顶之灾。公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位于宋朝北部的金国长驱直入，攻占了北宋都城汴京，也就是今天的河南开封，将宋徽宗、宋钦宗父子俘获，押往金国为奴，北宋灭亡，史称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靖康之变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752480" y="60948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隶书"/>
              </a:rPr>
              <a:t>国难当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90880" y="457200"/>
            <a:ext cx="3105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南渡后的作品，由于李清照自身颠沛流离和国破家亡、民族危难的痛苦紧密地联系在一起，感愤时事，怀念家国的情思时常流露在她所创造的幽深意境和悲苦的情调之中，富有爱国主义思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5295960" y="2400120"/>
            <a:ext cx="32004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后期风格</a:t>
            </a:r>
            <a:endParaRPr b="0" lang="en-US" sz="2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360" y="685080"/>
            <a:ext cx="29239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夏日绝句</a:t>
            </a:r>
            <a:br>
              <a:rPr sz="4000"/>
            </a:br>
            <a:br>
              <a:rPr sz="4000"/>
            </a:br>
            <a:r>
              <a:rPr b="0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生当作人杰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死亦为鬼雄。 </a:t>
            </a:r>
            <a:br>
              <a:rPr sz="6000"/>
            </a:br>
            <a:r>
              <a:rPr b="0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至今思项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不肯过江东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980640"/>
            <a:ext cx="85406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图片6"/>
          <p:cNvPicPr/>
          <p:nvPr/>
        </p:nvPicPr>
        <p:blipFill>
          <a:blip r:embed="rId1"/>
          <a:stretch/>
        </p:blipFill>
        <p:spPr>
          <a:xfrm>
            <a:off x="-2590920" y="-152280"/>
            <a:ext cx="11734920" cy="88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781680" y="228600"/>
            <a:ext cx="2514600" cy="6324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28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鉴赏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《如梦令》    《一剪梅》  《声声慢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9051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女时期      少妇时期      晚年寡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1295280"/>
            <a:ext cx="6095880" cy="2122200"/>
            <a:chOff x="0" y="1295280"/>
            <a:chExt cx="6095880" cy="2122200"/>
          </a:xfrm>
        </p:grpSpPr>
        <p:grpSp>
          <p:nvGrpSpPr>
            <p:cNvPr id="75" name=""/>
            <p:cNvGrpSpPr/>
            <p:nvPr/>
          </p:nvGrpSpPr>
          <p:grpSpPr>
            <a:xfrm>
              <a:off x="0" y="1931040"/>
              <a:ext cx="3962160" cy="1486440"/>
              <a:chOff x="0" y="1931040"/>
              <a:chExt cx="3962160" cy="1486440"/>
            </a:xfrm>
          </p:grpSpPr>
          <p:sp>
            <p:nvSpPr>
              <p:cNvPr id="76" name=""/>
              <p:cNvSpPr/>
              <p:nvPr/>
            </p:nvSpPr>
            <p:spPr>
              <a:xfrm>
                <a:off x="0" y="1931040"/>
                <a:ext cx="3962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3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不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时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7560" y="2140560"/>
                <a:ext cx="56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845800"/>
                <a:ext cx="19404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3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不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基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46560" y="2986560"/>
                <a:ext cx="64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1676520" y="1295280"/>
              <a:ext cx="152280" cy="422640"/>
            </a:xfrm>
            <a:prstGeom prst="downArrow">
              <a:avLst>
                <a:gd name="adj1" fmla="val 50000"/>
                <a:gd name="adj2" fmla="val 69385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1295280"/>
              <a:ext cx="152640" cy="422640"/>
            </a:xfrm>
            <a:prstGeom prst="downArrow">
              <a:avLst>
                <a:gd name="adj1" fmla="val 50000"/>
                <a:gd name="adj2" fmla="val 69222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1295280"/>
              <a:ext cx="152280" cy="422640"/>
            </a:xfrm>
            <a:prstGeom prst="downArrow">
              <a:avLst>
                <a:gd name="adj1" fmla="val 50000"/>
                <a:gd name="adj2" fmla="val 69385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143000" y="26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愉快开朗      细腻深婉      凄凉 孤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60400" y="2630520"/>
            <a:ext cx="1704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隶书"/>
              </a:rPr>
              <a:t>独立的品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隶书"/>
              </a:rPr>
              <a:t>坚强的个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隶书"/>
              </a:rPr>
              <a:t>开阔的眼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隶书"/>
              </a:rPr>
              <a:t>极高的才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8240" y="5638680"/>
            <a:ext cx="286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一代词宗——李清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24800" y="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词苑奇葩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——</a:t>
            </a: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楷体_GB2312"/>
              </a:rPr>
              <a:t>李清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304920"/>
            <a:ext cx="3887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常记溪亭日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沉醉不知归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兴尽晚回舟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误入藕花深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争渡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争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惊起一滩鸥鹭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9480"/>
            <a:ext cx="92962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清照她出生于一个爱好文学艺术的士大夫家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的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格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一个饱读诗书，精通儒家经典的一个才学之士，进士出身。曾做过山东郓周教授，太学录、太学正，还做过太学博士。后来因为他的诗文创作和他的学术成就得到了苏轼的赏识，所以成为“苏门后四学士”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王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是当时能诗能文的才女，王氏的祖父王拱辰是宋仁宗朝的时候的科举状元。“妻王氏，拱辰孙女，亦善文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名门闺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505320" y="30492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南渡前的作品，一类是歌咏自然，表现作者天真活泼的个性，和关心美好事物的。这类作品感情真挚，富有青春活力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风格清新、明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；一类是写闺情生活，抒发离情别绪，表现伉俪之情和惜花伤春的。这类作品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思致深宛，风格流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 rot="5400000">
            <a:off x="-724320" y="2095560"/>
            <a:ext cx="4876920" cy="19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前期风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28195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284720" y="1484280"/>
            <a:ext cx="4506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蹴罢秋千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起来慵整纤纤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露浓花瘦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薄汗轻衣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见客入来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袜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刬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金钗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和羞走，倚门回首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却把青梅嗅。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238560" y="260280"/>
            <a:ext cx="55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点降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6765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言与司合，安上已脱，芝芙草拔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言与司合”这不就是一个“词”吗？“安上已脱”那不底下就是一个“女”吗？“芝芙草拔”去掉草字头，底下不就是“之夫”两个字吗？这三句话合在一起就是“词女之夫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4480" y="228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赵明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14600" y="587520"/>
            <a:ext cx="762120" cy="64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29000" y="409680"/>
            <a:ext cx="609480" cy="51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0"/>
            <a:ext cx="45720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一剪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红藕香残玉簟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轻解罗裳，独上兰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云中谁寄锦书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雁字回时，月满西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种相思，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才下眉头，却上心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1219320"/>
            <a:ext cx="6781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飞砂风中转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1-02-14T03:05:5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