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44B-0DF1-47D2-9E96-B8BCD2CE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79A-26D8-4034-B71D-8A1702F9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6AE-A529-4E37-BB88-5B66D3EF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592-D7F1-464F-9A26-7BC7A766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35C4-5FD7-4302-9772-D108636B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1F31-A787-4F8E-9651-5D98AC4C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1082-59AB-4956-B390-AC948822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A9C-62FE-4395-944D-DD085C0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CA70-67EC-4D27-97A0-B15FF873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8A86-12E2-49FB-8644-96456E29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0DFC-1915-4606-9642-0DA797C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27F-0FE8-4BAF-B31A-7B47F197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905B-AA5D-4F98-BA22-DCCCEE7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B0EE-4596-4EAF-866C-7CF604C3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FD8C-4E72-4EAE-9B17-1B57E7D5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D431-D9D0-46D8-8D27-075F39DD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9CE0-5F4B-4C89-BEA5-A6F6B53A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312D-A293-42C1-8E02-5DBB7C68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F4EC5-8FB6-4DEF-9F99-6CAC8C5C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A45E-62EB-49D5-984D-3442B9C3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9157-14A4-473D-9D2A-36F99DD4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5C00-CF13-468F-B966-4B42C161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475-EC9D-4590-8080-C36A9762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BF59-7051-4A4F-9A38-5B17EA9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491F-73D0-44CD-A26F-D3A12A7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3ECB-F8DE-4864-BDCE-BAAECD2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912D-F54D-4667-AC19-7501CF02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CEC9-E8C6-4754-9507-3469D043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4170-A342-4EE7-9E10-B102A0A1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F9CF-D5CF-4F09-9097-D707525D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AC7E-F747-4DDF-9C78-884CCBCF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2778-C709-49C7-9C76-6328CAD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D03A-F5A2-4455-9792-73F368AC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25A-10AC-4576-B3E2-33FB1B57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C6D4-6F53-467B-85A5-D0D0FAEC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17CA-547B-4797-BE38-56774882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73EE-0964-40FF-A3EC-A9959069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DC7A-85EF-4F56-B3BB-8006AD1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9D409-2C8B-4BC7-8AF5-7D549A5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96AC-D84B-4623-83EE-E981E452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0789-2389-42B5-B02B-43BBD978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4055-A4E8-4D79-A81D-FDE2FB44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0106-60B1-49DD-B9F5-F1CB605C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30C5-72F2-4574-99A3-38F2359F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883-78F2-4347-A6AD-FA95AAD1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0E75-02E0-4F74-B5C3-D9AE7DC5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AB60-744F-4B99-8688-A914E6DC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852D-BC23-458D-B80A-31399F96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E124-04C1-4CA5-8E32-A5AAE12E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869A-7E43-4420-AC2E-47847B36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A5EE-DFC9-4C2E-93C3-A283E12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4F70-AFBB-4F8E-9836-96B44851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B8E7B-FDA4-4DED-9146-539F1D06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57FDB-78FE-4129-92AC-AD80CC79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C2B4-F5A7-4E11-A487-2EA8B21A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ABE-1859-4B21-86DC-C1538490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3D54C-08E7-4488-B73D-1B13F42E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9C662-1527-4785-A361-AAD13D05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F9C5-CC4A-47F1-8B7C-2E439052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2708F-92DD-48B1-99E8-F6DB6DE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045EF-96EF-4930-A7D1-61FEA145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2DE0-B4EE-4E5F-BB0C-267AA87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2A47-D6A5-42F9-939F-A6C96706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AD1A7-9B26-4A85-8FAA-D4C4FCF7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7A35-7C02-4CC3-9C3D-6799043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B2F35-FCCF-4D3C-82C6-E479321E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FD5-690C-456A-BFA0-085CC51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53F9D-61F5-4D14-A5DC-7D177F5E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AEA6-6C0E-417E-904C-932A397E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E7932-BCE4-49E1-A7AE-C6D9414A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71F-45AE-4322-82A0-11075726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D9A-565D-4952-A8E3-860563A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36E8-037B-44CB-AEF8-98F8B0D10D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332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AFB-DD18-4B06-885F-326232682E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9519-15BA-48C0-9973-9A67F07445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0905-45D3-4CCE-A207-84B63E8AF541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8E7-D268-496D-ADE8-99640DFFBBC8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313C-2D01-4C0C-A3EE-F762FBF9D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 txBox="1"/>
          <p:nvPr/>
        </p:nvSpPr>
        <p:spPr>
          <a:xfrm>
            <a:off x="539640" y="1628640"/>
            <a:ext cx="3456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99"/>
                </a:solidFill>
                <a:latin typeface="宋体"/>
              </a:rPr>
              <a:t>离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99"/>
              </a:solidFill>
              <a:latin typeface="宋体"/>
              <a:ea typeface="宋体"/>
            </a:endParaRPr>
          </a:p>
        </p:txBody>
      </p:sp>
      <p:sp>
        <p:nvSpPr>
          <p:cNvPr id="249" name=""/>
          <p:cNvSpPr txBox="1"/>
          <p:nvPr/>
        </p:nvSpPr>
        <p:spPr>
          <a:xfrm rot="5400000">
            <a:off x="7344720" y="5454000"/>
            <a:ext cx="201600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屈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纷吾既有此内美兮，又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重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之以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修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能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扈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江离与辟芷兮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纫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秋兰以为佩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汩余若将不及兮，</a:t>
            </a:r>
            <a:r>
              <a:rPr b="1" lang="zh-CN" sz="4400" spc="-1" strike="noStrike" u="sng">
                <a:solidFill>
                  <a:srgbClr val="333333"/>
                </a:solidFill>
                <a:uFillTx/>
                <a:latin typeface="Times New Roman"/>
                <a:ea typeface="隶书"/>
              </a:rPr>
              <a:t>恐年岁之不吾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朝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搴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阝比之木兰兮，夕揽洲之宿莽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日月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忽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其不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淹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兮，春与秋其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代序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唯草木之零落兮，恐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美人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迟暮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不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抚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壮而弃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秽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兮，何不改乎此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度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隶书"/>
              </a:rPr>
              <a:t>也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？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乘骐骥以驰骋兮，来吾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道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夫先路。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昔三后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纯粹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兮，固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众芳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之所在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杂申椒与菌桂兮，岂唯纫夫蕙？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彼尧舜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耿介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兮，既遵道而得路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何桀纣之昌被兮，夫唯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捷径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以窘步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唯夫党人之偷乐兮，路幽昧以险隘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岂余身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惮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殃兮，恐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皇舆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之败绩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忽奔走以先后兮，及前王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踵</a:t>
            </a:r>
            <a:r>
              <a:rPr b="1" lang="zh-CN" sz="6000" spc="-1" strike="noStrike" u="sng">
                <a:solidFill>
                  <a:srgbClr val="333333"/>
                </a:solidFill>
                <a:uFillTx/>
                <a:latin typeface="Times New Roman"/>
                <a:ea typeface="华文隶书"/>
              </a:rPr>
              <a:t>武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荃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不察余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中情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兮，反信馋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［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·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］怒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隶书"/>
                <a:ea typeface="隶书"/>
              </a:rPr>
              <a:t>余固知</a:t>
            </a: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謇謇</a:t>
            </a:r>
            <a:r>
              <a:rPr b="1" lang="zh-CN" sz="4400" spc="-1" strike="noStrike">
                <a:solidFill>
                  <a:srgbClr val="333333"/>
                </a:solidFill>
                <a:latin typeface="隶书"/>
                <a:ea typeface="隶书"/>
              </a:rPr>
              <a:t>之为患兮，忍而不能舍也；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隶书"/>
                <a:ea typeface="隶书"/>
              </a:rPr>
              <a:t>指九天以为正兮，夫唯</a:t>
            </a: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灵修</a:t>
            </a:r>
            <a:r>
              <a:rPr b="1" lang="zh-CN" sz="4400" spc="-1" strike="noStrike">
                <a:solidFill>
                  <a:srgbClr val="333333"/>
                </a:solidFill>
                <a:latin typeface="隶书"/>
                <a:ea typeface="隶书"/>
              </a:rPr>
              <a:t>之故也；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隶书"/>
                <a:ea typeface="隶书"/>
              </a:rPr>
              <a:t>曰黄昏以为期兮，</a:t>
            </a:r>
            <a:r>
              <a:rPr b="1" lang="zh-CN" sz="4400" spc="-1" strike="noStrike">
                <a:solidFill>
                  <a:srgbClr val="333333"/>
                </a:solidFill>
                <a:latin typeface="隶书"/>
                <a:ea typeface="隶书"/>
              </a:rPr>
              <a:t>	</a:t>
            </a: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羌</a:t>
            </a:r>
            <a:r>
              <a:rPr b="1" lang="zh-CN" sz="4400" spc="-1" strike="noStrike">
                <a:solidFill>
                  <a:srgbClr val="333333"/>
                </a:solidFill>
                <a:latin typeface="隶书"/>
                <a:ea typeface="隶书"/>
              </a:rPr>
              <a:t>中道而改路。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0160" y="299880"/>
            <a:ext cx="28414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方正舒体"/>
              </a:rPr>
              <a:t>全诗分为三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一</a:t>
            </a: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1.2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二</a:t>
            </a: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三</a:t>
            </a: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828800"/>
            <a:ext cx="380880" cy="3200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89480" y="1447920"/>
            <a:ext cx="56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自述家世、出生年月日和名字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2743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自述一生追求美好事物，提高自身修养的嘉德懿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09640" y="4419720"/>
            <a:ext cx="359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回顾历史上兴衰成败的教训，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系楚国的黑暗现实，反复申诉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己的忠心和事君不合的遭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340000" y="1700280"/>
            <a:ext cx="3817800" cy="3420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00"/>
                </a:solidFill>
                <a:latin typeface="Arial"/>
                <a:ea typeface="华文行楷"/>
              </a:rPr>
              <a:t>高贵的出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00"/>
                </a:solidFill>
                <a:latin typeface="Arial"/>
                <a:ea typeface="华文行楷"/>
              </a:rPr>
              <a:t>奇特的生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00"/>
                </a:solidFill>
                <a:latin typeface="Arial"/>
                <a:ea typeface="华文行楷"/>
              </a:rPr>
              <a:t>美好的名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6360" y="2060640"/>
            <a:ext cx="73080" cy="2663640"/>
          </a:xfrm>
          <a:custGeom>
            <a:avLst/>
            <a:gdLst>
              <a:gd name="textAreaLeft" fmla="*/ 0 w 73080"/>
              <a:gd name="textAreaRight" fmla="*/ 51480 w 73080"/>
              <a:gd name="textAreaTop" fmla="*/ 110880 h 2663640"/>
              <a:gd name="textAreaBottom" fmla="*/ 25527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ff0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72360" y="2852640"/>
            <a:ext cx="2374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华文行楷"/>
              </a:rPr>
              <a:t>楚国兴亡义不容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24000" y="1341360"/>
            <a:ext cx="4032360" cy="30492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行楷"/>
              </a:rPr>
              <a:t>美好的品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行楷"/>
              </a:rPr>
              <a:t>杰出的才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行楷"/>
              </a:rPr>
              <a:t>忠贞的理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476360" y="981000"/>
            <a:ext cx="5327640" cy="4032000"/>
            <a:chOff x="1476360" y="981000"/>
            <a:chExt cx="5327640" cy="4032000"/>
          </a:xfrm>
        </p:grpSpPr>
        <p:sp>
          <p:nvSpPr>
            <p:cNvPr id="287" name=""/>
            <p:cNvSpPr/>
            <p:nvPr/>
          </p:nvSpPr>
          <p:spPr>
            <a:xfrm>
              <a:off x="1476360" y="981000"/>
              <a:ext cx="5327640" cy="367956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95640" y="4660560"/>
              <a:ext cx="432000" cy="352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ebe600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987640" y="5157720"/>
            <a:ext cx="25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华文行楷"/>
              </a:rPr>
              <a:t>振兴楚国时不我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24000" y="1700280"/>
            <a:ext cx="4032360" cy="304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期待的德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幽昧的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不公的遭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1989000"/>
            <a:ext cx="73080" cy="2664000"/>
          </a:xfrm>
          <a:custGeom>
            <a:avLst/>
            <a:gdLst>
              <a:gd name="textAreaLeft" fmla="*/ 0 w 73080"/>
              <a:gd name="textAreaRight" fmla="*/ 51480 w 73080"/>
              <a:gd name="textAreaTop" fmla="*/ 110880 h 2664000"/>
              <a:gd name="textAreaBottom" fmla="*/ 255312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ff0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2000" y="2637000"/>
            <a:ext cx="2374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华文行楷"/>
              </a:rPr>
              <a:t>奸佞当道荃昧中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859280" y="1557360"/>
            <a:ext cx="3384720" cy="28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  <a:ea typeface="华文行楷"/>
              </a:rPr>
              <a:t>清醒的认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  <a:ea typeface="华文行楷"/>
              </a:rPr>
              <a:t>坚定的操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  <a:ea typeface="华文行楷"/>
              </a:rPr>
              <a:t>爱国的情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067280" y="907920"/>
            <a:ext cx="4464000" cy="3889080"/>
            <a:chOff x="4067280" y="907920"/>
            <a:chExt cx="4464000" cy="3889080"/>
          </a:xfrm>
        </p:grpSpPr>
        <p:sp>
          <p:nvSpPr>
            <p:cNvPr id="295" name=""/>
            <p:cNvSpPr/>
            <p:nvPr/>
          </p:nvSpPr>
          <p:spPr>
            <a:xfrm>
              <a:off x="4067280" y="907920"/>
              <a:ext cx="4464000" cy="354924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7960" y="4457160"/>
              <a:ext cx="361800" cy="33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ebe600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076720" y="4869000"/>
            <a:ext cx="266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华文行楷"/>
              </a:rPr>
              <a:t>热爱祖国九死不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289080"/>
          </a:xfrm>
          <a:custGeom>
            <a:avLst/>
            <a:gdLst>
              <a:gd name="textAreaLeft" fmla="*/ 18720 w 502920"/>
              <a:gd name="textAreaRight" fmla="*/ 484200 w 502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58" h="21600">
                <a:moveTo>
                  <a:pt x="0" y="0"/>
                </a:moveTo>
                <a:lnTo>
                  <a:pt x="37558" y="0"/>
                </a:lnTo>
                <a:lnTo>
                  <a:pt x="37558" y="21600"/>
                </a:lnTo>
                <a:lnTo>
                  <a:pt x="0" y="21600"/>
                </a:lnTo>
                <a:close/>
              </a:path>
              <a:path fill="lightenLess" w="37558" h="21600">
                <a:moveTo>
                  <a:pt x="0" y="0"/>
                </a:moveTo>
                <a:lnTo>
                  <a:pt x="37558" y="0"/>
                </a:lnTo>
                <a:lnTo>
                  <a:pt x="36158" y="1400"/>
                </a:lnTo>
                <a:lnTo>
                  <a:pt x="1400" y="1400"/>
                </a:lnTo>
                <a:close/>
              </a:path>
              <a:path fill="darken" w="37558" h="21600">
                <a:moveTo>
                  <a:pt x="37558" y="0"/>
                </a:moveTo>
                <a:lnTo>
                  <a:pt x="37558" y="21600"/>
                </a:lnTo>
                <a:lnTo>
                  <a:pt x="36158" y="20200"/>
                </a:lnTo>
                <a:lnTo>
                  <a:pt x="36158" y="1400"/>
                </a:lnTo>
                <a:close/>
              </a:path>
              <a:path fill="darkenLess" w="37558" h="21600">
                <a:moveTo>
                  <a:pt x="37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58" y="20200"/>
                </a:lnTo>
                <a:close/>
              </a:path>
              <a:path fill="lighten" w="37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58" h="21600">
                <a:moveTo>
                  <a:pt x="11773" y="10800"/>
                </a:moveTo>
                <a:lnTo>
                  <a:pt x="25786" y="3794"/>
                </a:lnTo>
                <a:lnTo>
                  <a:pt x="25786" y="17806"/>
                </a:lnTo>
                <a:close/>
              </a:path>
            </a:pathLst>
          </a:cu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5003640" y="476280"/>
          <a:ext cx="414036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476280"/>
                    <a:ext cx="4140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24000" y="404640"/>
            <a:ext cx="48592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屈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名平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战国末期楚国人，楚武王熊通之子屈瑕的后代。杰出的政治家和爱国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屈原是中国文学史上第一位伟大的爱国诗人。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95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，他被列为世界四大文化名人之一。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波兰哥白尼、英国莎士比亚、意大利但丁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7308720" y="4508640"/>
            <a:ext cx="1688760" cy="2161800"/>
            <a:chOff x="7308720" y="4508640"/>
            <a:chExt cx="1688760" cy="216180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7315200" y="4508640"/>
              <a:ext cx="1682280" cy="21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8720" y="4508640"/>
              <a:ext cx="1653840" cy="2161800"/>
            </a:xfrm>
            <a:prstGeom prst="rect">
              <a:avLst/>
            </a:prstGeom>
            <a:noFill/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556000" y="836640"/>
            <a:ext cx="5111640" cy="3886920"/>
            <a:chOff x="2556000" y="836640"/>
            <a:chExt cx="5111640" cy="3886920"/>
          </a:xfrm>
        </p:grpSpPr>
        <p:sp>
          <p:nvSpPr>
            <p:cNvPr id="303" name=""/>
            <p:cNvSpPr/>
            <p:nvPr/>
          </p:nvSpPr>
          <p:spPr>
            <a:xfrm>
              <a:off x="2556000" y="836640"/>
              <a:ext cx="5111640" cy="3286080"/>
            </a:xfrm>
            <a:prstGeom prst="wedgeRoundRectCallout">
              <a:avLst>
                <a:gd name="adj1" fmla="val 32750"/>
                <a:gd name="adj2" fmla="val 45680"/>
                <a:gd name="adj3" fmla="val 16667"/>
              </a:avLst>
            </a:prstGeom>
            <a:solidFill>
              <a:srgbClr val="66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009999"/>
                  </a:solidFill>
                  <a:uFillTx/>
                  <a:latin typeface="华文行楷"/>
                  <a:ea typeface="华文行楷"/>
                  <a:hlinkClick r:id="rId3" action="ppaction://hlinksldjump"/>
                </a:rPr>
                <a:t>①</a:t>
              </a:r>
              <a:r>
                <a:rPr b="0" lang="zh-CN" sz="4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  </a:t>
              </a:r>
              <a:r>
                <a:rPr b="0" lang="zh-CN" sz="4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自 叙 身 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009999"/>
                  </a:solidFill>
                  <a:uFillTx/>
                  <a:latin typeface="华文行楷"/>
                  <a:ea typeface="华文行楷"/>
                  <a:hlinkClick r:id="rId4" action="ppaction://hlinksldjump"/>
                </a:rPr>
                <a:t>②</a:t>
              </a:r>
              <a:r>
                <a:rPr b="0" lang="zh-CN" sz="4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  </a:t>
              </a:r>
              <a:r>
                <a:rPr b="0" lang="zh-CN" sz="4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自 表 内 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009999"/>
                  </a:solidFill>
                  <a:uFillTx/>
                  <a:latin typeface="华文行楷"/>
                  <a:ea typeface="华文行楷"/>
                  <a:hlinkClick r:id="rId5" action="ppaction://hlinksldjump"/>
                </a:rPr>
                <a:t>③</a:t>
              </a:r>
              <a:r>
                <a:rPr b="0" lang="zh-CN" sz="4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  </a:t>
              </a:r>
              <a:r>
                <a:rPr b="0" lang="zh-CN" sz="48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自 叹 现 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432040" y="4188960"/>
              <a:ext cx="1659960" cy="534600"/>
              <a:chOff x="5432040" y="4188960"/>
              <a:chExt cx="1659960" cy="534600"/>
            </a:xfrm>
          </p:grpSpPr>
          <p:sp>
            <p:nvSpPr>
              <p:cNvPr id="305" name=""/>
              <p:cNvSpPr/>
              <p:nvPr/>
            </p:nvSpPr>
            <p:spPr>
              <a:xfrm>
                <a:off x="5432040" y="4188960"/>
                <a:ext cx="446400" cy="2008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78440" y="4323600"/>
                <a:ext cx="347760" cy="20052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261120" y="4456440"/>
                <a:ext cx="297000" cy="1490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580800" y="4524120"/>
                <a:ext cx="247680" cy="14940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93640" y="4623120"/>
                <a:ext cx="198360" cy="1004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611280" y="836640"/>
            <a:ext cx="1584360" cy="764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28440">
            <a:solidFill>
              <a:srgbClr val="006600"/>
            </a:solidFill>
            <a:miter/>
          </a:ln>
          <a:effectLst>
            <a:outerShdw dist="17819" dir="2700000" blurRad="0" rotWithShape="0">
              <a:srgbClr val="ffff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内容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4653000"/>
            <a:ext cx="1584000" cy="764280"/>
          </a:xfrm>
          <a:prstGeom prst="rect">
            <a:avLst/>
          </a:prstGeom>
          <a:blipFill rotWithShape="0">
            <a:blip r:embed="rId12"/>
            <a:srcRect/>
            <a:stretch/>
          </a:blipFill>
          <a:ln w="28440">
            <a:solidFill>
              <a:srgbClr val="006600"/>
            </a:solidFill>
            <a:miter/>
          </a:ln>
          <a:effectLst>
            <a:outerShdw dist="17819" dir="2700000" blurRad="0" rotWithShape="0">
              <a:srgbClr val="ffff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表现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56000" y="508464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比喻、想象，瑰丽奇特</a:t>
            </a:r>
            <a:r>
              <a:rPr b="0" lang="zh-CN" sz="3600" spc="-1" strike="noStrike">
                <a:solidFill>
                  <a:srgbClr val="ffff0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26920" y="549360"/>
            <a:ext cx="3384720" cy="76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6600"/>
            </a:solidFill>
            <a:miter/>
          </a:ln>
          <a:effectLst>
            <a:outerShdw dist="17819" dir="2700000" blurRad="0" rotWithShape="0">
              <a:srgbClr val="ffff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9"/>
                </a:solidFill>
                <a:latin typeface="Arial"/>
                <a:ea typeface="隶书"/>
              </a:rPr>
              <a:t>思想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2133720"/>
            <a:ext cx="6912000" cy="82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节选部分既表达了诗人美好的理想和高洁的追求，也表达了对楚王昏庸信谗的愤懑和幽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5280" y="260280"/>
            <a:ext cx="82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课文中找出能表现作者下列 特征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81760" y="1052640"/>
            <a:ext cx="408024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1.</a:t>
            </a: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他血统高贵，器宇不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184464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皇览揆余初度兮，肇锡余以嘉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2781360"/>
            <a:ext cx="874872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2.</a:t>
            </a: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他身披香草鲜花，具有美丽的华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59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2438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364500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扈江离与辟芷兮，纫秋兰以为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29760" y="4581360"/>
            <a:ext cx="98532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3.</a:t>
            </a: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他勤勉修行，自强不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5516640"/>
            <a:ext cx="849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汩余若将不及兮，恐年岁之不吾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55627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5791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68360" y="333360"/>
            <a:ext cx="820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课文中找出能表现作者下列 特征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259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2438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125360"/>
            <a:ext cx="720072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4.</a:t>
            </a: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他赤胆忠心，胸怀炽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1916280"/>
            <a:ext cx="842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九天以为正兮，夫唯灵修之故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5760" y="2793960"/>
            <a:ext cx="98532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5.</a:t>
            </a: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他嫉恶如仇，鄙视群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55627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5791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3645000"/>
            <a:ext cx="842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唯夫党人之偷乐兮，路幽昧以险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63160" y="4508640"/>
            <a:ext cx="98532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6.</a:t>
            </a:r>
            <a:r>
              <a:rPr b="1" lang="zh-CN" sz="4000" spc="-1" strike="noStrike">
                <a:solidFill>
                  <a:srgbClr val="ffff09"/>
                </a:solidFill>
                <a:latin typeface="华文隶书"/>
                <a:ea typeface="华文隶书"/>
              </a:rPr>
              <a:t>他为实现理想，不惧个人危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44500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岂余身之惮殃兮，恐皇舆之败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89080" y="-36360"/>
            <a:ext cx="860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指出下列语句的比喻意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836640"/>
            <a:ext cx="676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扈江离与辟芷，纫秋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1628640"/>
            <a:ext cx="39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喻修身养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2349360"/>
            <a:ext cx="669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木兰、宿莽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2997360"/>
            <a:ext cx="55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喻内在的美好品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645000"/>
            <a:ext cx="6624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美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4221000"/>
            <a:ext cx="34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喻楚怀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4941720"/>
            <a:ext cx="6626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乘骐骥以驰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5602320"/>
            <a:ext cx="79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喻追求和实现美好的政治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5040" y="225360"/>
            <a:ext cx="5646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来吾道夫先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1143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838080"/>
            <a:ext cx="86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喻革新强国的先驱者，为楚王和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家献身，一往无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98720" y="2133720"/>
            <a:ext cx="2292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申椒、菌桂、蕙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2781360"/>
            <a:ext cx="40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喻群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4000" y="3500280"/>
            <a:ext cx="5688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221000"/>
            <a:ext cx="40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喻楚怀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4869000"/>
            <a:ext cx="822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黄昏以为期兮，羌中道而改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5589720"/>
            <a:ext cx="908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喻君王失信，变法革新所遇到的挫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4360" y="1197000"/>
            <a:ext cx="6427800" cy="10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屈原在诗中，除了使用比喻手法来表达自己的政治理想，还使用了什么手法，请举例说明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华文隶书"/>
              </a:rPr>
              <a:t>对比手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古代明君用群贤与昏庸君王放肆妄行的对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党人贪图个人享乐与自己为国为民不惜身遭灾祸的对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6668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380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533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533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333360"/>
            <a:ext cx="87487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屈原是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中国文学史上第一位伟大的爱国诗人。屈原的出现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仅标志着中国诗歌进入了一个由集体歌唱到个人独创的新时代，而且他所开创的新诗体——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楚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突破了《诗经》的表现形式，极大地丰富了诗歌的表现力，为中国古代的诗歌创作开辟了一片新天地。后人也因此将《诗经》与《楚辞》并称为“风、骚” 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风、骚”是中国诗歌史上现实主义和浪漫主义两大优良传统的源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同时，以屈原为代表的楚辞还影响到汉赋的形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260280"/>
          <a:ext cx="3276720" cy="659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327672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419640" y="260280"/>
            <a:ext cx="57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屈原作品主要有《离骚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《天问》《九歌》《九章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其中《离骚》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中国古代最长的抒情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，充分表现出诗人的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美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理想。与此相关，屈原的作品还深刻揭露了楚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政治的黑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、楚国贵族集团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腐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和楚王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昏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，表现了他坚持“美政”理想、坚持节操，“虽九死而犹未悔”的斗争精神和忧国忧民、忠贞爱国的情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8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《离骚》   《天问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《九歌》</a:t>
            </a:r>
            <a:r>
              <a:rPr b="1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   《东皇太乙》《云中君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篇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《大司命》《少司命》《湘君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《湘夫人》《东君》《河伯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《山鬼》《国殇》《礼魂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《九章》</a:t>
            </a:r>
            <a:r>
              <a:rPr b="1" lang="zh-CN" sz="3200" spc="-1" strike="noStrike">
                <a:solidFill>
                  <a:srgbClr val="003300"/>
                </a:solidFill>
                <a:latin typeface="隶书"/>
                <a:ea typeface="隶书"/>
              </a:rPr>
              <a:t>   《涉江》《哀郢》《怀沙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篇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隶书"/>
                <a:ea typeface="隶书"/>
              </a:rPr>
              <a:t>《惜往日》《思美人》《抽思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隶书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3300"/>
                </a:solidFill>
                <a:latin typeface="隶书"/>
                <a:ea typeface="隶书"/>
              </a:rPr>
              <a:t>《惜诵》《悲回风》 《橘颂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《招魂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“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离骚”释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隶书"/>
              </a:rPr>
              <a:t>离忧也。离，犹罹也。骚，忧愁也。离骚者，乃言遭遇忧愁，陷入困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隶书"/>
              </a:rPr>
              <a:t>离，犹畔也，别也。骚，忧愁也。离骚者，乃言离别之愁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隶书"/>
              </a:rPr>
              <a:t>离骚，为叠韵连绵词，犹言牢骚。离骚者，牢骚之词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395280" y="4581360"/>
            <a:ext cx="1584000" cy="2089080"/>
            <a:chOff x="395280" y="4581360"/>
            <a:chExt cx="1584000" cy="208908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439560" y="4581360"/>
              <a:ext cx="153972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95280" y="4581360"/>
              <a:ext cx="1543680" cy="2089080"/>
            </a:xfrm>
            <a:prstGeom prst="rect">
              <a:avLst/>
            </a:prstGeom>
            <a:noFill/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258920" y="692280"/>
            <a:ext cx="7272360" cy="703440"/>
          </a:xfrm>
          <a:prstGeom prst="rect">
            <a:avLst/>
          </a:prstGeom>
          <a:solidFill>
            <a:srgbClr val="000000">
              <a:alpha val="33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ffff09"/>
                </a:solidFill>
                <a:latin typeface="隶书"/>
                <a:ea typeface="隶书"/>
              </a:rPr>
              <a:t>《离骚》是中国古代诗歌史上最长的一首浪漫主义的政治抒情诗。是一篇热爱祖国，伸张正义，鞭挞黑暗，追求光明的杰作。大约作于屈原放逐江南之时，是屈原的代表作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9640" y="1197000"/>
            <a:ext cx="799308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苗裔： 孟陬：　揆：　肇： 重：   扈：   芷：   纫：   汩：  搴：　　骐骥：  申椒： 昌被： 惮：　踵：　  荃：　　謇謇：　羌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2602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华文隶书"/>
                <a:ea typeface="华文隶书"/>
              </a:rPr>
              <a:t>正音《离 骚》：</a:t>
            </a:r>
            <a:r>
              <a:rPr b="0" lang="zh-CN" sz="4400" spc="-1" strike="noStrike">
                <a:solidFill>
                  <a:srgbClr val="009999"/>
                </a:solidFill>
                <a:latin typeface="华文隶书"/>
                <a:ea typeface="华文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260280"/>
            <a:ext cx="88930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帝高阳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苗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兮，朕皇考曰伯庸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摄提贞于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孟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兮，唯庚寅吾以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皇览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余初度兮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锡余以嘉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名余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正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兮，字余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灵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0:16:49Z</dcterms:created>
  <dc:creator>weiping</dc:creator>
  <dc:description/>
  <dc:language>en-US</dc:language>
  <cp:lastModifiedBy>YZL</cp:lastModifiedBy>
  <dcterms:modified xsi:type="dcterms:W3CDTF">2004-09-16T06:48:47Z</dcterms:modified>
  <cp:revision>20</cp:revision>
  <dc:subject/>
  <dc:title>幻灯片 1</dc:title>
</cp:coreProperties>
</file>