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117-368F-449A-AA4C-E1D9D6AC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3124080"/>
            <a:ext cx="6172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3443040"/>
            <a:ext cx="6172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70AC-F8C1-413D-A772-B8D88F1A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312408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320" y="312408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344304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320" y="344304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D8F-376E-4BFF-B9D4-94BF5B10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3124080"/>
            <a:ext cx="198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67640" y="3124080"/>
            <a:ext cx="198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4560" y="3124080"/>
            <a:ext cx="198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3443040"/>
            <a:ext cx="198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67640" y="3443040"/>
            <a:ext cx="198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4560" y="3443040"/>
            <a:ext cx="198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9CE-CC1A-4CF2-BAEB-27980D96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2BE9-711D-49C0-A624-E4E8E80C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0720" y="31240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3754-B3AA-448D-8679-B4C9F76C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0720" y="31240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369C-58F6-4B70-8D10-2FE2F2FC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3124080"/>
            <a:ext cx="3011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3320" y="3124080"/>
            <a:ext cx="3011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7410-B798-4BA8-8F8C-5C6124FE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A6DF-E69B-4455-BD30-1CA04EE0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0720" y="2437920"/>
            <a:ext cx="617220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C55A-927D-4BEE-A5EA-A0C88D4B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0720" y="312408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3320" y="3124080"/>
            <a:ext cx="3011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0720" y="344304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727C-14F2-4E0A-ACD0-457F2EED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31240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B6D-9D5C-4861-967B-8758873F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720" y="3124080"/>
            <a:ext cx="3011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3320" y="312408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3320" y="344304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5D40-E0EC-41DB-8460-E26882A1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0720" y="312408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3320" y="312408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0720" y="3443040"/>
            <a:ext cx="6172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75F8-81E2-45CC-91F6-30614DDC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3124080"/>
            <a:ext cx="6172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0720" y="3443040"/>
            <a:ext cx="6172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292F-9265-4B93-B44F-BFABD520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0720" y="312408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3320" y="312408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0720" y="344304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3320" y="344304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2CEB-1064-4CBA-B9DF-658BF01B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0720" y="3124080"/>
            <a:ext cx="198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7640" y="3124080"/>
            <a:ext cx="198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4560" y="3124080"/>
            <a:ext cx="198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0720" y="3443040"/>
            <a:ext cx="198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7640" y="3443040"/>
            <a:ext cx="198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4560" y="3443040"/>
            <a:ext cx="198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123B-D1CC-4184-9009-4FFE192A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31240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F0C-FB7D-41E9-A73C-5B215791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3124080"/>
            <a:ext cx="3011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320" y="3124080"/>
            <a:ext cx="3011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374-2D04-488B-A37C-E8D97B0B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8C4-3BF3-4310-A817-28096AD5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2437920"/>
            <a:ext cx="617220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78A-5C62-4B7F-A6A1-742CE03D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312408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320" y="3124080"/>
            <a:ext cx="3011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344304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FD7-DE57-4FE1-832F-17869EE7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3124080"/>
            <a:ext cx="3011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320" y="312408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320" y="344304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DD7-0636-48D9-ABDD-AF0CFAA4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312408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320" y="3124080"/>
            <a:ext cx="3011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3443040"/>
            <a:ext cx="6172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B70-55B1-48C4-B39D-EA77C823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505e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2BFE-581A-49B9-AA74-3AD747DF2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8c5b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A268-2751-4B3F-9765-973DC2DC1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8c5b8"/>
                </a:solidFill>
                <a:latin typeface="Times New Roman"/>
              </a:rPr>
              <a:t>Open Mike</a:t>
            </a: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80720" y="31240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0:13:18Z</dcterms:created>
  <dc:creator/>
  <dc:description/>
  <dc:language>en-US</dc:language>
  <cp:lastModifiedBy>eclipse</cp:lastModifiedBy>
  <cp:lastPrinted>1899-12-30T00:00:00Z</cp:lastPrinted>
  <dcterms:modified xsi:type="dcterms:W3CDTF">2004-06-08T20:22:2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