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A4B-512E-43D8-AE4B-6AEBC6BA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212-A537-4C79-9E4D-9E44873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760CA-D561-46AD-8779-98777A9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CF6D3-6A6C-4736-BF7F-81FCD7C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CDFF9-8DCE-4656-A352-B2E49E5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8F8B0-9F19-4368-BAE1-042BA8B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C7CF5-A31F-40B5-ACF2-0029B64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671CD-35CA-4A39-9E48-1D4F2ED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84C17-1EE2-47B5-BA77-340FF6EF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2D7C4-948C-4C95-B7C1-C6C4957D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150AC-BE49-44A5-BC1B-4B783A6E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B92BA-330E-4561-BDBD-39BC3781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4C3-1653-4894-AAE2-F6A4EF88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60125-C2BF-442C-BF14-E314ACF1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2619D-8E40-4603-B8E9-81632F4E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463F-C5D1-404E-8E25-30B9FDD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D1E2-05F6-46E2-A6D8-DE695B7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5EC0D-E4A1-4B7E-8DDC-EA67E7D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141FA-852B-40F1-AB5F-BA4DADDD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5CFDE-BB86-415A-8206-DDFB4C7D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0683-8878-498A-AC9B-017463DA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E6F5F-B498-46CD-965E-E210210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98F9F-2D7B-40B8-A3F7-7034845B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A39-8E59-479D-B507-009CEA62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85B91-08AB-48D1-884D-624D9F3D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5648F-8ED8-4CC6-B9FF-3A42142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5C5D-4AAB-4AC0-B687-BA15E47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0C734-05C7-4894-8E0F-63679AB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0D519-0681-43F3-BF99-904BDA04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90CDC-8560-4C5D-8887-E0B04FB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F6DA-C016-487D-B35E-156CF4A2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FFC0-7590-45F9-8A7E-11E1932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5570-1B13-43DC-88F9-D3FAF22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478A-B545-40CC-9E4B-0C39B7D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AFC-10EF-49C9-8203-547A6B18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1D79-2F39-4F9D-9B53-3DCD651C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51FE-159E-4A91-B4F4-29EBB22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A188C-08B2-45E7-8919-66C54DA3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9F093-420B-4A42-A043-A1079FD7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A654E-A2AE-4551-B06D-E436284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514B3-42A9-4D5D-8B89-5C1981A9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D727B-F384-4464-975E-EC9FF0B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27B02-9BF5-4F12-BDCE-7DC23FA8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DBCD-E4A6-424D-8057-E27BB0C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F39C2-156D-40C4-AF85-1889493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D0DF-FC33-448B-8DBA-08597C4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DEECD-F6BE-4174-BA39-CBC2A8A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5AA5F-D0A5-4EF5-88D0-A79DDA9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6E086-AE71-4688-AA33-EB063AD4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1B13E-E5F1-4ADA-9FB9-E47B3CD9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C757-3CB7-4F89-851D-0D951F0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7F7-6C8B-492F-B76E-1D619F9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BDEE-28A0-4AE3-B2F3-49C33AF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A687-BFE7-44B2-806C-18D10AC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A7E-9536-48BE-B9D8-74604F7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CA6-A407-47E4-BDD5-E9090DE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246-408F-473B-A3ED-CEA595A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87D-62F6-41AF-80BF-DFE6E088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999B-2EDC-49F6-BB43-DC9F146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E252-13E0-4A9C-9C7D-A7A15D1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18F1-19DC-4905-808F-B95C1ED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8BD-4AC8-4F0E-9BE8-7A745734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79E5-D887-4CE2-8600-65D7F2A3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25BA-DFD9-4DEF-B6D9-FF09054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E787-1847-4C86-B613-02E6716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A79E-ACE4-43DA-9402-CC1599D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8479-A0F0-4EF3-8747-3D2E7BB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EE3-1391-4983-BA87-CFD9973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EB2B-A841-4D5E-AB34-8B07525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C427-9AEB-43EF-BF30-0B7C9018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8734-C9CB-4DE2-BB70-0CB7BA7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CDDE-D66A-4E7C-B27A-6C767A1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840A-1187-448E-A547-18303EF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ADD9-9E1E-475D-B961-8E80CC24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9EA2-C3F5-4944-94BD-B7B7D8D1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BC47-5D03-4DFA-A934-932B88B2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74FF-8DD0-4959-995B-26CB73A7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5A6F-D5C4-481A-A968-2071AB5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B1A-4416-454E-9220-D148C954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C390-04BB-433F-8BAA-92AFA9A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121C-8DDA-4C67-B0D1-9B6EF30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999B-411F-4016-9E98-DBB149BB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2DCA-2632-4E8A-9C2D-2F7FAA32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E74B-4014-4144-9619-49BEED4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65475-5ED0-4131-9B57-A61A7D4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FBD66-727D-48F7-8645-5ED4BC9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2435-D0D7-4B8F-9E63-AEDA856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169C-F824-45E0-BB53-69572D8B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7E417-33C8-43DF-BB82-3E9A05F4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81C-E4E2-4B36-8595-1D4BD15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33FF-8379-4E5F-8BE1-5FF5C40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8888F-EC6A-49DB-8FDB-5B2F2C8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0755-40B6-41C6-B4CF-9B8F660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2749-BB70-4038-B9C5-D0A59BC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A350-559C-4961-85BB-A74593B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B0B6-EAA8-4793-9531-9D0BAFD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817C-36BD-4798-B6D1-9B3F8A6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34FC-F937-430D-9151-E010912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965E-3839-48F4-85B5-DB3F76E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D36A-BA56-4682-A88A-0AC343C1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870-C33D-45F1-8FC7-FEB77C60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732A-FDBC-4FA0-87B0-935D43B7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8772-D811-4C35-8D16-0E9FAB31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9960-22C0-40AD-9E51-162DA189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56AEA-D384-4F71-BAD7-13219F0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DE28E-183D-435E-8D01-153CCD1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B428-F19C-43F1-BEF1-271B2ED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285C9-7DEB-4BB0-A42D-7A0D90F9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B14E-311A-4D2C-955F-5E347D6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10A8-B6F8-4D8B-8D82-DBE7B7A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F8F6-BED6-4A12-9288-78E88F4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F58-20D8-4FE3-865C-C2C584DC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8990-4A2F-4752-94C1-589AEBCB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8F23-E6CB-4E7C-B2D3-E90739A3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2E98-74FB-4C80-8C8B-677BA15C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EB3A-0480-4597-8647-BB8CF4E8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4F2B-F815-4CF5-ABFF-3F95BA8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A461-34E0-49D0-8C33-E59E714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6A86-83F2-42CC-92D5-193F36F2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B341D-6FF6-45E7-B69B-99C84C63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DBA0-5997-4244-AC37-70E6C79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76C7-5178-4901-9BA9-80A537A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625-2F61-4C50-8450-F89FDB4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D073-5CE3-4719-A01B-B73AFFB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EAF29-FC5F-4489-A61D-74A5487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00A9-80B7-44DA-ADDA-12A9944F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E5C0-96C6-4417-BCFF-14040E4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B6F9-D0E8-43B0-AEC8-1FD07D9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7ECA-792F-46BA-A9FC-0204B58D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CE7D-82CE-46EF-8FED-AAEF302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2965-B63B-4FD5-AACC-5712F52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67A7-AD88-4A7C-8459-BBCF85A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C2CBA-F1F3-4326-9ABB-8EC1D5B2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CBA-4BC3-4721-84B7-CDBA585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F090-4272-4AB7-91C8-A8D94D2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DBD8B-5096-4D86-BC35-2B58239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17CB2-D9DA-4D85-AD1B-03C68B47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7BD89-89D1-4A19-8288-CE46C33C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31C0D-CFA5-4D3C-A14A-62B94BA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4EF1-456A-49EF-AD6D-B24FEE48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0A2E-F3BA-48BB-99CE-E9942C25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C3E2-3305-4F7C-966B-8192CD1C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6397C-8BA5-4BC2-A64E-DD3C58DF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823BB-51E4-4C31-84E6-47B3111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C572-FF10-425F-860F-3C9D3F2D31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5AC2-EBDF-4015-8646-C0A4FD0FDC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28A-D6D6-445D-85C8-95399F1222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444-6D33-40DF-A2EE-6AB22ECEF4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7157-6A25-406D-B85A-A4B977CE7C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F6C-743A-4735-8550-F164CF5FB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541-336A-45E5-9C34-AF7FE959F2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5F7E-6683-410B-AE8C-3DBBF54827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35BC-8EDB-4EC0-8C23-8879A9B2EA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AE24-B496-4E45-8DF3-01BDA71C7A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B46-15FC-476F-B315-227A9EEF2D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FB15-50A0-4503-AAC5-C54ACC1914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C01D-5405-474D-8018-541BD1616B7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09D6-FD27-40AA-8E27-F5EC3C72FA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0C32-F2C2-45AF-9F5C-06844FD95F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97B-AEDB-4432-BF4F-C560AC4856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DE5-7135-46B0-8B70-B66E9CDB19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FED-3114-4274-9A73-050A89A98E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33E-411A-4265-AF55-735A116C6C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AB2-E43A-4F7F-8DBE-393F952C08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A61-B4BF-4014-BA6C-BC81D613A0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56E-3E65-4C74-B04D-495FDF4504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572-D25F-43CA-8E12-93C1E59625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A84-DE0C-44E4-B27B-2548971462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矩形 1" descr=""/>
          <p:cNvPicPr/>
          <p:nvPr/>
        </p:nvPicPr>
        <p:blipFill>
          <a:blip r:embed="rId2"/>
          <a:stretch/>
        </p:blipFill>
        <p:spPr>
          <a:xfrm>
            <a:off x="1620720" y="3090960"/>
            <a:ext cx="41277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2" descr=""/>
          <p:cNvPicPr/>
          <p:nvPr/>
        </p:nvPicPr>
        <p:blipFill>
          <a:blip r:embed="rId1"/>
          <a:stretch/>
        </p:blipFill>
        <p:spPr>
          <a:xfrm>
            <a:off x="-3240" y="-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矩形 4" descr=""/>
          <p:cNvPicPr/>
          <p:nvPr/>
        </p:nvPicPr>
        <p:blipFill>
          <a:blip r:embed="rId2"/>
          <a:stretch/>
        </p:blipFill>
        <p:spPr>
          <a:xfrm>
            <a:off x="2193840" y="1871640"/>
            <a:ext cx="37990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21:33:00Z</dcterms:created>
  <dc:creator>0038315</dc:creator>
  <dc:description/>
  <dc:language>en-US</dc:language>
  <cp:lastModifiedBy>SoPPT.com</cp:lastModifiedBy>
  <dcterms:modified xsi:type="dcterms:W3CDTF">2015-01-12T01:57:07Z</dcterms:modified>
  <cp:revision>1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