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D22-661F-4285-809E-9186B3DD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04F-C862-45C5-AE05-A39B2230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CA6-0180-4A7D-BC57-F55BFB96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193-DAE6-4A0D-90FF-0A30D753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A07-1D67-4E46-BC3D-51AB9ED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32A-FE03-4D53-BF06-52FFED0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250-DCD0-40EC-B7BE-77734A98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F8B-DA0D-4D08-BBDE-4A74A2D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028-B78C-4A51-8089-72AA1704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897-66AF-4F6D-9AC3-E3C34E9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039-17C6-420C-85C6-7F4A6E9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6FC-B636-4116-B0EB-A3202C3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784-0CCF-45CA-A552-258DF7F51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8560" y="404640"/>
            <a:ext cx="43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小红帽 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little red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21440" cy="3948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 rot="10800000">
            <a:off x="1260000" y="47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前有个可爱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little gir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她总是戴着一顶漂亮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little red h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所以大家都叫她“小红帽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天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moth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小红帽说：“小红帽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grandma is i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快给她送些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cak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ut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去吧。在路上要好好走，不要跑。也不要离开大路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e good. Be caref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17360"/>
            <a:ext cx="6840720" cy="441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581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住在村子外面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for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里。小红帽走啊走啊，刚走进森林，就碰到一匹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wol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ell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小红帽。”狼问道：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where are you go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ello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Mr.wol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”小红帽不知道狼是坏家伙，老实回答说：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I am going to my grandma's ho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篮子里面有什么呀，小红帽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cak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utter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怜的奶奶生了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需要吃一些好东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奶奶住在哪里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林子里那三棵大橡树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围着核桃树篱笆的就是奶奶的房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6308640" cy="4069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 rot="10800000">
            <a:off x="250920" y="4436640"/>
            <a:ext cx="86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心里打着坏主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"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小姑娘细皮嫩肉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味道肯定比老太婆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要想个办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这两个都吃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是它假惺惺地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"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看看周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flow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得多么漂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ir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唱得多么动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干吗不多玩一会儿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看看森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阳光在枝叶间游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丽的花儿四处开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摘把鲜花给奶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会多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app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是她一路摘着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知不觉走到了森林深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477720"/>
            <a:ext cx="5761080" cy="3714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8720" y="4653000"/>
            <a:ext cx="768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离开小红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接跑到奶奶家门口敲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ang bang ba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who is it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it's 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回答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open the door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给你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come 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有气无力地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身上没有力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起不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一把拉起门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冲到奶奶的床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口把奶奶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eat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肚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它拉上窗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穿上奶奶的衣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戴上奶奶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躺到了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117360"/>
            <a:ext cx="6192720" cy="4083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4508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在森林里跑来跑去地摘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到她的小篮子装不下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才重新上路去奶奶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奶奶家门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门开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感到奇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走进屋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声说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good morning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是没有听到回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屋里又潮又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觉得有点害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走到床前拉开帘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见奶奶躺在床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帽子拉得低低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脸都遮住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样子非常奇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120000" cy="3948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4149720"/>
            <a:ext cx="843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"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ow are you,grand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"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e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怎么变得这样大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是为了更好地听你说话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宝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是奶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ey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怎么也变得这样大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又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是为了更清楚地看你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宝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an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怎么也变得这样大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样可以更好地抱着你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宝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mou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怎么大得很吓人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样可以一口把你吃掉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不等把话说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从床上跳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小红帽吞进了肚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337440" cy="40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4724280"/>
            <a:ext cx="84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吃饱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抹抹嘴重新躺到床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着呼噜睡着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un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碰巧经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见老大的呼噜声觉得很奇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进屋一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居然是一只狼睡在床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这老坏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猎人大吃一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准备向狼开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忽然看见狼圆鼓鼓的肚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想了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下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起一把剪刀把狼的肚子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c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刚剪了两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就跳了出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剪了两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也喘着气出来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个人都叫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真可怕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肚子里黑漆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409080" cy="4132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450864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在怎么办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跑去搬来几块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big ston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塞进狼的肚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找来针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狼的肚子缝了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狼醒来看见猎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赶紧逃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是那些石头太重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跑了没两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跌进屋外的井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淹死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个人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happ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极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猎人拖着狼回家去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吃了小红帽带来的蛋糕和黄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神好多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红帽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送给她好多又香又甜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strawber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提着满满一篮子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strawber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高兴兴地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go ho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5-07-29T07:24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