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EFE-96BD-434D-B40A-5F196A58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D6B-75A8-49AD-B900-0A05E818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64EE-AADE-452B-B9EB-4CE681F9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DD8-1F4B-4678-9251-C2F82603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3D9A-B55F-4770-845A-F6462566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2F55-5EF7-412B-B74E-6D017BD5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8F15-0DF4-468E-8AA6-17167715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E079-7F5F-4627-A80E-9E0EE6C9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3B3D-E50C-4AB1-8F8A-5D35B38C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5CAC-78EE-46C1-B06F-DC8539B1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0C4F-F75B-4C72-AA2F-43A93921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859-ADA9-4D2C-B1EE-329807C6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0F85-B8CF-44A4-B055-10B57893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6B77-5D22-432A-85E4-A5F2ADC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254C-E621-435C-BF26-2A496034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F70B-D643-41B5-A26D-150BBC7E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F900-3360-4DBC-B7AD-82985977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AFE-8464-477C-954F-F8CC54BB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170-8086-46D6-B169-63BC786F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8BC-260E-432F-9ABA-62710B8C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986-2F86-46AD-AD7B-E1C03D6F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C60-22DD-4C40-8694-B0741AE6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0BB-4405-4701-B817-279AF37C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4FE-F23E-4C6E-BDC7-FE8B66A7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BCA1-C832-45FF-A8B0-27419144589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AC13-CC4F-48A8-9088-992F753E20A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743200" y="48769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宋 学 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71640" y="2133720"/>
            <a:ext cx="5040360" cy="17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柳叶儿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35280" y="981000"/>
            <a:ext cx="25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835280" y="981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35280" y="981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835280" y="981000"/>
            <a:ext cx="25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35280" y="981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>
            <a:grayscl/>
            <a:lum contrast="-12000"/>
          </a:blip>
          <a:srcRect l="5832" t="9706" r="4995" b="91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grayscl/>
          </a:blip>
          <a:srcRect l="2494" t="3282" r="2494" b="5669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35280" y="981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24720" y="580536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18344" y="10800"/>
                </a:moveTo>
                <a:lnTo>
                  <a:pt x="7838" y="17806"/>
                </a:lnTo>
                <a:lnTo>
                  <a:pt x="7838" y="3794"/>
                </a:lnTo>
                <a:close/>
              </a:path>
              <a:path fill="darken" w="29690" h="21600">
                <a:moveTo>
                  <a:pt x="20189" y="3794"/>
                </a:moveTo>
                <a:lnTo>
                  <a:pt x="20189" y="17806"/>
                </a:lnTo>
                <a:lnTo>
                  <a:pt x="21851" y="17806"/>
                </a:lnTo>
                <a:lnTo>
                  <a:pt x="21851" y="3794"/>
                </a:lnTo>
                <a:close/>
              </a:path>
            </a:pathLst>
          </a:custGeom>
          <a:solidFill>
            <a:srgbClr val="7499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教学目标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体会作者童年的“苦”与“乐”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认识过去的童年，了解时代的变迁，珍惜今天来之不易的生活，憧憬美好的明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作者为什么童年时代认为抢吃柳叶儿是快乐的事，而成年后却品出柳叶儿苦中带涩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说说人们过去和现在吃野菜，树叶的区别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你从这篇课文得到了什么启示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0440" y="249120"/>
            <a:ext cx="912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幼圆"/>
              </a:rPr>
              <a:t>积累学习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说说你所知道的咏柳的诗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板书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恋柳叶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抢柳叶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吃柳叶儿                 苦中带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咏柳叶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景物描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76360" y="2060640"/>
            <a:ext cx="75596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捋        噌   噌          兀  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蹭        攥      咔   嚓     逞  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飕   飕    嚼碎       咀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5640" y="1484280"/>
            <a:ext cx="5832000" cy="2750400"/>
            <a:chOff x="755640" y="1484280"/>
            <a:chExt cx="5832000" cy="2750400"/>
          </a:xfrm>
        </p:grpSpPr>
        <p:sp>
          <p:nvSpPr>
            <p:cNvPr id="87" name=""/>
            <p:cNvSpPr/>
            <p:nvPr/>
          </p:nvSpPr>
          <p:spPr>
            <a:xfrm>
              <a:off x="846360" y="369648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ō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33400" y="253476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28080" y="375012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iá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68440" y="151092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ē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26280" y="256176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k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70240" y="256176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zuà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22680" y="253476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ě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44560" y="151092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uō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71240" y="148428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5640" y="256176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è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0960" y="151092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ē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42760" y="369648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ō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53400" y="377496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ué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1258920" y="477720"/>
            <a:ext cx="691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33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扫除阅读拦路虎</a:t>
            </a:r>
            <a:endParaRPr b="0" lang="en-US" sz="2400" spc="1" strike="noStrike">
              <a:ln w="0">
                <a:noFill/>
              </a:ln>
              <a:solidFill>
                <a:srgbClr val="3333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幼圆"/>
              </a:rPr>
              <a:t>速读课文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用一句话概括文章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根据所给提纲，讲述课文内容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对柳叶儿的特殊感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回忆小时侯爬高抢柳叶儿和吃柳叶儿的往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再抒对柳叶儿的特殊感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幼圆"/>
              </a:rPr>
              <a:t>独立思考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作者围绕“柳叶儿”从哪几方面来写童年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试着用一个表示动作的字概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恋柳叶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抢柳叶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吃柳叶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咏柳叶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172360" y="5661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7499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2440" t="3253" r="0" b="2436"/>
          <a:stretch/>
        </p:blipFill>
        <p:spPr>
          <a:xfrm>
            <a:off x="0" y="0"/>
            <a:ext cx="9144000" cy="75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软件仓库</cp:lastModifiedBy>
  <dcterms:modified xsi:type="dcterms:W3CDTF">2006-03-18T11:19:10Z</dcterms:modified>
  <cp:revision>10</cp:revision>
  <dc:subject/>
  <dc:title>PowerPoint Presentation</dc:title>
</cp:coreProperties>
</file>