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75c8"/>
                </a:solidFill>
                <a:latin typeface="Tempus Sans ITC"/>
              </a:rPr>
              <a:t>Click to move the slide</a:t>
            </a:r>
            <a:endParaRPr b="1" lang="en-US" sz="3200" spc="-1" strike="noStrike">
              <a:solidFill>
                <a:srgbClr val="cd75c8"/>
              </a:solidFill>
              <a:latin typeface="Tempus Sans IT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C1D1-7C71-450E-95BD-3760E6DA28E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模板来自于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ttp://docer.mysoeasy.com</a:t>
            </a: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CF79-A30C-4092-A4B5-CB95CB5D4440}" type="slidenum">
              <a:rPr b="0" lang="zh-CN" sz="1200" spc="-1" strike="noStrike">
                <a:solidFill>
                  <a:srgbClr val="4b4d4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4b4d4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模板来自于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ttp://docer.mysoeasy.com</a:t>
            </a: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C472-32B1-46DF-A89F-A7D34DE9C014}" type="slidenum">
              <a:rPr b="0" lang="zh-CN" sz="1200" spc="-1" strike="noStrike">
                <a:solidFill>
                  <a:srgbClr val="4b4d4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4b4d4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ED4-D103-4DE7-B52B-391D2479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60C-5396-41A2-9EC5-00CCF59B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CDF-51AA-4B38-85F7-ABD2BF86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BED-D8EA-423A-B625-AC37A765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6DF2-5EC8-40A8-B9A9-292D45CA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01B4-BA8C-4670-A276-9665D2EE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6792-AC58-4190-9C2B-A3401609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058C-4413-4B52-844A-A9A20DDE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0415-E0D9-4196-A03C-B19EE493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58720" y="284040"/>
            <a:ext cx="73072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3C51-C4DF-4DE8-B3A9-97888254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9C3F-03DD-4A92-BA77-92E06BB9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03A-6E26-4AF0-AE10-022BCD67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6CD0-B6F6-4C36-B2A6-94584800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DE5-DB19-42DA-99D7-F82E302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DBB0-6C07-4DD6-8B95-71F21B84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CA3E-B318-4F07-B1F7-DAA6BFEC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F280-EE50-488D-A761-9D003941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B51-1A42-4E93-BA30-660C5782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7B7-89C6-46F7-B75B-51290B8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EFC-B131-4B97-88A6-C6015DB8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8720" y="284040"/>
            <a:ext cx="73072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2EC-F0C0-4E7D-A63E-2C8DF765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AE2-C56E-440A-9E43-92A63F8F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164-4E1F-455E-8B82-79C8BA1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209-B1A6-40C6-A556-4AA5020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-3348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f91e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96b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96b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96b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96b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96b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96b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96b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696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69697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ED05-44FC-4955-84B3-3B6506BEDBA9}" type="slidenum">
              <a:rPr b="0" lang="zh-CN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296b"/>
                </a:solidFill>
                <a:latin typeface="Tempus Sans ITC"/>
              </a:rPr>
              <a:t>Click to edit the title text format</a:t>
            </a: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g1"/>
          <p:cNvPicPr/>
          <p:nvPr/>
        </p:nvPicPr>
        <p:blipFill>
          <a:blip r:embed="rId2"/>
          <a:srcRect l="0" t="7972" r="8065" b="0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696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69697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4CFA-72C6-467F-ACBF-5071B947CB84}" type="slidenum">
              <a:rPr b="0" lang="zh-CN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830160" y="3958920"/>
            <a:ext cx="5523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75c8"/>
                </a:solidFill>
                <a:latin typeface="Tempus Sans ITC"/>
              </a:rPr>
              <a:t>Click to edit the title text format</a:t>
            </a:r>
            <a:endParaRPr b="1" lang="en-US" sz="3200" spc="-1" strike="noStrike">
              <a:solidFill>
                <a:srgbClr val="cd75c8"/>
              </a:solidFill>
              <a:latin typeface="Tempus Sans IT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Calibri"/>
            </a:endParaRPr>
          </a:p>
          <a:p>
            <a:pPr lvl="1" indent="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4b4d4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d4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b4d4f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4b4d4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4b4d4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0160" y="3958920"/>
            <a:ext cx="5523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c767c2"/>
              </a:solidFill>
              <a:latin typeface="Tempus Sans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17560" y="5207040"/>
            <a:ext cx="55245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8720" y="284040"/>
            <a:ext cx="730728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296b"/>
              </a:solidFill>
              <a:latin typeface="Tempus Sans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29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6-17T02:57:00Z</dcterms:modified>
  <cp:revision>126</cp:revision>
  <dc:subject/>
  <dc:title>fdsa</dc:title>
</cp:coreProperties>
</file>