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5.gif" ContentType="image/gif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2C4-C0D7-4F06-BF5C-3FFEF7CE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3ED-279B-487E-9EFA-1AD2D3F1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047-0AFF-4365-B594-1091F0C4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02B-215F-4764-948B-F9E00A70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F144-896A-4EC7-AFB4-6C42CF1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D99B-58AB-481D-A047-9A86067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B686-0D0D-4DEC-9919-929E2CD6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850A-E1FE-4557-AD72-0693475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B22-7408-4AA9-9F64-682CA68E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383C-9CA5-4C53-AFC4-AA44244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74B-AF67-419F-B4FC-4985A9A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411-2992-44B8-961B-ADA03AF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E123-0790-464A-96C1-33B1482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854-07DF-4F7E-A0A9-6296DD6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B50-4426-487F-B0FC-382FD68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4125-5D84-4E62-B1FF-40F2C22E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91D-C54C-481B-AF19-5F291A49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8AF-F21F-4B7C-BEF8-353159D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121-A485-461B-A325-0F15F7F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9EA-CC68-4F29-9055-1A558B67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162-68D5-4CEE-8F14-756623C6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13B-5799-4C24-9F44-8BCA25B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E18-962D-4613-BBA0-8B771E2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6E7-6446-4F41-98A6-E143F34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91A-0B5F-4260-9D62-B2C68678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56F-4404-486F-A14A-C6C03156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../&#35838;&#20214;2/&#38632;&#38678;&#38083;/&#24352;&#21674;&#8230;&#8230;&#28766;&#26725;&#26611;.mp3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18,&#24187;&#28783;&#29255; 18" TargetMode="External"/><Relationship Id="rId3" Type="http://schemas.openxmlformats.org/officeDocument/2006/relationships/hyperlink" Target="309,19,&#24187;&#28783;&#29255; 19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04920" y="152280"/>
            <a:ext cx="8686800" cy="73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灞桥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宋体"/>
                <a:hlinkClick r:id="rId3"/>
              </a:rPr>
              <a:t>张咪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灞桥柳，灞桥柳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拂不去烟尘系不住愁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人在阳春，心在那深秋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知无奈的风霜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它怎样在我脸上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灞桥柳，灞桥柳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遮得住泪眼牵不住手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人在梦中，心在那别后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知古老的秦腔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它并非只是一杯酒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啊，灞桥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1066680"/>
            <a:ext cx="8540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隶书"/>
                <a:ea typeface="隶书"/>
              </a:rPr>
              <a:t>    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寒蝉凄切，对长亭晚，骤雨初歇。都门帐饮无绪，留恋处，兰舟催发。执手相看泪眼，竟无语凝噎。念去去千里烟波，暮霭沈沈楚天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隶书"/>
                <a:ea typeface="隶书"/>
              </a:rPr>
              <a:t>    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多情自古伤离别。更那堪冷落清秋节！今宵酒醒何处？杨柳岸晓风残月。此去经年，应是良辰好景虚设。便纵有千种风情，更与何人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3808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雨霖铃 柳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088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作者描写了哪些景物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?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这些景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寄予了作者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怎样理解“今宵酒醒何处？杨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岸晓风残月”这个千古名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64600" y="304920"/>
            <a:ext cx="1826640" cy="9169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自主探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0" y="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宋体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1523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离别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离别场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495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此去行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82880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Times New Roman"/>
                <a:hlinkClick r:id="rId2"/>
              </a:rPr>
              <a:t>寒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182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长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骤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烟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57600" y="4800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暮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00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楚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24800" y="2209680"/>
            <a:ext cx="1185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离别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5280" y="457200"/>
            <a:ext cx="7391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离别时难分难舍的心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3200400"/>
            <a:ext cx="4876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无绪催发  </a:t>
            </a:r>
            <a:r>
              <a:rPr b="0" lang="zh-CN" sz="3600" spc="-1" strike="noStrike" u="sng">
                <a:solidFill>
                  <a:srgbClr val="0066cc"/>
                </a:solidFill>
                <a:uFillTx/>
                <a:latin typeface="宋体"/>
                <a:hlinkClick r:id="rId3"/>
              </a:rPr>
              <a:t>泪眼无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948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凄切悲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3581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难分难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105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惆怅伤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66320" y="266688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融情入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86400" y="175248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实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62720" y="480060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（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705720" y="4419720"/>
            <a:ext cx="457200" cy="60948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6705720" y="2133360"/>
            <a:ext cx="457200" cy="60948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572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上阕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848720" y="6095880"/>
            <a:ext cx="990360" cy="533520"/>
          </a:xfrm>
          <a:custGeom>
            <a:avLst/>
            <a:gdLst>
              <a:gd name="textAreaLeft" fmla="*/ 33120 w 990360"/>
              <a:gd name="textAreaRight" fmla="*/ 957240 w 99036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733" y="1350"/>
                </a:lnTo>
                <a:lnTo>
                  <a:pt x="1350" y="135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733" y="20250"/>
                </a:lnTo>
                <a:lnTo>
                  <a:pt x="38733" y="135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33" y="2025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83" h="21600">
                <a:moveTo>
                  <a:pt x="12998" y="3756"/>
                </a:moveTo>
                <a:lnTo>
                  <a:pt x="27085" y="10800"/>
                </a:lnTo>
                <a:lnTo>
                  <a:pt x="12998" y="17844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00800" y="6019920"/>
            <a:ext cx="990720" cy="533160"/>
          </a:xfrm>
          <a:custGeom>
            <a:avLst/>
            <a:gdLst>
              <a:gd name="textAreaLeft" fmla="*/ 33120 w 990720"/>
              <a:gd name="textAreaRight" fmla="*/ 957600 w 9907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75" y="1350"/>
                </a:lnTo>
                <a:lnTo>
                  <a:pt x="1350" y="135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75" y="20250"/>
                </a:lnTo>
                <a:lnTo>
                  <a:pt x="38775" y="135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75" y="2025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125" h="21600">
                <a:moveTo>
                  <a:pt x="13019" y="3756"/>
                </a:moveTo>
                <a:lnTo>
                  <a:pt x="27106" y="10800"/>
                </a:lnTo>
                <a:lnTo>
                  <a:pt x="13019" y="17844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05160" y="-228600"/>
            <a:ext cx="4938840" cy="70866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28600" y="49528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336600"/>
                </a:solidFill>
                <a:latin typeface="隶书"/>
                <a:ea typeface="隶书"/>
              </a:rPr>
              <a:t>流泪眼看流泪眼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隶书"/>
                <a:ea typeface="隶书"/>
              </a:rPr>
              <a:t>断肠人对断肠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-740160" y="152280"/>
            <a:ext cx="2754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执手相看泪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竟无语凝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92324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红楼梦》第三十四回写宝玉受贾政鞭笞之后黛玉去看他时，有这样一段描写：“</a:t>
            </a:r>
            <a:r>
              <a:rPr b="1" lang="zh-CN" sz="3600" spc="-1" strike="noStrike">
                <a:solidFill>
                  <a:srgbClr val="e40000"/>
                </a:solidFill>
                <a:latin typeface="隶书"/>
                <a:ea typeface="隶书"/>
              </a:rPr>
              <a:t>此时林黛玉虽不是嚎啕大哭，然越是这等无声之泣，气噎喉堵，更觉得利害。听了这番话，心中虽然有万句言词，只是不能说得，半日，方抽抽噎噎的说道：‘你从此可都改了罢！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虽然后来黛玉终于说出了一句话，但这段描写正可以说明为什么会“无语凝噎”的道理。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772400" y="6095880"/>
            <a:ext cx="1066680" cy="533520"/>
          </a:xfrm>
          <a:custGeom>
            <a:avLst/>
            <a:gdLst>
              <a:gd name="textAreaLeft" fmla="*/ 33120 w 1066680"/>
              <a:gd name="textAreaRight" fmla="*/ 1033560 w 10666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821" y="1350"/>
                </a:lnTo>
                <a:lnTo>
                  <a:pt x="1350" y="135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821" y="20250"/>
                </a:lnTo>
                <a:lnTo>
                  <a:pt x="41821" y="135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21" y="2025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71" h="21600">
                <a:moveTo>
                  <a:pt x="14542" y="10800"/>
                </a:moveTo>
                <a:lnTo>
                  <a:pt x="28629" y="3756"/>
                </a:lnTo>
                <a:lnTo>
                  <a:pt x="28629" y="17844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572000" y="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宋体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4360" y="4762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想象中的别后情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40680" y="2819520"/>
            <a:ext cx="1003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思念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3124080"/>
            <a:ext cx="27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今宵酒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此去经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3828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杨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晓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3200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0" y="4572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好景虚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风情难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3657600"/>
            <a:ext cx="23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酒醒伤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0072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惨不成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67652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过     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1676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伤离别              清秋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9360" y="1870200"/>
            <a:ext cx="73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7760" y="327672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因情造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694920" y="3276720"/>
            <a:ext cx="127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情景交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867280" y="3352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095880" y="4343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0880" y="4572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下阕</a:t>
            </a:r>
            <a:r>
              <a:rPr b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395280" y="184356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  <a:ea typeface="隶书"/>
              </a:rPr>
              <a:t>       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下阕</a:t>
            </a:r>
            <a:r>
              <a:rPr b="1" i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词人撷取中国古典诗词中常见的哪些典型意象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4221000"/>
            <a:ext cx="756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典型意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酒、柳、</a:t>
            </a: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月、</a:t>
            </a:r>
            <a:r>
              <a:rPr b="1" i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0880" y="457200"/>
            <a:ext cx="12528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方正舒体"/>
              </a:rPr>
              <a:t>酒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03" name=""/>
          <p:cNvSpPr/>
          <p:nvPr/>
        </p:nvSpPr>
        <p:spPr>
          <a:xfrm>
            <a:off x="1708200" y="3789360"/>
            <a:ext cx="7893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主人下马客在船，举酒欲饮无管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醉不成欢惨将别，别时茫茫江浸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居易《琵琶行》（离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63640" y="1844640"/>
            <a:ext cx="738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抽刀断水水更流，举酒消愁愁更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《宣州谢  楼饯别校书叔云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285264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Verdana"/>
              </a:rPr>
              <a:t>艰难苦恨烦霜鬓，潦倒新停浊酒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杜甫《登高》（身世之愁，亡国之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19810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cc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9600" y="3581280"/>
            <a:ext cx="118584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Verdana"/>
                <a:ea typeface="隶书"/>
              </a:rPr>
              <a:t>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99520" y="1981080"/>
            <a:ext cx="60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85800" y="1676160"/>
            <a:ext cx="79246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0880" y="685800"/>
            <a:ext cx="13716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方正舒体"/>
              </a:rPr>
              <a:t>柳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方正舒体"/>
              <a:ea typeface="方正舒体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26668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昔我往矣，杨柳依依；今我来思，雨雪霏霏。　　　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                     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《诗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38280" y="4419720"/>
            <a:ext cx="717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渭城朝雨浥轻尘， 客舍青青柳色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         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王维《送元二使安西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7120" y="251460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Verdana"/>
              </a:rPr>
              <a:t>谐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1600" y="23623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9f9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0"/>
            <a:ext cx="69343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古人有折柳送行的风俗。折柳赠人是希望对方留下来。离别的人一见杨柳，就会想起离别时依依不舍的场面，心中就会涌起一缕缕离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90720" y="4038480"/>
            <a:ext cx="990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留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838080" y="1981080"/>
            <a:ext cx="7620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653560" y="2133720"/>
            <a:ext cx="52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月有阴晴圆缺，人有悲欢离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211"/>
                </a:solidFill>
                <a:latin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43200" y="304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月有阴晴圆缺，人有悲欢离合。月是离合的象征，何况是残缺不全的月，最易引起词人的愁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17524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f9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08880" y="1905120"/>
            <a:ext cx="60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00960" y="3124080"/>
            <a:ext cx="200916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Verdana"/>
                <a:ea typeface="华文行楷"/>
              </a:rPr>
              <a:t>离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3520" y="228600"/>
            <a:ext cx="1218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方正舒体"/>
              </a:rPr>
              <a:t>月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方正舒体"/>
              <a:ea typeface="方正舒体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1600200"/>
            <a:ext cx="7619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3657600"/>
            <a:ext cx="6324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琵琶行》几个地方写到月：</a:t>
            </a:r>
            <a:r>
              <a:rPr b="0" lang="en-US" sz="2800" spc="-1" strike="noStrike">
                <a:solidFill>
                  <a:srgbClr val="0022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醉不成欢惨将别，别时茫茫江浸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去来江口守空船，绕船月明江水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春江花朝秋月夜，往往取酒还独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-360" y="3657240"/>
            <a:ext cx="884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回忆你所知道的送别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82880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“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黯然销魂者，唯别而已矣！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419720" y="342900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江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53352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cccc00"/>
                </a:solidFill>
                <a:latin typeface="方正舒体"/>
              </a:rPr>
              <a:t>风</a:t>
            </a:r>
            <a:endParaRPr b="0" lang="en-US" sz="4000" spc="-1" strike="noStrike">
              <a:ln w="9360">
                <a:solidFill>
                  <a:srgbClr val="993300"/>
                </a:solidFill>
                <a:miter/>
              </a:ln>
              <a:solidFill>
                <a:srgbClr val="cccc00"/>
              </a:solidFill>
              <a:latin typeface="方正舒体"/>
              <a:ea typeface="方正舒体"/>
            </a:endParaRPr>
          </a:p>
        </p:txBody>
      </p:sp>
      <p:sp>
        <p:nvSpPr>
          <p:cNvPr id="627" name=""/>
          <p:cNvSpPr/>
          <p:nvPr/>
        </p:nvSpPr>
        <p:spPr>
          <a:xfrm>
            <a:off x="2590920" y="205740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风急天高猿啸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渚清沙白鸟飞回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211"/>
                </a:solidFill>
                <a:latin typeface="Arial"/>
              </a:rPr>
              <a:t>　　　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杜甫《登高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2266920" cy="3330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286000" y="2286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211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2211"/>
                </a:solidFill>
                <a:latin typeface="Arial"/>
                <a:ea typeface="华文新魏"/>
              </a:rPr>
              <a:t>古语有云：自古逢秋悲寂寥。秋天是特别让人伤感的季节。晓风轻拂，带来的并不是快意，而是凉意，凄凉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f9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 rot="5400000">
            <a:off x="228240" y="4191120"/>
            <a:ext cx="27432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悲凉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2" name=""/>
          <p:cNvSpPr/>
          <p:nvPr/>
        </p:nvSpPr>
        <p:spPr>
          <a:xfrm>
            <a:off x="403200" y="2057400"/>
            <a:ext cx="58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3886200"/>
            <a:ext cx="4343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风萧萧兮易水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壮士一去兮不复还！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史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刺客列传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怎样理解“今宵酒醒何处？杨柳岸晓风残月”这个千古名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rcRect l="12961" t="5132" r="6574" b="6411"/>
          <a:stretch/>
        </p:blipFill>
        <p:spPr>
          <a:xfrm>
            <a:off x="380880" y="1447920"/>
            <a:ext cx="3124440" cy="48765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733920" y="190512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．把杨柳、风、月这三件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能触动离愁的事物集中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一幅鲜明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79720" y="304920"/>
            <a:ext cx="1643760" cy="8251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36504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今宵酒醒何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杨柳岸晓风残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06840" y="365760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800000"/>
                </a:solidFill>
                <a:latin typeface="华文新魏"/>
                <a:ea typeface="华文新魏"/>
              </a:rPr>
              <a:t>此画面出现在特定的时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52880" y="411480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——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酒醒”之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128320" y="312840"/>
            <a:ext cx="563004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这首词以冷落的秋景作衬托，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心刻画难分难舍的惜别场景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，进而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象别后的离愁别恨，层层铺写，情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相生，</a:t>
            </a:r>
            <a:r>
              <a:rPr b="0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反映作者对社会现实的抑郁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满的心情。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作为封建时代的文人，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伤身世，慨叹自己不能作生活的主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抒情尽管真实，而情调未免凄怆；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现实尽管忧愤，而意志未免消沉，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是受时代局限的反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96080" y="61722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129528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看看我们高一</a:t>
            </a: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班的词人咯！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如梦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华文行楷"/>
              </a:rPr>
              <a:t>                        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行楷"/>
              </a:rPr>
              <a:t>李春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十里长亭梁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想时朝念至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七夕会鹊桥，情长流水瀑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断不？断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此情可待归路。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920" y="518148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609840" y="380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华文新魏"/>
              </a:rPr>
              <a:t>如梦令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回顾往昔幕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无语泪下如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送君至长亭，他日相见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切勿！切勿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举杯难以消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838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何艳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225800" y="544680"/>
            <a:ext cx="2238120" cy="9169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今天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72040" y="190512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、背诵这首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97280" y="3352680"/>
            <a:ext cx="4984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、自选意象，写一首离别词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不要超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新魏"/>
              </a:rPr>
              <a:t>20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行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0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隶书"/>
                <a:ea typeface="隶书"/>
              </a:rPr>
              <a:t>春夜洛城闻笛  </a:t>
            </a:r>
            <a:br>
              <a:rPr sz="4800"/>
            </a:br>
            <a:r>
              <a:rPr b="0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李白 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谁家玉笛暗飞声，散入春风满洛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此夜曲中闻折柳，何人不起故园情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前人在评论这首诗时曾说，“折柳”二字是全诗的关键。诗中“折柳”的寓意是什么？你是否同意“关键”之说？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答： “折柳”这首曲子寓有惜别怀远之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我同意“关键”之说；本诗抒写了思乡之情，而这种思乡之情是从听 到“折柳”曲的笛声引起的，可见“折柳”是全诗的关键。</a:t>
            </a:r>
            <a:r>
              <a:rPr b="0" lang="en-US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71600" cy="8157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 rot="5400000">
            <a:off x="-533520" y="1219320"/>
            <a:ext cx="243864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直面高考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华文新魏"/>
                <a:ea typeface="华文新魏"/>
              </a:rPr>
              <a:t>赠汪伦</a:t>
            </a:r>
            <a:br>
              <a:rPr sz="5400"/>
            </a:br>
            <a:r>
              <a:rPr b="0" lang="zh-CN" sz="5400" spc="-1" strike="noStrike">
                <a:solidFill>
                  <a:srgbClr val="e40000"/>
                </a:solidFill>
                <a:latin typeface="华文新魏"/>
                <a:ea typeface="华文新魏"/>
              </a:rPr>
              <a:t>李 白  </a:t>
            </a: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48160" y="3246480"/>
            <a:ext cx="29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送元二使安西</a:t>
            </a:r>
            <a:br>
              <a:rPr sz="4000"/>
            </a:br>
            <a:r>
              <a:rPr b="1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王维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19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523880" y="1523880"/>
            <a:ext cx="6400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渭城朝雨浥轻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客舍青青柳色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劝君更进一杯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西出阳关无故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603440" y="2464920"/>
            <a:ext cx="100332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隶书"/>
                <a:ea typeface="隶书"/>
              </a:rPr>
              <a:t>—— </a:t>
            </a:r>
            <a:r>
              <a:rPr b="0" lang="zh-CN" sz="5400" spc="-1" strike="noStrike">
                <a:solidFill>
                  <a:srgbClr val="d60093"/>
                </a:solidFill>
                <a:latin typeface="隶书"/>
                <a:ea typeface="隶书"/>
              </a:rPr>
              <a:t>柳 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3886200" y="304920"/>
            <a:ext cx="4398840" cy="65530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114800" y="838080"/>
            <a:ext cx="3981600" cy="54864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518" name=""/>
          <p:cNvSpPr/>
          <p:nvPr/>
        </p:nvSpPr>
        <p:spPr>
          <a:xfrm>
            <a:off x="-1153800" y="609480"/>
            <a:ext cx="3106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雨霖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词出现于唐、五代时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5800" y="2590920"/>
            <a:ext cx="1600200" cy="2438280"/>
            <a:chOff x="685800" y="2590920"/>
            <a:chExt cx="1600200" cy="2438280"/>
          </a:xfrm>
        </p:grpSpPr>
        <p:sp>
          <p:nvSpPr>
            <p:cNvPr id="521" name=""/>
            <p:cNvSpPr/>
            <p:nvPr/>
          </p:nvSpPr>
          <p:spPr>
            <a:xfrm>
              <a:off x="685800" y="34290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宋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05120" y="2590920"/>
              <a:ext cx="380880" cy="2438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438280" y="2133720"/>
            <a:ext cx="22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00"/>
                </a:solidFill>
                <a:latin typeface="Times New Roman"/>
                <a:ea typeface="隶书"/>
              </a:rPr>
              <a:t>豪放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4572000"/>
            <a:ext cx="22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00"/>
                </a:solidFill>
                <a:latin typeface="Times New Roman"/>
                <a:ea typeface="隶书"/>
              </a:rPr>
              <a:t>婉约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228600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（写对社会生活的种种观察与感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43400" y="472428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（以写闺情、离愁为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3429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苏轼 、辛弃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柳永、李清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58128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永（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87——105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北宋词人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名三变，字景庄；后改名永，字耆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与兄三复、三接并有文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柳氏三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建崇安人。官屯田员外郎，世称柳七、柳屯田。为人放荡不羁，终身潦倒。其词多描绘城市风光和歌伎生活，尤其长于抒写羁旅行役之情。创作慢词，铺叙刻画，情景交融，语言通俗，音律谐婉，在当时流传很广，“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凡有井水饮处，皆能歌柳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，有《乐章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038480" y="4419720"/>
            <a:ext cx="480060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3962520"/>
            <a:ext cx="48006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38480" y="4876920"/>
            <a:ext cx="91440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133720" y="16765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4800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宋仁宗：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且去浅斟低唱，何要浮名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63080" y="142920"/>
            <a:ext cx="1521720" cy="7642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相关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1447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  <a:ea typeface="隶书"/>
              </a:rPr>
              <a:t>       </a:t>
            </a: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隶书"/>
              </a:rPr>
              <a:t>忍把浮名，换了浅斟低唱。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19810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3276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辛弃疾《鹤冲天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2">
            <a:grayscl/>
          </a:blip>
          <a:srcRect l="0" t="0" r="0" b="53676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74516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29400" y="5410080"/>
            <a:ext cx="1600200" cy="838440"/>
          </a:xfrm>
          <a:custGeom>
            <a:avLst/>
            <a:gdLst>
              <a:gd name="textAreaLeft" fmla="*/ 52200 w 1600200"/>
              <a:gd name="textAreaRight" fmla="*/ 1548000 w 160020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41216" h="21600">
                <a:moveTo>
                  <a:pt x="0" y="0"/>
                </a:moveTo>
                <a:lnTo>
                  <a:pt x="41216" y="0"/>
                </a:lnTo>
                <a:lnTo>
                  <a:pt x="41216" y="21600"/>
                </a:lnTo>
                <a:lnTo>
                  <a:pt x="0" y="21600"/>
                </a:lnTo>
                <a:close/>
              </a:path>
              <a:path fill="lightenLess" w="41216" h="21600">
                <a:moveTo>
                  <a:pt x="0" y="0"/>
                </a:moveTo>
                <a:lnTo>
                  <a:pt x="41216" y="0"/>
                </a:lnTo>
                <a:lnTo>
                  <a:pt x="39866" y="1350"/>
                </a:lnTo>
                <a:lnTo>
                  <a:pt x="1350" y="1350"/>
                </a:lnTo>
                <a:close/>
              </a:path>
              <a:path fill="darken" w="41216" h="21600">
                <a:moveTo>
                  <a:pt x="41216" y="0"/>
                </a:moveTo>
                <a:lnTo>
                  <a:pt x="41216" y="21600"/>
                </a:lnTo>
                <a:lnTo>
                  <a:pt x="39866" y="20250"/>
                </a:lnTo>
                <a:lnTo>
                  <a:pt x="39866" y="1350"/>
                </a:lnTo>
                <a:close/>
              </a:path>
              <a:path fill="darkenLess" w="41216" h="21600">
                <a:moveTo>
                  <a:pt x="4121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866" y="20250"/>
                </a:lnTo>
                <a:close/>
              </a:path>
              <a:path fill="lighten" w="4121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1216" h="21600">
                <a:moveTo>
                  <a:pt x="13564" y="7283"/>
                </a:moveTo>
                <a:lnTo>
                  <a:pt x="14483" y="7283"/>
                </a:lnTo>
                <a:lnTo>
                  <a:pt x="14868" y="7650"/>
                </a:lnTo>
                <a:lnTo>
                  <a:pt x="24126" y="7650"/>
                </a:lnTo>
                <a:lnTo>
                  <a:pt x="24686" y="8210"/>
                </a:lnTo>
                <a:lnTo>
                  <a:pt x="24686" y="8761"/>
                </a:lnTo>
                <a:lnTo>
                  <a:pt x="26541" y="8761"/>
                </a:lnTo>
                <a:lnTo>
                  <a:pt x="26908" y="8210"/>
                </a:lnTo>
                <a:lnTo>
                  <a:pt x="27652" y="8210"/>
                </a:lnTo>
                <a:lnTo>
                  <a:pt x="27652" y="13390"/>
                </a:lnTo>
                <a:lnTo>
                  <a:pt x="26908" y="13390"/>
                </a:lnTo>
                <a:lnTo>
                  <a:pt x="26541" y="12839"/>
                </a:lnTo>
                <a:lnTo>
                  <a:pt x="24686" y="12839"/>
                </a:lnTo>
                <a:lnTo>
                  <a:pt x="24686" y="14125"/>
                </a:lnTo>
                <a:lnTo>
                  <a:pt x="15052" y="14125"/>
                </a:lnTo>
                <a:lnTo>
                  <a:pt x="15052" y="9873"/>
                </a:lnTo>
                <a:lnTo>
                  <a:pt x="14868" y="9873"/>
                </a:lnTo>
                <a:lnTo>
                  <a:pt x="14483" y="10240"/>
                </a:lnTo>
                <a:lnTo>
                  <a:pt x="13564" y="1024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方正舒体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63760" y="304920"/>
            <a:ext cx="1826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以我观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故物皆着我之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——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王国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28600" y="5791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寒蝉凄切</a:t>
            </a:r>
            <a:endParaRPr b="1" lang="en-US" sz="1800" spc="-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7T03:16:20Z</dcterms:created>
  <dc:creator/>
  <dc:description/>
  <dc:language>en-US</dc:language>
  <cp:lastModifiedBy>Administrator</cp:lastModifiedBy>
  <dcterms:modified xsi:type="dcterms:W3CDTF">2015-08-07T03:24:27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