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13.jpeg" ContentType="image/jpe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1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66C-C13A-45E6-8FE1-6739C88D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F7B-875E-4286-8BC3-C899A7B7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6AE-FAB0-45C9-ABBB-8B16F38C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54F-0EE8-4E2A-8EA4-17CCAD79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861-D82A-4990-B39C-245DEFCA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03B-F4DD-4E6C-BC70-50D42456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3B4-B0E9-4302-B53E-4F36C37B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941-5757-4C93-9D94-3083B37C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973-A608-402C-8D90-B191552C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BAA-6F0A-4F23-B5A1-7A12707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EDD-9698-4C90-8445-E9F4B618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D04-C342-471F-846B-4A35FAD3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C57-CD3A-4BC3-948C-F8827966A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61,24,&#24187;&#28783;&#29255; 24" TargetMode="External"/><Relationship Id="rId5" Type="http://schemas.openxmlformats.org/officeDocument/2006/relationships/hyperlink" Target="261,24,&#24187;&#28783;&#29255; 24" TargetMode="External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86,25,&#24187;&#28783;&#29255; 25" TargetMode="External"/><Relationship Id="rId5" Type="http://schemas.openxmlformats.org/officeDocument/2006/relationships/hyperlink" Target="286,25,&#24187;&#28783;&#29255; 25" TargetMode="External"/><Relationship Id="rId6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0311.oo16t.com/new_view.asp?id=21598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0311.oo16t.com/new_view.asp?id=21598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0311.oo16t.com/new_view.asp?id=21598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142560" cy="688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570040"/>
            <a:ext cx="7164360" cy="428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6720" y="10922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ff"/>
                </a:solidFill>
                <a:latin typeface="Arial"/>
                <a:ea typeface="方正超粗黑简体"/>
              </a:rPr>
              <a:t>礼仪与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627280" y="1916280"/>
            <a:ext cx="6769080" cy="642600"/>
            <a:chOff x="2627280" y="1916280"/>
            <a:chExt cx="6769080" cy="642600"/>
          </a:xfrm>
        </p:grpSpPr>
        <p:sp>
          <p:nvSpPr>
            <p:cNvPr id="46" name=""/>
            <p:cNvSpPr/>
            <p:nvPr/>
          </p:nvSpPr>
          <p:spPr>
            <a:xfrm>
              <a:off x="2627280" y="1916280"/>
              <a:ext cx="676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常交际  迎来送往</a:t>
              </a:r>
              <a:r>
                <a:rPr b="1" lang="zh-CN" sz="36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2800" y="2190600"/>
              <a:ext cx="144360" cy="1440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同心圆 9"/>
          <p:cNvSpPr/>
          <p:nvPr/>
        </p:nvSpPr>
        <p:spPr>
          <a:xfrm>
            <a:off x="6372360" y="2825640"/>
            <a:ext cx="730080" cy="730440"/>
          </a:xfrm>
          <a:custGeom>
            <a:avLst/>
            <a:gdLst/>
            <a:ahLst/>
            <a:rect l="l" t="t" r="r" b="b"/>
            <a:pathLst>
              <a:path w="730506" h="730506">
                <a:moveTo>
                  <a:pt x="0" y="365253"/>
                </a:moveTo>
                <a:cubicBezTo>
                  <a:pt x="0" y="163529"/>
                  <a:pt x="163529" y="0"/>
                  <a:pt x="365253" y="0"/>
                </a:cubicBezTo>
                <a:cubicBezTo>
                  <a:pt x="566977" y="0"/>
                  <a:pt x="730506" y="163529"/>
                  <a:pt x="730506" y="365253"/>
                </a:cubicBezTo>
                <a:cubicBezTo>
                  <a:pt x="730506" y="566977"/>
                  <a:pt x="566977" y="730506"/>
                  <a:pt x="365253" y="730506"/>
                </a:cubicBezTo>
                <a:cubicBezTo>
                  <a:pt x="163529" y="730506"/>
                  <a:pt x="0" y="566977"/>
                  <a:pt x="0" y="365253"/>
                </a:cubicBezTo>
                <a:close/>
                <a:moveTo>
                  <a:pt x="65629" y="365253"/>
                </a:moveTo>
                <a:cubicBezTo>
                  <a:pt x="65629" y="530731"/>
                  <a:pt x="199775" y="664877"/>
                  <a:pt x="365253" y="664877"/>
                </a:cubicBezTo>
                <a:cubicBezTo>
                  <a:pt x="530731" y="664877"/>
                  <a:pt x="664877" y="530731"/>
                  <a:pt x="664877" y="365253"/>
                </a:cubicBezTo>
                <a:cubicBezTo>
                  <a:pt x="664877" y="199775"/>
                  <a:pt x="530731" y="65629"/>
                  <a:pt x="365253" y="65629"/>
                </a:cubicBezTo>
                <a:cubicBezTo>
                  <a:pt x="199775" y="65629"/>
                  <a:pt x="65629" y="199775"/>
                  <a:pt x="65629" y="3652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心圆 15"/>
          <p:cNvSpPr/>
          <p:nvPr/>
        </p:nvSpPr>
        <p:spPr>
          <a:xfrm>
            <a:off x="6943680" y="2330280"/>
            <a:ext cx="450720" cy="451080"/>
          </a:xfrm>
          <a:custGeom>
            <a:avLst/>
            <a:gdLst/>
            <a:ahLst/>
            <a:rect l="l" t="t" r="r" b="b"/>
            <a:pathLst>
              <a:path w="730506" h="730506">
                <a:moveTo>
                  <a:pt x="0" y="365253"/>
                </a:moveTo>
                <a:cubicBezTo>
                  <a:pt x="0" y="163529"/>
                  <a:pt x="163529" y="0"/>
                  <a:pt x="365253" y="0"/>
                </a:cubicBezTo>
                <a:cubicBezTo>
                  <a:pt x="566977" y="0"/>
                  <a:pt x="730506" y="163529"/>
                  <a:pt x="730506" y="365253"/>
                </a:cubicBezTo>
                <a:cubicBezTo>
                  <a:pt x="730506" y="566977"/>
                  <a:pt x="566977" y="730506"/>
                  <a:pt x="365253" y="730506"/>
                </a:cubicBezTo>
                <a:cubicBezTo>
                  <a:pt x="163529" y="730506"/>
                  <a:pt x="0" y="566977"/>
                  <a:pt x="0" y="365253"/>
                </a:cubicBezTo>
                <a:close/>
                <a:moveTo>
                  <a:pt x="65629" y="365253"/>
                </a:moveTo>
                <a:cubicBezTo>
                  <a:pt x="65629" y="530731"/>
                  <a:pt x="199775" y="664877"/>
                  <a:pt x="365253" y="664877"/>
                </a:cubicBezTo>
                <a:cubicBezTo>
                  <a:pt x="530731" y="664877"/>
                  <a:pt x="664877" y="530731"/>
                  <a:pt x="664877" y="365253"/>
                </a:cubicBezTo>
                <a:cubicBezTo>
                  <a:pt x="664877" y="199775"/>
                  <a:pt x="530731" y="65629"/>
                  <a:pt x="365253" y="65629"/>
                </a:cubicBezTo>
                <a:cubicBezTo>
                  <a:pt x="199775" y="65629"/>
                  <a:pt x="65629" y="199775"/>
                  <a:pt x="65629" y="365253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同心圆 18"/>
          <p:cNvSpPr/>
          <p:nvPr/>
        </p:nvSpPr>
        <p:spPr>
          <a:xfrm>
            <a:off x="7596360" y="1700280"/>
            <a:ext cx="441000" cy="441360"/>
          </a:xfrm>
          <a:custGeom>
            <a:avLst/>
            <a:gdLst/>
            <a:ahLst/>
            <a:rect l="l" t="t" r="r" b="b"/>
            <a:pathLst>
              <a:path w="714380" h="714380">
                <a:moveTo>
                  <a:pt x="0" y="357190"/>
                </a:moveTo>
                <a:cubicBezTo>
                  <a:pt x="0" y="159919"/>
                  <a:pt x="159919" y="0"/>
                  <a:pt x="357190" y="0"/>
                </a:cubicBezTo>
                <a:cubicBezTo>
                  <a:pt x="554461" y="0"/>
                  <a:pt x="714380" y="159919"/>
                  <a:pt x="714380" y="357190"/>
                </a:cubicBezTo>
                <a:cubicBezTo>
                  <a:pt x="714380" y="554461"/>
                  <a:pt x="554461" y="714380"/>
                  <a:pt x="357190" y="714380"/>
                </a:cubicBezTo>
                <a:cubicBezTo>
                  <a:pt x="159919" y="714380"/>
                  <a:pt x="0" y="554461"/>
                  <a:pt x="0" y="357190"/>
                </a:cubicBezTo>
                <a:close/>
                <a:moveTo>
                  <a:pt x="64180" y="357190"/>
                </a:moveTo>
                <a:cubicBezTo>
                  <a:pt x="64180" y="519015"/>
                  <a:pt x="195365" y="650200"/>
                  <a:pt x="357190" y="650200"/>
                </a:cubicBezTo>
                <a:cubicBezTo>
                  <a:pt x="519015" y="650200"/>
                  <a:pt x="650200" y="519015"/>
                  <a:pt x="650200" y="357190"/>
                </a:cubicBezTo>
                <a:cubicBezTo>
                  <a:pt x="650200" y="195365"/>
                  <a:pt x="519015" y="64180"/>
                  <a:pt x="357190" y="64180"/>
                </a:cubicBezTo>
                <a:cubicBezTo>
                  <a:pt x="195365" y="64180"/>
                  <a:pt x="64180" y="195365"/>
                  <a:pt x="64180" y="357190"/>
                </a:cubicBezTo>
                <a:close/>
              </a:path>
            </a:pathLst>
          </a:custGeom>
          <a:solidFill>
            <a:srgbClr val="00b0f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4"/>
          <p:cNvSpPr/>
          <p:nvPr/>
        </p:nvSpPr>
        <p:spPr>
          <a:xfrm>
            <a:off x="395280" y="2505240"/>
            <a:ext cx="233280" cy="23004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5"/>
          <p:cNvSpPr/>
          <p:nvPr/>
        </p:nvSpPr>
        <p:spPr>
          <a:xfrm>
            <a:off x="1112760" y="2017800"/>
            <a:ext cx="290520" cy="2872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13"/>
          <p:cNvSpPr/>
          <p:nvPr/>
        </p:nvSpPr>
        <p:spPr>
          <a:xfrm>
            <a:off x="1905120" y="3505320"/>
            <a:ext cx="287280" cy="284040"/>
          </a:xfrm>
          <a:custGeom>
            <a:avLst/>
            <a:gdLst/>
            <a:ahLst/>
            <a:rect l="l" t="t" r="r" b="b"/>
            <a:pathLst>
              <a:path w="1428736" h="1428736">
                <a:moveTo>
                  <a:pt x="0" y="714368"/>
                </a:moveTo>
                <a:cubicBezTo>
                  <a:pt x="0" y="319833"/>
                  <a:pt x="319833" y="0"/>
                  <a:pt x="714368" y="0"/>
                </a:cubicBezTo>
                <a:cubicBezTo>
                  <a:pt x="1108903" y="0"/>
                  <a:pt x="1428736" y="319833"/>
                  <a:pt x="1428736" y="714368"/>
                </a:cubicBezTo>
                <a:cubicBezTo>
                  <a:pt x="1428736" y="1108903"/>
                  <a:pt x="1108903" y="1428736"/>
                  <a:pt x="714368" y="1428736"/>
                </a:cubicBezTo>
                <a:cubicBezTo>
                  <a:pt x="319833" y="1428736"/>
                  <a:pt x="0" y="1108903"/>
                  <a:pt x="0" y="714368"/>
                </a:cubicBezTo>
                <a:close/>
                <a:moveTo>
                  <a:pt x="128358" y="714368"/>
                </a:moveTo>
                <a:cubicBezTo>
                  <a:pt x="128358" y="1038012"/>
                  <a:pt x="390724" y="1300378"/>
                  <a:pt x="714368" y="1300378"/>
                </a:cubicBezTo>
                <a:cubicBezTo>
                  <a:pt x="1038012" y="1300378"/>
                  <a:pt x="1300378" y="1038012"/>
                  <a:pt x="1300378" y="714368"/>
                </a:cubicBezTo>
                <a:cubicBezTo>
                  <a:pt x="1300378" y="390724"/>
                  <a:pt x="1038012" y="128358"/>
                  <a:pt x="714368" y="128358"/>
                </a:cubicBezTo>
                <a:cubicBezTo>
                  <a:pt x="390724" y="128358"/>
                  <a:pt x="128358" y="390724"/>
                  <a:pt x="128358" y="714368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心圆 14"/>
          <p:cNvSpPr/>
          <p:nvPr/>
        </p:nvSpPr>
        <p:spPr>
          <a:xfrm>
            <a:off x="2262240" y="3505320"/>
            <a:ext cx="71280" cy="69840"/>
          </a:xfrm>
          <a:custGeom>
            <a:avLst/>
            <a:gdLst/>
            <a:ahLst/>
            <a:rect l="l" t="t" r="r" b="b"/>
            <a:pathLst>
              <a:path w="214314" h="214314">
                <a:moveTo>
                  <a:pt x="0" y="107157"/>
                </a:moveTo>
                <a:cubicBezTo>
                  <a:pt x="0" y="47976"/>
                  <a:pt x="47976" y="0"/>
                  <a:pt x="107157" y="0"/>
                </a:cubicBezTo>
                <a:cubicBezTo>
                  <a:pt x="166338" y="0"/>
                  <a:pt x="214314" y="47976"/>
                  <a:pt x="214314" y="107157"/>
                </a:cubicBezTo>
                <a:cubicBezTo>
                  <a:pt x="214314" y="166338"/>
                  <a:pt x="166338" y="214314"/>
                  <a:pt x="107157" y="214314"/>
                </a:cubicBezTo>
                <a:cubicBezTo>
                  <a:pt x="47976" y="214314"/>
                  <a:pt x="0" y="166338"/>
                  <a:pt x="0" y="107157"/>
                </a:cubicBezTo>
                <a:close/>
                <a:moveTo>
                  <a:pt x="19254" y="107157"/>
                </a:moveTo>
                <a:cubicBezTo>
                  <a:pt x="19254" y="155704"/>
                  <a:pt x="58610" y="195060"/>
                  <a:pt x="107157" y="195060"/>
                </a:cubicBezTo>
                <a:cubicBezTo>
                  <a:pt x="155704" y="195060"/>
                  <a:pt x="195060" y="155704"/>
                  <a:pt x="195060" y="107157"/>
                </a:cubicBezTo>
                <a:cubicBezTo>
                  <a:pt x="195060" y="58610"/>
                  <a:pt x="155704" y="19254"/>
                  <a:pt x="107157" y="19254"/>
                </a:cubicBezTo>
                <a:cubicBezTo>
                  <a:pt x="58610" y="19254"/>
                  <a:pt x="19254" y="58610"/>
                  <a:pt x="19254" y="107157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0920" y="5289480"/>
            <a:ext cx="3313080" cy="51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224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22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33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3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二）着装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1476360" y="1984320"/>
            <a:ext cx="60483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的地点设在对方的办公区域，则应着正装或所在单位的制服，既代表了单位的形象，又传递出“你很重视这次拜访”的友好信息，使其愿意与你合作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240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243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49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5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三）拜访的举止与要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258920" y="1700280"/>
            <a:ext cx="475308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办公区域时的举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到达接待处，清晰、礼貌的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报来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被带到接待处时安静等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初见被访对象主动起身招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自我介绍，并对对方抽出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贵时间表示感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547640" y="313992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rcRect l="15129" t="0" r="15129" b="0"/>
          <a:stretch/>
        </p:blipFill>
        <p:spPr>
          <a:xfrm>
            <a:off x="5508720" y="2370240"/>
            <a:ext cx="2925720" cy="314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258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26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67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6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2050920" y="2325600"/>
            <a:ext cx="36007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初次见面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私人拜访中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事务性拜访中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礼品赠送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1547640" y="313992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rcRect l="15129" t="0" r="15129" b="0"/>
          <a:stretch/>
        </p:blipFill>
        <p:spPr>
          <a:xfrm>
            <a:off x="5508720" y="2370240"/>
            <a:ext cx="2925720" cy="314640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971640" y="2492280"/>
            <a:ext cx="1152000" cy="2448000"/>
            <a:chOff x="971640" y="2492280"/>
            <a:chExt cx="1152000" cy="2448000"/>
          </a:xfrm>
        </p:grpSpPr>
        <p:sp>
          <p:nvSpPr>
            <p:cNvPr id="275" name=""/>
            <p:cNvSpPr/>
            <p:nvPr/>
          </p:nvSpPr>
          <p:spPr>
            <a:xfrm>
              <a:off x="971640" y="3279600"/>
              <a:ext cx="620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礼规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80480" y="2492280"/>
              <a:ext cx="443160" cy="2448000"/>
            </a:xfrm>
            <a:custGeom>
              <a:avLst/>
              <a:gdLst>
                <a:gd name="textAreaLeft" fmla="*/ 283320 w 443160"/>
                <a:gd name="textAreaRight" fmla="*/ 443520 w 443160"/>
                <a:gd name="textAreaTop" fmla="*/ 63720 h 2448000"/>
                <a:gd name="textAreaBottom" fmla="*/ 23842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279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28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88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9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1405080" y="2852640"/>
            <a:ext cx="57592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一次拜访的概括性夸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善于及时发现在上次拜访后的细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若女主人接待，一定要给予适当赞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赞美一定要尽量具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187280" y="1951200"/>
            <a:ext cx="3384720" cy="1251720"/>
            <a:chOff x="1187280" y="1951200"/>
            <a:chExt cx="3384720" cy="1251720"/>
          </a:xfrm>
        </p:grpSpPr>
        <p:sp>
          <p:nvSpPr>
            <p:cNvPr id="294" name=""/>
            <p:cNvSpPr/>
            <p:nvPr/>
          </p:nvSpPr>
          <p:spPr>
            <a:xfrm>
              <a:off x="1788480" y="1951200"/>
              <a:ext cx="22028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次见面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87280" y="2709720"/>
              <a:ext cx="3384720" cy="709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258920" y="3111480"/>
            <a:ext cx="163440" cy="1614600"/>
            <a:chOff x="1258920" y="3111480"/>
            <a:chExt cx="163440" cy="1614600"/>
          </a:xfrm>
        </p:grpSpPr>
        <p:pic>
          <p:nvPicPr>
            <p:cNvPr id="297" name="" descr=""/>
            <p:cNvPicPr/>
            <p:nvPr/>
          </p:nvPicPr>
          <p:blipFill>
            <a:blip r:embed="rId4"/>
            <a:srcRect l="56532" t="0" r="0" b="0"/>
            <a:stretch/>
          </p:blipFill>
          <p:spPr>
            <a:xfrm>
              <a:off x="1258920" y="3111480"/>
              <a:ext cx="14436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5"/>
            <a:srcRect l="56532" t="0" r="0" b="0"/>
            <a:stretch/>
          </p:blipFill>
          <p:spPr>
            <a:xfrm>
              <a:off x="1258920" y="3657600"/>
              <a:ext cx="14436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6"/>
            <a:srcRect l="56532" t="0" r="0" b="0"/>
            <a:stretch/>
          </p:blipFill>
          <p:spPr>
            <a:xfrm>
              <a:off x="1268280" y="4167000"/>
              <a:ext cx="144720" cy="1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7"/>
            <a:srcRect l="56532" t="0" r="0" b="0"/>
            <a:stretch/>
          </p:blipFill>
          <p:spPr>
            <a:xfrm>
              <a:off x="1278000" y="4605480"/>
              <a:ext cx="14436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303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30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1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1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1260360" y="263700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要守时守约，若特殊情况不能前去，一定要提前通知对方，表示歉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讲究敲门的艺术：食指弯曲，指关节敲门，力度适中，间隔有序敲三下，等待回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门后，将随身带来的外套、雨具等放到主人指定的地点，不要随处乱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042920" y="1735200"/>
            <a:ext cx="3384720" cy="1251720"/>
            <a:chOff x="1042920" y="1735200"/>
            <a:chExt cx="3384720" cy="1251720"/>
          </a:xfrm>
        </p:grpSpPr>
        <p:sp>
          <p:nvSpPr>
            <p:cNvPr id="318" name=""/>
            <p:cNvSpPr/>
            <p:nvPr/>
          </p:nvSpPr>
          <p:spPr>
            <a:xfrm>
              <a:off x="1715040" y="1735200"/>
              <a:ext cx="24159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私人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42920" y="249408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114560" y="2924280"/>
            <a:ext cx="153360" cy="2082240"/>
            <a:chOff x="1114560" y="2924280"/>
            <a:chExt cx="153360" cy="208224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rcRect l="56532" t="0" r="0" b="0"/>
            <a:stretch/>
          </p:blipFill>
          <p:spPr>
            <a:xfrm>
              <a:off x="1114560" y="2924280"/>
              <a:ext cx="14400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5"/>
            <a:srcRect l="56532" t="0" r="0" b="0"/>
            <a:stretch/>
          </p:blipFill>
          <p:spPr>
            <a:xfrm>
              <a:off x="1114560" y="3873240"/>
              <a:ext cx="14400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6"/>
            <a:srcRect l="56532" t="0" r="0" b="0"/>
            <a:stretch/>
          </p:blipFill>
          <p:spPr>
            <a:xfrm>
              <a:off x="1123560" y="4885920"/>
              <a:ext cx="14436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326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32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35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3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>
            <a:off x="1260360" y="263700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没有提出就座不能随便坐下。主人认座之后一定要表示谢意，不能有不文明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跟主人谈话，语言要客气。注意掌握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道别：起身告辞，要向主人表示“打扰”之意。“请留步”、“再见”！不要起身后一去不回头，让主人觉得很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042920" y="1735200"/>
            <a:ext cx="3384720" cy="1251720"/>
            <a:chOff x="1042920" y="1735200"/>
            <a:chExt cx="3384720" cy="1251720"/>
          </a:xfrm>
        </p:grpSpPr>
        <p:sp>
          <p:nvSpPr>
            <p:cNvPr id="341" name=""/>
            <p:cNvSpPr/>
            <p:nvPr/>
          </p:nvSpPr>
          <p:spPr>
            <a:xfrm>
              <a:off x="1715040" y="1735200"/>
              <a:ext cx="24159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私人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42920" y="249408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2924280"/>
            <a:ext cx="154080" cy="1632960"/>
            <a:chOff x="1116000" y="2924280"/>
            <a:chExt cx="154080" cy="163296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rcRect l="56532" t="0" r="0" b="0"/>
            <a:stretch/>
          </p:blipFill>
          <p:spPr>
            <a:xfrm>
              <a:off x="1116000" y="2924280"/>
              <a:ext cx="14436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rcRect l="56532" t="0" r="0" b="0"/>
            <a:stretch/>
          </p:blipFill>
          <p:spPr>
            <a:xfrm>
              <a:off x="1116000" y="3873240"/>
              <a:ext cx="14436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rcRect l="56532" t="0" r="0" b="0"/>
            <a:stretch/>
          </p:blipFill>
          <p:spPr>
            <a:xfrm>
              <a:off x="1125360" y="4436640"/>
              <a:ext cx="14472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349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35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58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6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1187280" y="2565360"/>
            <a:ext cx="727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首要规则是准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到达时，告知对方接待人员你的名字和预约的时间，递上名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安静，耐心的等待，不要在中途打电话，或者看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被引到办公室时，如果是第一次见面先做自我介绍；如果认识，互相问候并握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042920" y="1744560"/>
            <a:ext cx="3384720" cy="1251720"/>
            <a:chOff x="1042920" y="1744560"/>
            <a:chExt cx="3384720" cy="1251720"/>
          </a:xfrm>
        </p:grpSpPr>
        <p:sp>
          <p:nvSpPr>
            <p:cNvPr id="364" name=""/>
            <p:cNvSpPr/>
            <p:nvPr/>
          </p:nvSpPr>
          <p:spPr>
            <a:xfrm>
              <a:off x="1786320" y="1744560"/>
              <a:ext cx="2629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事务性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2920" y="250344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04292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042920" y="3357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052640" y="4365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1057320" y="5302080"/>
            <a:ext cx="144360" cy="1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372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37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81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8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1476360" y="2565360"/>
            <a:ext cx="590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搞清楚对象，注重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抓准时机，注意场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挑选礼品要精心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042920" y="1744560"/>
            <a:ext cx="3384720" cy="1251720"/>
            <a:chOff x="1042920" y="1744560"/>
            <a:chExt cx="3384720" cy="1251720"/>
          </a:xfrm>
        </p:grpSpPr>
        <p:sp>
          <p:nvSpPr>
            <p:cNvPr id="387" name=""/>
            <p:cNvSpPr/>
            <p:nvPr/>
          </p:nvSpPr>
          <p:spPr>
            <a:xfrm>
              <a:off x="1786320" y="1744560"/>
              <a:ext cx="2629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拜访礼品赠送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42920" y="250344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332000" y="309240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332000" y="359568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332000" y="41497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同心圆 14"/>
          <p:cNvSpPr/>
          <p:nvPr/>
        </p:nvSpPr>
        <p:spPr>
          <a:xfrm>
            <a:off x="-30240" y="1398600"/>
            <a:ext cx="97488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396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402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404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二：宴会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407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411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41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2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2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"/>
          <p:cNvSpPr/>
          <p:nvPr/>
        </p:nvSpPr>
        <p:spPr>
          <a:xfrm>
            <a:off x="1116000" y="2276640"/>
            <a:ext cx="72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对象    明确宴请主宾的身份、国籍、习俗、爱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等，以确定宴会的规格、主陪人、餐式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的    明确目的，便于安排宴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范围和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范围    原则：适、少、和、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形式    正式宴会、冷餐会、酒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茶会、工作餐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900000" y="1844640"/>
            <a:ext cx="5526000" cy="825480"/>
            <a:chOff x="900000" y="1844640"/>
            <a:chExt cx="5526000" cy="825480"/>
          </a:xfrm>
        </p:grpSpPr>
        <p:sp>
          <p:nvSpPr>
            <p:cNvPr id="426" name=""/>
            <p:cNvSpPr/>
            <p:nvPr/>
          </p:nvSpPr>
          <p:spPr>
            <a:xfrm>
              <a:off x="2143440" y="1844640"/>
              <a:ext cx="347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（一）明确宴请对象、目的、范围、形式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00000" y="2300400"/>
              <a:ext cx="5526000" cy="824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6227640" y="3500280"/>
            <a:ext cx="2521080" cy="2521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95280" y="2852640"/>
            <a:ext cx="4537080" cy="1604160"/>
            <a:chOff x="395280" y="2852640"/>
            <a:chExt cx="4537080" cy="1604160"/>
          </a:xfrm>
        </p:grpSpPr>
        <p:grpSp>
          <p:nvGrpSpPr>
            <p:cNvPr id="58" name=""/>
            <p:cNvGrpSpPr/>
            <p:nvPr/>
          </p:nvGrpSpPr>
          <p:grpSpPr>
            <a:xfrm>
              <a:off x="482760" y="2852640"/>
              <a:ext cx="4449600" cy="1604160"/>
              <a:chOff x="482760" y="2852640"/>
              <a:chExt cx="4449600" cy="1604160"/>
            </a:xfrm>
          </p:grpSpPr>
          <p:sp>
            <p:nvSpPr>
              <p:cNvPr id="59" name=""/>
              <p:cNvSpPr/>
              <p:nvPr/>
            </p:nvSpPr>
            <p:spPr>
              <a:xfrm>
                <a:off x="828720" y="2852640"/>
                <a:ext cx="4103640" cy="160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必备知识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</a:rPr>
                  <a:t>拜访、家宴、礼品赠送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</a:rPr>
                  <a:t>等礼仪要求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2"/>
              <a:srcRect l="56532" t="0" r="0" b="0"/>
              <a:stretch/>
            </p:blipFill>
            <p:spPr>
              <a:xfrm>
                <a:off x="482760" y="2968560"/>
                <a:ext cx="360360" cy="30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"/>
            <p:cNvSpPr/>
            <p:nvPr/>
          </p:nvSpPr>
          <p:spPr>
            <a:xfrm>
              <a:off x="395280" y="3284280"/>
              <a:ext cx="3384720" cy="716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788000" y="4797360"/>
            <a:ext cx="4139280" cy="1092600"/>
            <a:chOff x="4788000" y="4797360"/>
            <a:chExt cx="4139280" cy="1092600"/>
          </a:xfrm>
        </p:grpSpPr>
        <p:grpSp>
          <p:nvGrpSpPr>
            <p:cNvPr id="63" name=""/>
            <p:cNvGrpSpPr/>
            <p:nvPr/>
          </p:nvGrpSpPr>
          <p:grpSpPr>
            <a:xfrm>
              <a:off x="4860720" y="4797360"/>
              <a:ext cx="4066560" cy="1092600"/>
              <a:chOff x="4860720" y="4797360"/>
              <a:chExt cx="4066560" cy="1092600"/>
            </a:xfrm>
          </p:grpSpPr>
          <p:sp>
            <p:nvSpPr>
              <p:cNvPr id="64" name=""/>
              <p:cNvSpPr/>
              <p:nvPr/>
            </p:nvSpPr>
            <p:spPr>
              <a:xfrm>
                <a:off x="5255640" y="4797360"/>
                <a:ext cx="367164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素质养成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礼貌、时间管理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rcRect l="56532" t="0" r="0" b="0"/>
              <a:stretch/>
            </p:blipFill>
            <p:spPr>
              <a:xfrm>
                <a:off x="4860720" y="4927680"/>
                <a:ext cx="360000" cy="30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"/>
            <p:cNvSpPr/>
            <p:nvPr/>
          </p:nvSpPr>
          <p:spPr>
            <a:xfrm>
              <a:off x="4788000" y="5302080"/>
              <a:ext cx="3384360" cy="716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896000" y="2276640"/>
            <a:ext cx="5147280" cy="1092600"/>
            <a:chOff x="4896000" y="2276640"/>
            <a:chExt cx="5147280" cy="1092600"/>
          </a:xfrm>
        </p:grpSpPr>
        <p:grpSp>
          <p:nvGrpSpPr>
            <p:cNvPr id="68" name=""/>
            <p:cNvGrpSpPr/>
            <p:nvPr/>
          </p:nvGrpSpPr>
          <p:grpSpPr>
            <a:xfrm>
              <a:off x="5111640" y="2276640"/>
              <a:ext cx="4931640" cy="1092600"/>
              <a:chOff x="5111640" y="2276640"/>
              <a:chExt cx="4931640" cy="1092600"/>
            </a:xfrm>
          </p:grpSpPr>
          <p:sp>
            <p:nvSpPr>
              <p:cNvPr id="69" name=""/>
              <p:cNvSpPr/>
              <p:nvPr/>
            </p:nvSpPr>
            <p:spPr>
              <a:xfrm>
                <a:off x="5471640" y="2276640"/>
                <a:ext cx="457164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核心技能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社交拜访能力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" descr=""/>
              <p:cNvPicPr/>
              <p:nvPr/>
            </p:nvPicPr>
            <p:blipFill>
              <a:blip r:embed="rId4"/>
              <a:srcRect l="56532" t="0" r="0" b="0"/>
              <a:stretch/>
            </p:blipFill>
            <p:spPr>
              <a:xfrm>
                <a:off x="5111640" y="2420640"/>
                <a:ext cx="360000" cy="30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"/>
            <p:cNvSpPr/>
            <p:nvPr/>
          </p:nvSpPr>
          <p:spPr>
            <a:xfrm>
              <a:off x="4896000" y="2784240"/>
              <a:ext cx="338436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118 C -8.33333E-007 0.01851 -0.00573 0.02453 -0.0125 0.02453 C -0.02031 0.02453 -0.02326 0.01805 -0.02465 0.01412 L -0.02569 0.00926 C -0.02708 0.00532 -0.03003 -0.0007 -0.03906 -0.0007 C -0.04479 -0.0007 -0.05121 0.00486 -0.05121 0.0118 C -0.05121 0.01851 -0.04479 0.02453 -0.03906 0.02453 C -0.03003 0.02453 -0.02708 0.01805 -0.02569 0.01412 L -0.02465 0.00926 C -0.02326 0.00532 -0.02031 -0.0007 -0.0125 -0.0007 C -0.00573 -0.0007 -8.33333E-007 0.00486 -8.33333E-007 0.0118 Z">
                                      <p:cBhvr>
                                        <p:cTn id="9" dur="10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4.81481E-006 C -1.38889E-006 0.00718 0.00643 0.0132 0.01424 0.0132 C 0.02379 0.0132 0.02708 0.00649 0.02847 0.00255 L 0.03004 -0.00254 C 0.03143 -0.00671 0.03507 -0.01296 0.04566 -0.01296 C 0.05243 -0.01296 0.06024 -0.00717 0.06024 -4.81481E-006 C 0.06024 0.00718 0.05243 0.0132 0.04566 0.0132 C 0.03507 0.0132 0.03143 0.00649 0.03004 0.00255 L 0.02847 -0.00254 C 0.02708 -0.00671 0.02379 -0.01296 0.01424 -0.01296 C 0.00643 -0.01296 -1.38889E-006 -0.00717 -1.38889E-006 -4.81481E-006 Z">
                                      <p:cBhvr>
                                        <p:cTn id="14" dur="10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4132 0.00532 C -0.04132 0.01665 -0.04896 0.02636 -0.05834 0.02636 C -0.06945 0.02636 -0.07327 0.01572 -0.075 0.00925 L -0.07674 0.00116 C -0.07848 -0.00508 -0.08282 -0.01549 -0.09497 -0.01549 C -0.10313 -0.01549 -0.11216 -0.00624 -0.11216 0.00532 C -0.11216 0.01665 -0.10313 0.02636 -0.09497 0.02636 C -0.08282 0.02636 -0.07848 0.01572 -0.07674 0.00925 L -0.075 0.00116 C -0.07327 -0.00508 -0.06945 -0.01549 -0.05834 -0.01549 C -0.04896 -0.01549 -0.04132 -0.00624 -0.04132 0.00532 Z">
                                      <p:cBhvr>
                                        <p:cTn id="19" dur="10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431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43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4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4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1476360" y="4219560"/>
            <a:ext cx="72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时间：不选重大节日、假日、或禁忌时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先和主宾协商，再发邀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地点：环境幽雅，交通方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900000" y="1844640"/>
            <a:ext cx="3672000" cy="825480"/>
            <a:chOff x="900000" y="1844640"/>
            <a:chExt cx="3672000" cy="825480"/>
          </a:xfrm>
        </p:grpSpPr>
        <p:sp>
          <p:nvSpPr>
            <p:cNvPr id="446" name=""/>
            <p:cNvSpPr/>
            <p:nvPr/>
          </p:nvSpPr>
          <p:spPr>
            <a:xfrm>
              <a:off x="2499840" y="1844640"/>
              <a:ext cx="32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（二）选择时间、地点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00000" y="2276280"/>
              <a:ext cx="3672000" cy="828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042920" y="2444760"/>
            <a:ext cx="7058160" cy="2023920"/>
            <a:chOff x="1042920" y="2444760"/>
            <a:chExt cx="7058160" cy="2023920"/>
          </a:xfrm>
        </p:grpSpPr>
        <p:sp>
          <p:nvSpPr>
            <p:cNvPr id="449" name=""/>
            <p:cNvSpPr/>
            <p:nvPr/>
          </p:nvSpPr>
          <p:spPr>
            <a:xfrm>
              <a:off x="1173240" y="2492280"/>
              <a:ext cx="6840360" cy="1944720"/>
            </a:xfrm>
            <a:prstGeom prst="rect">
              <a:avLst/>
            </a:prstGeom>
            <a:blipFill rotWithShape="0">
              <a:blip r:embed="rId4">
                <a:alphaModFix amt="65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5"/>
            <a:stretch/>
          </p:blipFill>
          <p:spPr>
            <a:xfrm>
              <a:off x="1509480" y="2492280"/>
              <a:ext cx="612324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042920" y="2452680"/>
              <a:ext cx="144360" cy="2016000"/>
            </a:xfrm>
            <a:prstGeom prst="can">
              <a:avLst>
                <a:gd name="adj" fmla="val 2754"/>
              </a:avLst>
            </a:prstGeom>
            <a:solidFill>
              <a:srgbClr val="ffffff">
                <a:alpha val="88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56360" y="2444760"/>
              <a:ext cx="144720" cy="2016000"/>
            </a:xfrm>
            <a:prstGeom prst="can">
              <a:avLst>
                <a:gd name="adj" fmla="val 2754"/>
              </a:avLst>
            </a:prstGeom>
            <a:solidFill>
              <a:srgbClr val="ffffff">
                <a:alpha val="88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455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45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64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6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1332000" y="5227560"/>
            <a:ext cx="640872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请柬应提前一至二周发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021760" y="1844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三）精心制作请柬，认真发送确认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0000" y="2276640"/>
            <a:ext cx="504036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1405080" y="2708280"/>
            <a:ext cx="2879640" cy="22176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5"/>
          <a:stretch/>
        </p:blipFill>
        <p:spPr>
          <a:xfrm>
            <a:off x="5003640" y="2708280"/>
            <a:ext cx="24480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73" name=""/>
          <p:cNvGrpSpPr/>
          <p:nvPr/>
        </p:nvGrpSpPr>
        <p:grpSpPr>
          <a:xfrm>
            <a:off x="3530520" y="2443320"/>
            <a:ext cx="2779560" cy="2900160"/>
            <a:chOff x="3530520" y="2443320"/>
            <a:chExt cx="2779560" cy="2900160"/>
          </a:xfrm>
        </p:grpSpPr>
        <p:sp>
          <p:nvSpPr>
            <p:cNvPr id="474" name=""/>
            <p:cNvSpPr/>
            <p:nvPr/>
          </p:nvSpPr>
          <p:spPr>
            <a:xfrm rot="2527800">
              <a:off x="3925440" y="3643560"/>
              <a:ext cx="1584360" cy="86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527800">
              <a:off x="3998520" y="3282840"/>
              <a:ext cx="1727280" cy="86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530520" y="2443320"/>
              <a:ext cx="2779560" cy="2900160"/>
              <a:chOff x="3530520" y="2443320"/>
              <a:chExt cx="2779560" cy="2900160"/>
            </a:xfrm>
          </p:grpSpPr>
          <p:pic>
            <p:nvPicPr>
              <p:cNvPr id="477" name="" descr=""/>
              <p:cNvPicPr/>
              <p:nvPr/>
            </p:nvPicPr>
            <p:blipFill>
              <a:blip r:embed="rId6"/>
              <a:srcRect l="38385" t="0" r="19768" b="80812"/>
              <a:stretch/>
            </p:blipFill>
            <p:spPr>
              <a:xfrm rot="18669600">
                <a:off x="3691080" y="2745720"/>
                <a:ext cx="1015560" cy="46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" descr=""/>
              <p:cNvPicPr/>
              <p:nvPr/>
            </p:nvPicPr>
            <p:blipFill>
              <a:blip r:embed="rId7"/>
              <a:srcRect l="12232" t="13964" r="12232" b="0"/>
              <a:stretch/>
            </p:blipFill>
            <p:spPr>
              <a:xfrm rot="18669600">
                <a:off x="4003200" y="2921040"/>
                <a:ext cx="1833480" cy="208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481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48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9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9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1042920" y="2060640"/>
            <a:ext cx="71294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1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、中餐桌次排列（图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决定餐桌高低次序的原则是：主桌排定之后，其余桌次的高低以离主桌的远近而定，近者为高，远者为低；平行者以右桌为高，左桌为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常见的排列方法参见图示： 图中的座号就是桌次的高低序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71320" y="18446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四）安排席位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0000" y="2276640"/>
            <a:ext cx="345600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499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50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508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51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"/>
          <p:cNvSpPr/>
          <p:nvPr/>
        </p:nvSpPr>
        <p:spPr>
          <a:xfrm>
            <a:off x="900000" y="1486080"/>
            <a:ext cx="7632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2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、中餐席位次排列（图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一：主人在主桌面对正门之位就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二：多桌宴请时，每桌都要有一位主人的代表在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位置一般和主桌主人同向，有时也可以面向主桌主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三：各桌位次的尊卑，以距离该桌主人的远近而定，以近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上，以远为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四：各桌距离该桌主人相同的位次，讲究以右为尊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主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身份高于主人，为表示尊重，也可以安排在主人位子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座，而请主人坐在主宾的位子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圆角矩形 10"/>
          <p:cNvSpPr/>
          <p:nvPr/>
        </p:nvSpPr>
        <p:spPr>
          <a:xfrm>
            <a:off x="611280" y="476280"/>
            <a:ext cx="7921440" cy="593100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24000" y="777960"/>
            <a:ext cx="7488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22520" y="150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2396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835280" y="19638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2560" y="133668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62000" y="13302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76360" y="210672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1" name=""/>
          <p:cNvSpPr/>
          <p:nvPr/>
        </p:nvSpPr>
        <p:spPr>
          <a:xfrm>
            <a:off x="3695760" y="1946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83840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457880" y="20988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"/>
          <p:cNvSpPr/>
          <p:nvPr/>
        </p:nvSpPr>
        <p:spPr>
          <a:xfrm>
            <a:off x="4381560" y="13366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23960" y="49179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66600" y="51465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3440" y="36990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52560" y="415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66960" y="415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52560" y="461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66960" y="461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486080" y="52992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3" name=""/>
          <p:cNvSpPr/>
          <p:nvPr/>
        </p:nvSpPr>
        <p:spPr>
          <a:xfrm>
            <a:off x="1041480" y="2790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两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13280" y="2790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两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36152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五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21036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7353000" y="1946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972480" y="20988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"/>
          <p:cNvSpPr/>
          <p:nvPr/>
        </p:nvSpPr>
        <p:spPr>
          <a:xfrm>
            <a:off x="6972480" y="9558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38960" y="14130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429680" y="14130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19440" y="51465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762080" y="51465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8156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7208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9104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815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772080" y="4537080"/>
            <a:ext cx="38088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673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381560" y="52992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"/>
          <p:cNvSpPr/>
          <p:nvPr/>
        </p:nvSpPr>
        <p:spPr>
          <a:xfrm>
            <a:off x="6603840" y="2755800"/>
            <a:ext cx="16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8104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六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515280" y="507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658280" y="50706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27704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59124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88688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96160" y="354636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581960" y="3546360"/>
            <a:ext cx="38088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961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277040" y="522288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"/>
          <p:cNvSpPr/>
          <p:nvPr/>
        </p:nvSpPr>
        <p:spPr>
          <a:xfrm>
            <a:off x="765828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07652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七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79760" y="77796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403440"/>
            <a:ext cx="8712360" cy="71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35280" y="85680"/>
            <a:ext cx="1944720" cy="60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00360" y="0"/>
            <a:ext cx="1943280" cy="6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圆角矩形 10"/>
          <p:cNvSpPr/>
          <p:nvPr/>
        </p:nvSpPr>
        <p:spPr>
          <a:xfrm>
            <a:off x="611280" y="476280"/>
            <a:ext cx="7921440" cy="593100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4000" y="476280"/>
            <a:ext cx="7488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028880" y="1844640"/>
            <a:ext cx="7086600" cy="3313080"/>
            <a:chOff x="1028880" y="1844640"/>
            <a:chExt cx="7086600" cy="3313080"/>
          </a:xfrm>
        </p:grpSpPr>
        <p:sp>
          <p:nvSpPr>
            <p:cNvPr id="571" name=""/>
            <p:cNvSpPr/>
            <p:nvPr/>
          </p:nvSpPr>
          <p:spPr>
            <a:xfrm>
              <a:off x="1590840" y="2508120"/>
              <a:ext cx="1981080" cy="198144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38360" y="21495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86280" y="22255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05200" y="28353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19800" y="2911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28880" y="35971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19800" y="36734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09760" y="4359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24160" y="1920960"/>
              <a:ext cx="533520" cy="53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38560" y="4359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324160" y="45878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600880" y="2454120"/>
              <a:ext cx="1981080" cy="198144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00880" y="2073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24760" y="21495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43680" y="27590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58280" y="28353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91400" y="35211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58280" y="35971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48600" y="4282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63000" y="1844640"/>
              <a:ext cx="533160" cy="533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77400" y="4282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39240" y="4548240"/>
              <a:ext cx="609480" cy="60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63000" y="4581360"/>
              <a:ext cx="65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Times New Roman"/>
                </a:rPr>
                <a:t>第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2409840" y="535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个主位时的位次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38840" y="535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个主位时的位次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419640" y="981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微软雅黑"/>
              </a:rPr>
              <a:t>位次排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35280" y="85680"/>
            <a:ext cx="1944720" cy="60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00360" y="0"/>
            <a:ext cx="1943280" cy="6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00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601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60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1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1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1258920" y="2565360"/>
            <a:ext cx="7129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：精致可口、赏心悦目、特色突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尊重客人饮食习惯、禁忌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注意冷热  、甜咸、色香味搭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酒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酒精含量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042920" y="1844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五）拟订菜单和用酒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00000" y="2276640"/>
            <a:ext cx="345600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619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62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28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3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二、宴请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"/>
          <p:cNvSpPr/>
          <p:nvPr/>
        </p:nvSpPr>
        <p:spPr>
          <a:xfrm>
            <a:off x="971640" y="1917720"/>
            <a:ext cx="7129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一）迎宾    主人应站在大厅门口迎接客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二）引导入席   主人陪主宾进入宴会厅主桌，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待人员引导其他客人入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三）致词、祝酒  言简意赅、热情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四）用餐   融洽气氛，掌握进餐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五）送别   热情相送，感谢光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34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635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63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44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4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"/>
          <p:cNvSpPr/>
          <p:nvPr/>
        </p:nvSpPr>
        <p:spPr>
          <a:xfrm>
            <a:off x="2733840" y="1700280"/>
            <a:ext cx="48625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受邀请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应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尽早答复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适度修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符合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适时到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早不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2843280" y="3141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2833560" y="367668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2833560" y="4230720"/>
            <a:ext cx="14472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654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65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63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6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"/>
          <p:cNvSpPr/>
          <p:nvPr/>
        </p:nvSpPr>
        <p:spPr>
          <a:xfrm>
            <a:off x="1476360" y="1484280"/>
            <a:ext cx="58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席上礼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餐动作文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餐具不慎碰掉，不必拾起，也无需向服务员道歉。做到不动声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张嘴剔牙。用牙签时用一只手遮住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260360" y="338760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258920" y="453240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3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心圆 4"/>
          <p:cNvSpPr/>
          <p:nvPr/>
        </p:nvSpPr>
        <p:spPr>
          <a:xfrm>
            <a:off x="-272880" y="1393920"/>
            <a:ext cx="963360" cy="96336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同心圆 5"/>
          <p:cNvSpPr/>
          <p:nvPr/>
        </p:nvSpPr>
        <p:spPr>
          <a:xfrm>
            <a:off x="-179280" y="5807160"/>
            <a:ext cx="501480" cy="5014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95280" y="2492280"/>
            <a:ext cx="431640" cy="432000"/>
            <a:chOff x="395280" y="2492280"/>
            <a:chExt cx="431640" cy="432000"/>
          </a:xfrm>
        </p:grpSpPr>
        <p:pic>
          <p:nvPicPr>
            <p:cNvPr id="77" name="同心圆 6" descr=""/>
            <p:cNvPicPr/>
            <p:nvPr/>
          </p:nvPicPr>
          <p:blipFill>
            <a:blip r:embed="rId2"/>
            <a:stretch/>
          </p:blipFill>
          <p:spPr>
            <a:xfrm>
              <a:off x="395280" y="24922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8640" y="2554920"/>
              <a:ext cx="306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4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情景引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971640" y="1844640"/>
            <a:ext cx="7200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96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年，周总理到西郊机场为西哈努克和夫人送行。亲王的飞机刚一起飞，我国参加欢送的人群便自行散开，准备返回，而周总理这时却依然笔直地站在原地未动，并要工作人员立即把那些离去的同志请回来。这次总理发了脾气，他严厉起来了，狠狠地批评道：“你们怎么搞的，没有一点礼貌！各国外交使节站在那里，飞机还没有飞远，你们倒先走了。大国这样对小国客人不是搞大国主义吗？”当天下午，周总理就把外交部礼宾司和国务院机关事务管理局的负责同志找去，要他们立即在《礼宾工作条例》上加上一条，即今后到机场为贵宾送行，须等到飞机起飞，绕场一周，双翼摆动三次表示谢意后，送行者方可离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1680"/>
            <a:ext cx="9144000" cy="6824880"/>
          </a:xfrm>
          <a:prstGeom prst="rect">
            <a:avLst/>
          </a:prstGeom>
          <a:ln w="0">
            <a:noFill/>
          </a:ln>
        </p:spPr>
      </p:pic>
      <p:grpSp>
        <p:nvGrpSpPr>
          <p:cNvPr id="672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673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67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8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8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"/>
          <p:cNvSpPr/>
          <p:nvPr/>
        </p:nvSpPr>
        <p:spPr>
          <a:xfrm>
            <a:off x="1476360" y="1484280"/>
            <a:ext cx="70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席间祝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敬酒顺序按身份高低或座次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碰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与主宾先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人多时可同时举杯不需逐一碰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男士举杯应略低于女士酒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祝辞时暂停进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25892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258920" y="52117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91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692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69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01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0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1476360" y="1484280"/>
            <a:ext cx="70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席间谈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主动提出交谈话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只同个别人交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一言不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大声说话或哈哈大笑、窃窃私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一边说话一边进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25892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258920" y="5211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1258920" y="40053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8"/>
          <a:srcRect l="56532" t="0" r="0" b="0"/>
          <a:stretch/>
        </p:blipFill>
        <p:spPr>
          <a:xfrm>
            <a:off x="1258920" y="46213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713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71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7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2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2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1187280" y="1484280"/>
            <a:ext cx="7417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宴会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结束信号：主人把餐巾放在桌上，或从餐桌旁站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桌礼节：把椅子放回原位。男士应帮助身边的女士移开座椅，并帮其放回原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开宴会顺序：身份高者、年长者或女士先走。一般情况下贵宾是第一告辞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开时对主人表示感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98280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97164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971640" y="561348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971640" y="4581360"/>
            <a:ext cx="144360" cy="1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同心圆 14"/>
          <p:cNvSpPr/>
          <p:nvPr/>
        </p:nvSpPr>
        <p:spPr>
          <a:xfrm>
            <a:off x="-30240" y="1398600"/>
            <a:ext cx="97488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735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741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743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三：礼品赠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5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746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-3201840" y="2565360"/>
            <a:ext cx="6910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50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751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75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60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6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东方西方送礼的不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"/>
          <p:cNvSpPr/>
          <p:nvPr/>
        </p:nvSpPr>
        <p:spPr>
          <a:xfrm>
            <a:off x="1258920" y="2133720"/>
            <a:ext cx="6192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方人嘴巴说的是礼轻情意重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总是看钱决定情意的多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方人给礼物是给一份惊喜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带来尖叫和赞赏才是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042920" y="242100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042920" y="366876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68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769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77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78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8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二、送礼场合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2" name=""/>
          <p:cNvSpPr/>
          <p:nvPr/>
        </p:nvSpPr>
        <p:spPr>
          <a:xfrm>
            <a:off x="1474920" y="2062080"/>
            <a:ext cx="4752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节庆           各种纪念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场应酬           婚丧喜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际往来           表示爱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示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258920" y="234936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258920" y="359712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258920" y="29973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1258920" y="422100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8"/>
          <a:srcRect l="56532" t="0" r="0" b="0"/>
          <a:stretch/>
        </p:blipFill>
        <p:spPr>
          <a:xfrm>
            <a:off x="3492360" y="302256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9"/>
          <a:srcRect l="56532" t="0" r="0" b="0"/>
          <a:stretch/>
        </p:blipFill>
        <p:spPr>
          <a:xfrm>
            <a:off x="3492360" y="242244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0"/>
          <a:srcRect l="56532" t="0" r="0" b="0"/>
          <a:stretch/>
        </p:blipFill>
        <p:spPr>
          <a:xfrm>
            <a:off x="3492360" y="3646440"/>
            <a:ext cx="14472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792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79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圆角矩形 10"/>
          <p:cNvSpPr/>
          <p:nvPr/>
        </p:nvSpPr>
        <p:spPr>
          <a:xfrm>
            <a:off x="684360" y="1125360"/>
            <a:ext cx="7632720" cy="547236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01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0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05" name=""/>
          <p:cNvGraphicFramePr/>
          <p:nvPr/>
        </p:nvGraphicFramePr>
        <p:xfrm>
          <a:off x="826920" y="1444680"/>
          <a:ext cx="7345440" cy="5010120"/>
        </p:xfrm>
        <a:graphic>
          <a:graphicData uri="http://schemas.openxmlformats.org/drawingml/2006/table">
            <a:tbl>
              <a:tblPr/>
              <a:tblGrid>
                <a:gridCol w="944640"/>
                <a:gridCol w="6400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场   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花卉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婚　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、香水百合（粉红色）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　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豆蔻，适合送色泽淡雅而富清香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可浓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为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示温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清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伟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乔　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、郁金香、盆栽、盆景，适合送稳重高贵的花木，表示隆重之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演奏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就　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　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合送诞生花最贴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另以玫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雏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兰花亦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示永远祝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探　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合送剑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兰花均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丧　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菊花、白百合、白玫瑰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迎　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、紫罗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寿　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807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808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81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2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17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1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1" name="" descr=""/>
          <p:cNvPicPr/>
          <p:nvPr/>
        </p:nvPicPr>
        <p:blipFill>
          <a:blip r:embed="rId4"/>
          <a:stretch/>
        </p:blipFill>
        <p:spPr>
          <a:xfrm>
            <a:off x="0" y="4757760"/>
            <a:ext cx="3708360" cy="210024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3492360" y="1936800"/>
            <a:ext cx="5185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玫瑰：热恋、热情、热爱着你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粉玫瑰：初恋、求爱、爱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特别的关怀 、永远的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玫瑰：失恋、褪去的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橙玫瑰：富有青春气息、初恋心情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玫瑰：天真、纯洁 、纯纯的爱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5"/>
          <a:stretch/>
        </p:blipFill>
        <p:spPr>
          <a:xfrm>
            <a:off x="1763640" y="3860640"/>
            <a:ext cx="1656000" cy="116856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3492360" y="2131920"/>
            <a:ext cx="457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玫瑰：纯真简朴、青春长驻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紫玫瑰：忧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幻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做梦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玫瑰 ：你是恶魔，且为我所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白玫瑰：战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玫瑰（捧花）：幸福之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6"/>
          <a:stretch/>
        </p:blipFill>
        <p:spPr>
          <a:xfrm>
            <a:off x="3059280" y="4757760"/>
            <a:ext cx="3708360" cy="21002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"/>
          <a:stretch/>
        </p:blipFill>
        <p:spPr>
          <a:xfrm>
            <a:off x="6084720" y="4756320"/>
            <a:ext cx="3708720" cy="21002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8"/>
          <a:stretch/>
        </p:blipFill>
        <p:spPr>
          <a:xfrm>
            <a:off x="2484360" y="5451480"/>
            <a:ext cx="2808360" cy="159084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9"/>
          <a:stretch/>
        </p:blipFill>
        <p:spPr>
          <a:xfrm>
            <a:off x="5364000" y="5510160"/>
            <a:ext cx="2376720" cy="13464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10"/>
          <a:srcRect l="0" t="0" r="1205" b="4521"/>
          <a:stretch/>
        </p:blipFill>
        <p:spPr>
          <a:xfrm>
            <a:off x="971640" y="1989000"/>
            <a:ext cx="2205000" cy="19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3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34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36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7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839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842" name="同心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900000" y="4437000"/>
            <a:ext cx="1584360" cy="1555920"/>
            <a:chOff x="900000" y="4437000"/>
            <a:chExt cx="1584360" cy="1555920"/>
          </a:xfrm>
        </p:grpSpPr>
        <p:sp>
          <p:nvSpPr>
            <p:cNvPr id="846" name=""/>
            <p:cNvSpPr/>
            <p:nvPr/>
          </p:nvSpPr>
          <p:spPr>
            <a:xfrm>
              <a:off x="900000" y="4437000"/>
              <a:ext cx="1407960" cy="1555920"/>
            </a:xfrm>
            <a:prstGeom prst="borderCallout1">
              <a:avLst>
                <a:gd name="adj1" fmla="val 18750"/>
                <a:gd name="adj2" fmla="val -8333"/>
                <a:gd name="adj3" fmla="val -20000"/>
                <a:gd name="adj4" fmla="val 11307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58680" y="4437000"/>
              <a:ext cx="1525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白色百合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纯洁庄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心相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百年好合</a:t>
              </a:r>
              <a:r>
                <a:rPr b="1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724360" y="3645000"/>
            <a:ext cx="2808360" cy="2184480"/>
            <a:chOff x="5724360" y="3645000"/>
            <a:chExt cx="2808360" cy="2184480"/>
          </a:xfrm>
        </p:grpSpPr>
        <p:sp>
          <p:nvSpPr>
            <p:cNvPr id="849" name=""/>
            <p:cNvSpPr/>
            <p:nvPr/>
          </p:nvSpPr>
          <p:spPr>
            <a:xfrm>
              <a:off x="5724360" y="3645000"/>
              <a:ext cx="2808360" cy="21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0" name="" descr=""/>
            <p:cNvPicPr/>
            <p:nvPr/>
          </p:nvPicPr>
          <p:blipFill>
            <a:blip r:embed="rId4"/>
            <a:stretch/>
          </p:blipFill>
          <p:spPr>
            <a:xfrm>
              <a:off x="5835600" y="3706560"/>
              <a:ext cx="2579760" cy="20948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51" name=""/>
          <p:cNvGrpSpPr/>
          <p:nvPr/>
        </p:nvGrpSpPr>
        <p:grpSpPr>
          <a:xfrm>
            <a:off x="3419640" y="2565360"/>
            <a:ext cx="3071520" cy="2335320"/>
            <a:chOff x="3419640" y="2565360"/>
            <a:chExt cx="3071520" cy="2335320"/>
          </a:xfrm>
        </p:grpSpPr>
        <p:sp>
          <p:nvSpPr>
            <p:cNvPr id="852" name=""/>
            <p:cNvSpPr/>
            <p:nvPr/>
          </p:nvSpPr>
          <p:spPr>
            <a:xfrm>
              <a:off x="3419640" y="2565360"/>
              <a:ext cx="3071520" cy="23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3" name="" descr=""/>
            <p:cNvPicPr/>
            <p:nvPr/>
          </p:nvPicPr>
          <p:blipFill>
            <a:blip r:embed="rId5"/>
            <a:stretch/>
          </p:blipFill>
          <p:spPr>
            <a:xfrm>
              <a:off x="3529800" y="2668320"/>
              <a:ext cx="2865240" cy="21481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54" name=""/>
          <p:cNvGrpSpPr/>
          <p:nvPr/>
        </p:nvGrpSpPr>
        <p:grpSpPr>
          <a:xfrm>
            <a:off x="1116000" y="1773360"/>
            <a:ext cx="2808360" cy="2336760"/>
            <a:chOff x="1116000" y="1773360"/>
            <a:chExt cx="2808360" cy="2336760"/>
          </a:xfrm>
        </p:grpSpPr>
        <p:sp>
          <p:nvSpPr>
            <p:cNvPr id="855" name=""/>
            <p:cNvSpPr/>
            <p:nvPr/>
          </p:nvSpPr>
          <p:spPr>
            <a:xfrm>
              <a:off x="1116000" y="1773360"/>
              <a:ext cx="280836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6"/>
            <a:stretch/>
          </p:blipFill>
          <p:spPr>
            <a:xfrm>
              <a:off x="1176120" y="1895760"/>
              <a:ext cx="2679480" cy="212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857" name=""/>
          <p:cNvSpPr/>
          <p:nvPr/>
        </p:nvSpPr>
        <p:spPr>
          <a:xfrm>
            <a:off x="2928960" y="5334120"/>
            <a:ext cx="1512720" cy="763560"/>
          </a:xfrm>
          <a:prstGeom prst="borderCallout1">
            <a:avLst>
              <a:gd name="adj1" fmla="val 18750"/>
              <a:gd name="adj2" fmla="val -8333"/>
              <a:gd name="adj3" fmla="val -103740"/>
              <a:gd name="adj4" fmla="val 112694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色百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富高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492280"/>
            <a:ext cx="1258560" cy="763560"/>
          </a:xfrm>
          <a:prstGeom prst="borderCallout1">
            <a:avLst>
              <a:gd name="adj1" fmla="val 18750"/>
              <a:gd name="adj2" fmla="val -8333"/>
              <a:gd name="adj3" fmla="val 172763"/>
              <a:gd name="adj4" fmla="val -14499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火百合： 喜气洋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6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862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86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69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7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2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364000" y="341316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用心长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福禄康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1367280" y="1941120"/>
            <a:ext cx="3221280" cy="3767760"/>
            <a:chOff x="1367280" y="1941120"/>
            <a:chExt cx="3221280" cy="3767760"/>
          </a:xfrm>
        </p:grpSpPr>
        <p:sp>
          <p:nvSpPr>
            <p:cNvPr id="876" name=""/>
            <p:cNvSpPr/>
            <p:nvPr/>
          </p:nvSpPr>
          <p:spPr>
            <a:xfrm rot="900000">
              <a:off x="1744200" y="2205000"/>
              <a:ext cx="2466720" cy="32396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7" name="" descr=""/>
            <p:cNvPicPr/>
            <p:nvPr/>
          </p:nvPicPr>
          <p:blipFill>
            <a:blip r:embed="rId4"/>
            <a:stretch/>
          </p:blipFill>
          <p:spPr>
            <a:xfrm rot="900000">
              <a:off x="1860840" y="2336400"/>
              <a:ext cx="2251080" cy="3008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78" name=""/>
          <p:cNvGrpSpPr/>
          <p:nvPr/>
        </p:nvGrpSpPr>
        <p:grpSpPr>
          <a:xfrm>
            <a:off x="1307160" y="2023560"/>
            <a:ext cx="2928960" cy="3676320"/>
            <a:chOff x="1307160" y="2023560"/>
            <a:chExt cx="2928960" cy="3676320"/>
          </a:xfrm>
        </p:grpSpPr>
        <p:sp>
          <p:nvSpPr>
            <p:cNvPr id="879" name=""/>
            <p:cNvSpPr/>
            <p:nvPr/>
          </p:nvSpPr>
          <p:spPr>
            <a:xfrm rot="21293400">
              <a:off x="1455480" y="2133720"/>
              <a:ext cx="2631600" cy="34556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 rot="21293400">
              <a:off x="1585440" y="2269800"/>
              <a:ext cx="2401560" cy="3209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881" name="" descr=""/>
          <p:cNvPicPr/>
          <p:nvPr/>
        </p:nvPicPr>
        <p:blipFill>
          <a:blip r:embed="rId6"/>
          <a:stretch/>
        </p:blipFill>
        <p:spPr>
          <a:xfrm>
            <a:off x="5149800" y="2060640"/>
            <a:ext cx="2590920" cy="146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0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同心圆 4"/>
          <p:cNvSpPr/>
          <p:nvPr/>
        </p:nvSpPr>
        <p:spPr>
          <a:xfrm>
            <a:off x="-272880" y="1393920"/>
            <a:ext cx="963360" cy="96336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同心圆 5"/>
          <p:cNvSpPr/>
          <p:nvPr/>
        </p:nvSpPr>
        <p:spPr>
          <a:xfrm>
            <a:off x="-179280" y="5807160"/>
            <a:ext cx="501480" cy="5014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95280" y="2492280"/>
            <a:ext cx="431640" cy="432000"/>
            <a:chOff x="395280" y="2492280"/>
            <a:chExt cx="431640" cy="432000"/>
          </a:xfrm>
        </p:grpSpPr>
        <p:pic>
          <p:nvPicPr>
            <p:cNvPr id="94" name="同心圆 6" descr=""/>
            <p:cNvPicPr/>
            <p:nvPr/>
          </p:nvPicPr>
          <p:blipFill>
            <a:blip r:embed="rId2"/>
            <a:stretch/>
          </p:blipFill>
          <p:spPr>
            <a:xfrm>
              <a:off x="395280" y="24922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8640" y="2554920"/>
              <a:ext cx="306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01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情景引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1187280" y="2371680"/>
            <a:ext cx="72010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微软雅黑"/>
              </a:rPr>
              <a:t>思考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周总理为什么要发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在日常交往接待中，我们应遵循哪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拜访待客礼仪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8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885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88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9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9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6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1063080" y="1964880"/>
            <a:ext cx="2986560" cy="3504240"/>
            <a:chOff x="1063080" y="1964880"/>
            <a:chExt cx="2986560" cy="3504240"/>
          </a:xfrm>
        </p:grpSpPr>
        <p:sp>
          <p:nvSpPr>
            <p:cNvPr id="898" name=""/>
            <p:cNvSpPr/>
            <p:nvPr/>
          </p:nvSpPr>
          <p:spPr>
            <a:xfrm rot="870000">
              <a:off x="1404720" y="2205000"/>
              <a:ext cx="2302920" cy="302400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9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 rot="870000">
              <a:off x="1519560" y="2319840"/>
              <a:ext cx="2094480" cy="2791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00" name=""/>
          <p:cNvGrpSpPr/>
          <p:nvPr/>
        </p:nvGrpSpPr>
        <p:grpSpPr>
          <a:xfrm>
            <a:off x="942840" y="2006280"/>
            <a:ext cx="2758680" cy="3422880"/>
            <a:chOff x="942840" y="2006280"/>
            <a:chExt cx="2758680" cy="3422880"/>
          </a:xfrm>
        </p:grpSpPr>
        <p:sp>
          <p:nvSpPr>
            <p:cNvPr id="901" name=""/>
            <p:cNvSpPr/>
            <p:nvPr/>
          </p:nvSpPr>
          <p:spPr>
            <a:xfrm rot="21206400">
              <a:off x="1115640" y="2133720"/>
              <a:ext cx="2412720" cy="316800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2" name="" descr=""/>
            <p:cNvPicPr/>
            <p:nvPr/>
          </p:nvPicPr>
          <p:blipFill>
            <a:blip r:embed="rId5"/>
            <a:stretch/>
          </p:blipFill>
          <p:spPr>
            <a:xfrm rot="21206400">
              <a:off x="1235160" y="2250720"/>
              <a:ext cx="2194200" cy="2924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903" name=""/>
          <p:cNvSpPr/>
          <p:nvPr/>
        </p:nvSpPr>
        <p:spPr>
          <a:xfrm>
            <a:off x="4753080" y="2924280"/>
            <a:ext cx="4572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雄壮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4716360" y="2205000"/>
            <a:ext cx="1871640" cy="11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0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908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91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15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1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48360" y="2708280"/>
            <a:ext cx="216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新婚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幸运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826920" y="2276640"/>
            <a:ext cx="2521080" cy="1965240"/>
            <a:chOff x="826920" y="2276640"/>
            <a:chExt cx="2521080" cy="1965240"/>
          </a:xfrm>
        </p:grpSpPr>
        <p:sp>
          <p:nvSpPr>
            <p:cNvPr id="922" name=""/>
            <p:cNvSpPr/>
            <p:nvPr/>
          </p:nvSpPr>
          <p:spPr>
            <a:xfrm>
              <a:off x="826920" y="2276640"/>
              <a:ext cx="2521080" cy="19652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907920" y="2371320"/>
              <a:ext cx="2374920" cy="1781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24" name=""/>
          <p:cNvGrpSpPr/>
          <p:nvPr/>
        </p:nvGrpSpPr>
        <p:grpSpPr>
          <a:xfrm>
            <a:off x="1979640" y="3357720"/>
            <a:ext cx="2592360" cy="2020680"/>
            <a:chOff x="1979640" y="3357720"/>
            <a:chExt cx="2592360" cy="2020680"/>
          </a:xfrm>
        </p:grpSpPr>
        <p:sp>
          <p:nvSpPr>
            <p:cNvPr id="925" name=""/>
            <p:cNvSpPr/>
            <p:nvPr/>
          </p:nvSpPr>
          <p:spPr>
            <a:xfrm>
              <a:off x="1979640" y="3357720"/>
              <a:ext cx="2592360" cy="202068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6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2063160" y="3455280"/>
              <a:ext cx="2441880" cy="1831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27" name=""/>
          <p:cNvGrpSpPr/>
          <p:nvPr/>
        </p:nvGrpSpPr>
        <p:grpSpPr>
          <a:xfrm>
            <a:off x="1116000" y="2565360"/>
            <a:ext cx="3203640" cy="2496960"/>
            <a:chOff x="1116000" y="2565360"/>
            <a:chExt cx="3203640" cy="2496960"/>
          </a:xfrm>
        </p:grpSpPr>
        <p:sp>
          <p:nvSpPr>
            <p:cNvPr id="928" name=""/>
            <p:cNvSpPr/>
            <p:nvPr/>
          </p:nvSpPr>
          <p:spPr>
            <a:xfrm>
              <a:off x="1116000" y="2565360"/>
              <a:ext cx="3203640" cy="249696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9" name="" descr=""/>
            <p:cNvPicPr/>
            <p:nvPr/>
          </p:nvPicPr>
          <p:blipFill>
            <a:blip r:embed="rId6"/>
            <a:stretch/>
          </p:blipFill>
          <p:spPr>
            <a:xfrm>
              <a:off x="1219320" y="2685960"/>
              <a:ext cx="3017880" cy="2263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930" name="" descr=""/>
          <p:cNvPicPr/>
          <p:nvPr/>
        </p:nvPicPr>
        <p:blipFill>
          <a:blip r:embed="rId7"/>
          <a:stretch/>
        </p:blipFill>
        <p:spPr>
          <a:xfrm>
            <a:off x="4932360" y="2421000"/>
            <a:ext cx="295272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932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933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93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7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4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4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四、送花的禁忌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6" name=""/>
          <p:cNvSpPr/>
          <p:nvPr/>
        </p:nvSpPr>
        <p:spPr>
          <a:xfrm>
            <a:off x="1258920" y="1844640"/>
            <a:ext cx="7129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病时避免送白、 蓝、 黄色或香味过浓的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丧礼的场合送白玫瑰、 白莲花或素花均可， 象征惋惜怀念之情．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礼送花，适合送颜色鲜艳而富花语者佳， 可增进浪漫气氛， 表示甜蜜．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人士，除了丧礼外，任何场合均应避免送白花．国内人士喜爱红花，表示喜气</a:t>
            </a:r>
            <a:r>
              <a:rPr b="1" lang="zh-TW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4"/>
          <a:srcRect l="56532" t="0" r="0" b="0"/>
          <a:stretch/>
        </p:blipFill>
        <p:spPr>
          <a:xfrm>
            <a:off x="1116000" y="215568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5"/>
          <a:srcRect l="56532" t="0" r="0" b="0"/>
          <a:stretch/>
        </p:blipFill>
        <p:spPr>
          <a:xfrm>
            <a:off x="1114560" y="489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6"/>
          <a:srcRect l="56532" t="0" r="0" b="0"/>
          <a:stretch/>
        </p:blipFill>
        <p:spPr>
          <a:xfrm>
            <a:off x="1114560" y="27320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7"/>
          <a:srcRect l="56532" t="0" r="0" b="0"/>
          <a:stretch/>
        </p:blipFill>
        <p:spPr>
          <a:xfrm>
            <a:off x="1116000" y="38131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同心圆 14"/>
          <p:cNvSpPr/>
          <p:nvPr/>
        </p:nvSpPr>
        <p:spPr>
          <a:xfrm>
            <a:off x="-30240" y="1398600"/>
            <a:ext cx="97488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955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961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963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实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5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966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969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970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973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5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79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8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实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3" name=""/>
          <p:cNvSpPr/>
          <p:nvPr/>
        </p:nvSpPr>
        <p:spPr>
          <a:xfrm>
            <a:off x="900000" y="1341360"/>
            <a:ext cx="7129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你去你的班主任老师家拜访，你会带上什么礼品？你会如何开始寒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资料信息：爱人喜欢电子元件；儿子初中，喜欢军事、科技；母亲热情、随和，做菜水平高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260360" y="3522600"/>
            <a:ext cx="6840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是毕业后到班主任老师办公室拜访，邀请班主任去你公司做一场礼仪培训，你又该如何准备？要注意哪些礼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同心圆 14"/>
          <p:cNvSpPr/>
          <p:nvPr/>
        </p:nvSpPr>
        <p:spPr>
          <a:xfrm>
            <a:off x="-30240" y="1398600"/>
            <a:ext cx="97488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989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995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99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9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1000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-3201840" y="2565360"/>
            <a:ext cx="6910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7" descr="未标题1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4" name=""/>
          <p:cNvGrpSpPr/>
          <p:nvPr/>
        </p:nvGrpSpPr>
        <p:grpSpPr>
          <a:xfrm>
            <a:off x="1620720" y="836640"/>
            <a:ext cx="5759280" cy="792000"/>
            <a:chOff x="1620720" y="836640"/>
            <a:chExt cx="5759280" cy="792000"/>
          </a:xfrm>
        </p:grpSpPr>
        <p:sp>
          <p:nvSpPr>
            <p:cNvPr id="1005" name=""/>
            <p:cNvSpPr/>
            <p:nvPr/>
          </p:nvSpPr>
          <p:spPr>
            <a:xfrm>
              <a:off x="1908000" y="865080"/>
              <a:ext cx="547200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1620720" y="836640"/>
              <a:ext cx="5548320" cy="792000"/>
              <a:chOff x="1620720" y="836640"/>
              <a:chExt cx="5548320" cy="792000"/>
            </a:xfrm>
          </p:grpSpPr>
          <p:pic>
            <p:nvPicPr>
              <p:cNvPr id="100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0720" y="836640"/>
                <a:ext cx="55483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8" name=""/>
              <p:cNvSpPr/>
              <p:nvPr/>
            </p:nvSpPr>
            <p:spPr>
              <a:xfrm>
                <a:off x="1720800" y="989640"/>
                <a:ext cx="536112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9" name=""/>
          <p:cNvSpPr/>
          <p:nvPr/>
        </p:nvSpPr>
        <p:spPr>
          <a:xfrm>
            <a:off x="920880" y="1433520"/>
            <a:ext cx="3528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905120" y="1600200"/>
            <a:ext cx="5410080" cy="4191120"/>
          </a:xfrm>
          <a:prstGeom prst="foldedCorner">
            <a:avLst>
              <a:gd name="adj" fmla="val 12500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979640" y="162864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里士多德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说过：“人在社会生活中，是难以离开与其他人进行交往的。一个人如果不同其他人进行任何交往，那么他不是一位神，就是一只兽。”人际交往，礼尚往来，既体现对他人的尊重，也体现你自身的修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7" descr="未标题1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1905120" y="1600200"/>
            <a:ext cx="5410080" cy="4191120"/>
          </a:xfrm>
          <a:prstGeom prst="foldedCorner">
            <a:avLst>
              <a:gd name="adj" fmla="val 12500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1620720" y="836640"/>
            <a:ext cx="5759280" cy="792000"/>
            <a:chOff x="1620720" y="836640"/>
            <a:chExt cx="5759280" cy="792000"/>
          </a:xfrm>
        </p:grpSpPr>
        <p:sp>
          <p:nvSpPr>
            <p:cNvPr id="1015" name=""/>
            <p:cNvSpPr/>
            <p:nvPr/>
          </p:nvSpPr>
          <p:spPr>
            <a:xfrm>
              <a:off x="1908000" y="865080"/>
              <a:ext cx="547200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1620720" y="836640"/>
              <a:ext cx="5548320" cy="792000"/>
              <a:chOff x="1620720" y="836640"/>
              <a:chExt cx="5548320" cy="792000"/>
            </a:xfrm>
          </p:grpSpPr>
          <p:pic>
            <p:nvPicPr>
              <p:cNvPr id="101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0720" y="836640"/>
                <a:ext cx="55483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>
                <a:off x="1720800" y="989640"/>
                <a:ext cx="536112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寄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9" name=""/>
          <p:cNvSpPr/>
          <p:nvPr/>
        </p:nvSpPr>
        <p:spPr>
          <a:xfrm>
            <a:off x="920880" y="1433520"/>
            <a:ext cx="3528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203640" y="256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宴席上最让人开胃的就是主人的礼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882960" y="396864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莎士比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20"/>
          <p:cNvSpPr/>
          <p:nvPr/>
        </p:nvSpPr>
        <p:spPr>
          <a:xfrm>
            <a:off x="1487520" y="5219640"/>
            <a:ext cx="6168960" cy="42552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21"/>
          <p:cNvSpPr/>
          <p:nvPr/>
        </p:nvSpPr>
        <p:spPr>
          <a:xfrm>
            <a:off x="3011400" y="4888080"/>
            <a:ext cx="3121200" cy="72540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22"/>
          <p:cNvSpPr/>
          <p:nvPr/>
        </p:nvSpPr>
        <p:spPr>
          <a:xfrm>
            <a:off x="652320" y="5322960"/>
            <a:ext cx="7839360" cy="33156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25"/>
          <p:cNvSpPr/>
          <p:nvPr/>
        </p:nvSpPr>
        <p:spPr>
          <a:xfrm>
            <a:off x="2184480" y="5019840"/>
            <a:ext cx="4775040" cy="60624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等腰三角形 13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等腰三角形 1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等腰三角形 16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等腰三角形 17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等腰三角形 18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等腰三角形 19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等腰三角形 23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等腰三角形 2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等腰三角形 26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等腰三角形 27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7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 repeatCount="500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4" repeatCount="5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 repeatCount="500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 repeatCount="5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 repeatCount="5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4" repeatCount="5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 repeatCount="5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4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00" autoRev="1" fill="hold"/>
                                        <p:tgtEl>
                                          <p:spTgt spid="10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同心圆 14"/>
          <p:cNvSpPr/>
          <p:nvPr/>
        </p:nvSpPr>
        <p:spPr>
          <a:xfrm>
            <a:off x="-30240" y="1398600"/>
            <a:ext cx="974880" cy="97488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08000" y="2287440"/>
            <a:ext cx="432000" cy="432000"/>
            <a:chOff x="1908000" y="2287440"/>
            <a:chExt cx="432000" cy="432000"/>
          </a:xfrm>
        </p:grpSpPr>
        <p:pic>
          <p:nvPicPr>
            <p:cNvPr id="110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74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971360" y="235008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46320" y="2997360"/>
            <a:ext cx="6710040" cy="792000"/>
            <a:chOff x="1246320" y="2997360"/>
            <a:chExt cx="6710040" cy="792000"/>
          </a:xfrm>
        </p:grpSpPr>
        <p:sp>
          <p:nvSpPr>
            <p:cNvPr id="116" name=""/>
            <p:cNvSpPr/>
            <p:nvPr/>
          </p:nvSpPr>
          <p:spPr>
            <a:xfrm>
              <a:off x="1348560" y="303228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246320" y="2997360"/>
              <a:ext cx="6710040" cy="792000"/>
              <a:chOff x="1246320" y="2997360"/>
              <a:chExt cx="6710040" cy="792000"/>
            </a:xfrm>
          </p:grpSpPr>
          <p:pic>
            <p:nvPicPr>
              <p:cNvPr id="118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299736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367280" y="315036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一：拜访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476360" y="4508640"/>
            <a:ext cx="287280" cy="287280"/>
            <a:chOff x="1476360" y="4508640"/>
            <a:chExt cx="287280" cy="287280"/>
          </a:xfrm>
        </p:grpSpPr>
        <p:pic>
          <p:nvPicPr>
            <p:cNvPr id="121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6360" y="4508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518480" y="4550400"/>
              <a:ext cx="2037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125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12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004240" y="1434960"/>
            <a:ext cx="1225440" cy="565200"/>
            <a:chOff x="8004240" y="1434960"/>
            <a:chExt cx="1225440" cy="565200"/>
          </a:xfrm>
        </p:grpSpPr>
        <p:sp>
          <p:nvSpPr>
            <p:cNvPr id="132" name="同心圆 7"/>
            <p:cNvSpPr/>
            <p:nvPr/>
          </p:nvSpPr>
          <p:spPr>
            <a:xfrm>
              <a:off x="8004240" y="1562040"/>
              <a:ext cx="438120" cy="438120"/>
            </a:xfrm>
            <a:custGeom>
              <a:avLst/>
              <a:gdLst/>
              <a:ahLst/>
              <a:rect l="l" t="t" r="r" b="b"/>
              <a:pathLst>
                <a:path w="1160820" h="1160820">
                  <a:moveTo>
                    <a:pt x="0" y="580410"/>
                  </a:moveTo>
                  <a:cubicBezTo>
                    <a:pt x="0" y="259858"/>
                    <a:pt x="259858" y="0"/>
                    <a:pt x="580410" y="0"/>
                  </a:cubicBezTo>
                  <a:cubicBezTo>
                    <a:pt x="900962" y="0"/>
                    <a:pt x="1160820" y="259858"/>
                    <a:pt x="1160820" y="580410"/>
                  </a:cubicBezTo>
                  <a:cubicBezTo>
                    <a:pt x="1160820" y="900962"/>
                    <a:pt x="900962" y="1160820"/>
                    <a:pt x="580410" y="1160820"/>
                  </a:cubicBezTo>
                  <a:cubicBezTo>
                    <a:pt x="259858" y="1160820"/>
                    <a:pt x="0" y="900962"/>
                    <a:pt x="0" y="580410"/>
                  </a:cubicBezTo>
                  <a:close/>
                  <a:moveTo>
                    <a:pt x="104288" y="580410"/>
                  </a:moveTo>
                  <a:cubicBezTo>
                    <a:pt x="104288" y="843365"/>
                    <a:pt x="317455" y="1056532"/>
                    <a:pt x="580410" y="1056532"/>
                  </a:cubicBezTo>
                  <a:cubicBezTo>
                    <a:pt x="843365" y="1056532"/>
                    <a:pt x="1056532" y="843365"/>
                    <a:pt x="1056532" y="580410"/>
                  </a:cubicBezTo>
                  <a:cubicBezTo>
                    <a:pt x="1056532" y="317455"/>
                    <a:pt x="843365" y="104288"/>
                    <a:pt x="580410" y="104288"/>
                  </a:cubicBezTo>
                  <a:cubicBezTo>
                    <a:pt x="317455" y="104288"/>
                    <a:pt x="104288" y="317455"/>
                    <a:pt x="104288" y="58041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同心圆 9"/>
            <p:cNvSpPr/>
            <p:nvPr/>
          </p:nvSpPr>
          <p:spPr>
            <a:xfrm>
              <a:off x="8879040" y="1434960"/>
              <a:ext cx="350640" cy="351000"/>
            </a:xfrm>
            <a:custGeom>
              <a:avLst/>
              <a:gdLst/>
              <a:ahLst/>
              <a:rect l="l" t="t" r="r" b="b"/>
              <a:pathLst>
                <a:path w="928694" h="928694">
                  <a:moveTo>
                    <a:pt x="0" y="464347"/>
                  </a:moveTo>
                  <a:cubicBezTo>
                    <a:pt x="0" y="207895"/>
                    <a:pt x="207895" y="0"/>
                    <a:pt x="464347" y="0"/>
                  </a:cubicBezTo>
                  <a:cubicBezTo>
                    <a:pt x="720799" y="0"/>
                    <a:pt x="928694" y="207895"/>
                    <a:pt x="928694" y="464347"/>
                  </a:cubicBezTo>
                  <a:cubicBezTo>
                    <a:pt x="928694" y="720799"/>
                    <a:pt x="720799" y="928694"/>
                    <a:pt x="464347" y="928694"/>
                  </a:cubicBezTo>
                  <a:cubicBezTo>
                    <a:pt x="207895" y="928694"/>
                    <a:pt x="0" y="720799"/>
                    <a:pt x="0" y="464347"/>
                  </a:cubicBezTo>
                  <a:close/>
                  <a:moveTo>
                    <a:pt x="83434" y="464347"/>
                  </a:moveTo>
                  <a:cubicBezTo>
                    <a:pt x="83434" y="674719"/>
                    <a:pt x="253975" y="845260"/>
                    <a:pt x="464347" y="845260"/>
                  </a:cubicBezTo>
                  <a:cubicBezTo>
                    <a:pt x="674719" y="845260"/>
                    <a:pt x="845260" y="674719"/>
                    <a:pt x="845260" y="464347"/>
                  </a:cubicBezTo>
                  <a:cubicBezTo>
                    <a:pt x="845260" y="253975"/>
                    <a:pt x="674719" y="83434"/>
                    <a:pt x="464347" y="83434"/>
                  </a:cubicBezTo>
                  <a:cubicBezTo>
                    <a:pt x="253975" y="83434"/>
                    <a:pt x="83434" y="253975"/>
                    <a:pt x="83434" y="464347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36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3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1187280" y="2349360"/>
            <a:ext cx="2737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拜访预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93160" y="3125880"/>
            <a:ext cx="3319920" cy="1687320"/>
            <a:chOff x="1793160" y="3125880"/>
            <a:chExt cx="3319920" cy="1687320"/>
          </a:xfrm>
        </p:grpSpPr>
        <p:sp>
          <p:nvSpPr>
            <p:cNvPr id="142" name=""/>
            <p:cNvSpPr/>
            <p:nvPr/>
          </p:nvSpPr>
          <p:spPr>
            <a:xfrm>
              <a:off x="2916000" y="3427560"/>
              <a:ext cx="228600" cy="1143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32000" y="31258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微软雅黑"/>
                </a:rPr>
                <a:t>电话预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000" y="42926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微软雅黑"/>
                </a:rPr>
                <a:t>信件预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3160" y="3730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预约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420880" y="1818720"/>
            <a:ext cx="3256560" cy="4244040"/>
            <a:chOff x="5420880" y="1818720"/>
            <a:chExt cx="3256560" cy="4244040"/>
          </a:xfrm>
        </p:grpSpPr>
        <p:sp>
          <p:nvSpPr>
            <p:cNvPr id="147" name=""/>
            <p:cNvSpPr/>
            <p:nvPr/>
          </p:nvSpPr>
          <p:spPr>
            <a:xfrm rot="900000">
              <a:off x="5867280" y="2060280"/>
              <a:ext cx="2363760" cy="3760560"/>
            </a:xfrm>
            <a:custGeom>
              <a:avLst/>
              <a:gdLst>
                <a:gd name="textAreaLeft" fmla="*/ 115200 w 2363760"/>
                <a:gd name="textAreaRight" fmla="*/ 2248560 w 2363760"/>
                <a:gd name="textAreaTop" fmla="*/ 115200 h 3760560"/>
                <a:gd name="textAreaBottom" fmla="*/ 3645360 h 3760560"/>
              </a:gdLst>
              <a:ahLst/>
              <a:rect l="textAreaLeft" t="textAreaTop" r="textAreaRight" b="textAreaBottom"/>
              <a:pathLst>
                <a:path w="21600" h="34362">
                  <a:moveTo>
                    <a:pt x="3600" y="0"/>
                  </a:moveTo>
                  <a:arcTo wR="3600" hR="3600" stAng="16200000" swAng="-5400000"/>
                  <a:lnTo>
                    <a:pt x="0" y="30762"/>
                  </a:lnTo>
                  <a:arcTo wR="3600" hR="3600" stAng="10800000" swAng="-5400000"/>
                  <a:lnTo>
                    <a:pt x="18000" y="343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4"/>
            <a:srcRect l="12610" t="0" r="5052" b="0"/>
            <a:stretch/>
          </p:blipFill>
          <p:spPr>
            <a:xfrm rot="900000">
              <a:off x="6049440" y="2284920"/>
              <a:ext cx="1980000" cy="3305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49" name=""/>
          <p:cNvGrpSpPr/>
          <p:nvPr/>
        </p:nvGrpSpPr>
        <p:grpSpPr>
          <a:xfrm>
            <a:off x="5580000" y="1973160"/>
            <a:ext cx="2363760" cy="3760920"/>
            <a:chOff x="5580000" y="1973160"/>
            <a:chExt cx="2363760" cy="3760920"/>
          </a:xfrm>
        </p:grpSpPr>
        <p:sp>
          <p:nvSpPr>
            <p:cNvPr id="150" name=""/>
            <p:cNvSpPr/>
            <p:nvPr/>
          </p:nvSpPr>
          <p:spPr>
            <a:xfrm>
              <a:off x="5580000" y="1973160"/>
              <a:ext cx="2363760" cy="3760920"/>
            </a:xfrm>
            <a:custGeom>
              <a:avLst/>
              <a:gdLst>
                <a:gd name="textAreaLeft" fmla="*/ 115200 w 2363760"/>
                <a:gd name="textAreaRight" fmla="*/ 2248560 w 2363760"/>
                <a:gd name="textAreaTop" fmla="*/ 115200 h 3760920"/>
                <a:gd name="textAreaBottom" fmla="*/ 3645720 h 3760920"/>
              </a:gdLst>
              <a:ahLst/>
              <a:rect l="textAreaLeft" t="textAreaTop" r="textAreaRight" b="textAreaBottom"/>
              <a:pathLst>
                <a:path w="21600" h="34365">
                  <a:moveTo>
                    <a:pt x="3600" y="0"/>
                  </a:moveTo>
                  <a:arcTo wR="3600" hR="3600" stAng="16200000" swAng="-5400000"/>
                  <a:lnTo>
                    <a:pt x="0" y="30765"/>
                  </a:lnTo>
                  <a:arcTo wR="3600" hR="3600" stAng="10800000" swAng="-5400000"/>
                  <a:lnTo>
                    <a:pt x="18000" y="34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5"/>
            <a:srcRect l="12610" t="0" r="5052" b="0"/>
            <a:stretch/>
          </p:blipFill>
          <p:spPr>
            <a:xfrm>
              <a:off x="5761800" y="2200320"/>
              <a:ext cx="1980000" cy="3305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52" name=""/>
          <p:cNvSpPr/>
          <p:nvPr/>
        </p:nvSpPr>
        <p:spPr>
          <a:xfrm>
            <a:off x="5651640" y="2349360"/>
            <a:ext cx="2376360" cy="1511280"/>
          </a:xfrm>
          <a:solidFill>
            <a:srgbClr val="ffffff">
              <a:alpha val="84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切忌搞“突然袭击”，做“不速之客”！不得已时提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钟打个电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54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156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15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1160820" h="1160820">
                <a:moveTo>
                  <a:pt x="0" y="580410"/>
                </a:moveTo>
                <a:cubicBezTo>
                  <a:pt x="0" y="259858"/>
                  <a:pt x="259858" y="0"/>
                  <a:pt x="580410" y="0"/>
                </a:cubicBezTo>
                <a:cubicBezTo>
                  <a:pt x="900962" y="0"/>
                  <a:pt x="1160820" y="259858"/>
                  <a:pt x="1160820" y="580410"/>
                </a:cubicBezTo>
                <a:cubicBezTo>
                  <a:pt x="1160820" y="900962"/>
                  <a:pt x="900962" y="1160820"/>
                  <a:pt x="580410" y="1160820"/>
                </a:cubicBezTo>
                <a:cubicBezTo>
                  <a:pt x="259858" y="1160820"/>
                  <a:pt x="0" y="900962"/>
                  <a:pt x="0" y="580410"/>
                </a:cubicBezTo>
                <a:close/>
                <a:moveTo>
                  <a:pt x="104288" y="580410"/>
                </a:moveTo>
                <a:cubicBezTo>
                  <a:pt x="104288" y="843365"/>
                  <a:pt x="317455" y="1056532"/>
                  <a:pt x="580410" y="1056532"/>
                </a:cubicBezTo>
                <a:cubicBezTo>
                  <a:pt x="843365" y="1056532"/>
                  <a:pt x="1056532" y="843365"/>
                  <a:pt x="1056532" y="580410"/>
                </a:cubicBezTo>
                <a:cubicBezTo>
                  <a:pt x="1056532" y="317455"/>
                  <a:pt x="843365" y="104288"/>
                  <a:pt x="580410" y="104288"/>
                </a:cubicBezTo>
                <a:cubicBezTo>
                  <a:pt x="317455" y="104288"/>
                  <a:pt x="104288" y="317455"/>
                  <a:pt x="104288" y="58041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66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6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1187280" y="2278080"/>
            <a:ext cx="64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预约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263844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4000" y="2335320"/>
            <a:ext cx="16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私宅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377496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写字楼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51280" y="2133720"/>
            <a:ext cx="2952360" cy="942480"/>
            <a:chOff x="3851280" y="2133720"/>
            <a:chExt cx="2952360" cy="942480"/>
          </a:xfrm>
        </p:grpSpPr>
        <p:sp>
          <p:nvSpPr>
            <p:cNvPr id="175" name=""/>
            <p:cNvSpPr/>
            <p:nvPr/>
          </p:nvSpPr>
          <p:spPr>
            <a:xfrm>
              <a:off x="3851280" y="2133720"/>
              <a:ext cx="2711880" cy="837720"/>
            </a:xfrm>
            <a:prstGeom prst="bracketPair">
              <a:avLst>
                <a:gd name="adj" fmla="val 16666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6560" y="2133720"/>
              <a:ext cx="264708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晚上</a:t>
              </a:r>
              <a:r>
                <a:rPr b="1" lang="en-US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7:30~8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或节假日前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11640" y="3502080"/>
            <a:ext cx="3513240" cy="942480"/>
            <a:chOff x="4211640" y="3502080"/>
            <a:chExt cx="3513240" cy="942480"/>
          </a:xfrm>
        </p:grpSpPr>
        <p:sp>
          <p:nvSpPr>
            <p:cNvPr id="178" name=""/>
            <p:cNvSpPr/>
            <p:nvPr/>
          </p:nvSpPr>
          <p:spPr>
            <a:xfrm>
              <a:off x="4211640" y="3573360"/>
              <a:ext cx="3513240" cy="863640"/>
            </a:xfrm>
            <a:prstGeom prst="bracketPair">
              <a:avLst>
                <a:gd name="adj" fmla="val 16666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56000" y="3502080"/>
              <a:ext cx="32767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最好不要在星期一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或工作日的上下班时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4869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则上必须提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到达。但在现实生活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办公区域拜访应提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到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82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同心圆 4"/>
          <p:cNvSpPr/>
          <p:nvPr/>
        </p:nvSpPr>
        <p:spPr>
          <a:xfrm>
            <a:off x="-272880" y="1393920"/>
            <a:ext cx="963360" cy="963360"/>
          </a:xfrm>
          <a:custGeom>
            <a:avLst/>
            <a:gdLst/>
            <a:ahLst/>
            <a:rect l="l" t="t" r="r" b="b"/>
            <a:pathLst>
              <a:path w="1928826" h="1928826">
                <a:moveTo>
                  <a:pt x="0" y="964413"/>
                </a:moveTo>
                <a:cubicBezTo>
                  <a:pt x="0" y="431782"/>
                  <a:pt x="431782" y="0"/>
                  <a:pt x="964413" y="0"/>
                </a:cubicBezTo>
                <a:cubicBezTo>
                  <a:pt x="1497044" y="0"/>
                  <a:pt x="1928826" y="431782"/>
                  <a:pt x="1928826" y="964413"/>
                </a:cubicBezTo>
                <a:cubicBezTo>
                  <a:pt x="1928826" y="1497044"/>
                  <a:pt x="1497044" y="1928826"/>
                  <a:pt x="964413" y="1928826"/>
                </a:cubicBezTo>
                <a:cubicBezTo>
                  <a:pt x="431782" y="1928826"/>
                  <a:pt x="0" y="1497044"/>
                  <a:pt x="0" y="964413"/>
                </a:cubicBezTo>
                <a:close/>
                <a:moveTo>
                  <a:pt x="173286" y="964413"/>
                </a:moveTo>
                <a:cubicBezTo>
                  <a:pt x="173286" y="1401340"/>
                  <a:pt x="527486" y="1755540"/>
                  <a:pt x="964413" y="1755540"/>
                </a:cubicBezTo>
                <a:cubicBezTo>
                  <a:pt x="1401340" y="1755540"/>
                  <a:pt x="1755540" y="1401340"/>
                  <a:pt x="1755540" y="964413"/>
                </a:cubicBezTo>
                <a:cubicBezTo>
                  <a:pt x="1755540" y="527486"/>
                  <a:pt x="1401340" y="173286"/>
                  <a:pt x="964413" y="173286"/>
                </a:cubicBezTo>
                <a:cubicBezTo>
                  <a:pt x="527486" y="173286"/>
                  <a:pt x="173286" y="527486"/>
                  <a:pt x="173286" y="96441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同心圆 5"/>
          <p:cNvSpPr/>
          <p:nvPr/>
        </p:nvSpPr>
        <p:spPr>
          <a:xfrm>
            <a:off x="-179280" y="5807160"/>
            <a:ext cx="501480" cy="501480"/>
          </a:xfrm>
          <a:custGeom>
            <a:avLst/>
            <a:gdLst/>
            <a:ahLst/>
            <a:rect l="l" t="t" r="r" b="b"/>
            <a:pathLst>
              <a:path w="1444886" h="1444886">
                <a:moveTo>
                  <a:pt x="0" y="722443"/>
                </a:moveTo>
                <a:cubicBezTo>
                  <a:pt x="0" y="323449"/>
                  <a:pt x="323449" y="0"/>
                  <a:pt x="722443" y="0"/>
                </a:cubicBezTo>
                <a:cubicBezTo>
                  <a:pt x="1121437" y="0"/>
                  <a:pt x="1444886" y="323449"/>
                  <a:pt x="1444886" y="722443"/>
                </a:cubicBezTo>
                <a:cubicBezTo>
                  <a:pt x="1444886" y="1121437"/>
                  <a:pt x="1121437" y="1444886"/>
                  <a:pt x="722443" y="1444886"/>
                </a:cubicBezTo>
                <a:cubicBezTo>
                  <a:pt x="323449" y="1444886"/>
                  <a:pt x="0" y="1121437"/>
                  <a:pt x="0" y="722443"/>
                </a:cubicBezTo>
                <a:close/>
                <a:moveTo>
                  <a:pt x="129809" y="722443"/>
                </a:moveTo>
                <a:cubicBezTo>
                  <a:pt x="129809" y="1049746"/>
                  <a:pt x="395140" y="1315077"/>
                  <a:pt x="722443" y="1315077"/>
                </a:cubicBezTo>
                <a:cubicBezTo>
                  <a:pt x="1049746" y="1315077"/>
                  <a:pt x="1315077" y="1049746"/>
                  <a:pt x="1315077" y="722443"/>
                </a:cubicBezTo>
                <a:cubicBezTo>
                  <a:pt x="1315077" y="395140"/>
                  <a:pt x="1049746" y="129809"/>
                  <a:pt x="722443" y="129809"/>
                </a:cubicBezTo>
                <a:cubicBezTo>
                  <a:pt x="395140" y="129809"/>
                  <a:pt x="129809" y="395140"/>
                  <a:pt x="129809" y="722443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95280" y="2492280"/>
            <a:ext cx="431640" cy="432000"/>
            <a:chOff x="395280" y="2492280"/>
            <a:chExt cx="431640" cy="432000"/>
          </a:xfrm>
        </p:grpSpPr>
        <p:pic>
          <p:nvPicPr>
            <p:cNvPr id="186" name="同心圆 6" descr=""/>
            <p:cNvPicPr/>
            <p:nvPr/>
          </p:nvPicPr>
          <p:blipFill>
            <a:blip r:embed="rId2"/>
            <a:stretch/>
          </p:blipFill>
          <p:spPr>
            <a:xfrm>
              <a:off x="395280" y="249228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58640" y="2554920"/>
              <a:ext cx="306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92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9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1116000" y="2133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办公区域的预约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393920" y="2781360"/>
            <a:ext cx="2890800" cy="2874240"/>
            <a:chOff x="1393920" y="2781360"/>
            <a:chExt cx="2890800" cy="2874240"/>
          </a:xfrm>
        </p:grpSpPr>
        <p:sp>
          <p:nvSpPr>
            <p:cNvPr id="198" name=""/>
            <p:cNvSpPr/>
            <p:nvPr/>
          </p:nvSpPr>
          <p:spPr>
            <a:xfrm>
              <a:off x="1393920" y="27813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制定拜访目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05080" y="3395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准备好名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3920" y="40006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资料准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93920" y="4533840"/>
              <a:ext cx="289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适宜的礼品准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05080" y="5195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熟悉交通路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-272880" y="1393920"/>
            <a:ext cx="1099440" cy="4914360"/>
            <a:chOff x="-272880" y="1393920"/>
            <a:chExt cx="1099440" cy="4914360"/>
          </a:xfrm>
        </p:grpSpPr>
        <p:sp>
          <p:nvSpPr>
            <p:cNvPr id="205" name="同心圆 4"/>
            <p:cNvSpPr/>
            <p:nvPr/>
          </p:nvSpPr>
          <p:spPr>
            <a:xfrm>
              <a:off x="-272880" y="1393920"/>
              <a:ext cx="963360" cy="963360"/>
            </a:xfrm>
            <a:custGeom>
              <a:avLst/>
              <a:gdLst/>
              <a:ahLst/>
              <a:rect l="l" t="t" r="r" b="b"/>
              <a:pathLst>
                <a:path w="1928826" h="1928826">
                  <a:moveTo>
                    <a:pt x="0" y="964413"/>
                  </a:moveTo>
                  <a:cubicBezTo>
                    <a:pt x="0" y="431782"/>
                    <a:pt x="431782" y="0"/>
                    <a:pt x="964413" y="0"/>
                  </a:cubicBezTo>
                  <a:cubicBezTo>
                    <a:pt x="1497044" y="0"/>
                    <a:pt x="1928826" y="431782"/>
                    <a:pt x="1928826" y="964413"/>
                  </a:cubicBezTo>
                  <a:cubicBezTo>
                    <a:pt x="1928826" y="1497044"/>
                    <a:pt x="1497044" y="1928826"/>
                    <a:pt x="964413" y="1928826"/>
                  </a:cubicBezTo>
                  <a:cubicBezTo>
                    <a:pt x="431782" y="1928826"/>
                    <a:pt x="0" y="1497044"/>
                    <a:pt x="0" y="964413"/>
                  </a:cubicBezTo>
                  <a:close/>
                  <a:moveTo>
                    <a:pt x="173286" y="964413"/>
                  </a:moveTo>
                  <a:cubicBezTo>
                    <a:pt x="173286" y="1401340"/>
                    <a:pt x="527486" y="1755540"/>
                    <a:pt x="964413" y="1755540"/>
                  </a:cubicBezTo>
                  <a:cubicBezTo>
                    <a:pt x="1401340" y="1755540"/>
                    <a:pt x="1755540" y="1401340"/>
                    <a:pt x="1755540" y="964413"/>
                  </a:cubicBezTo>
                  <a:cubicBezTo>
                    <a:pt x="1755540" y="527486"/>
                    <a:pt x="1401340" y="173286"/>
                    <a:pt x="964413" y="173286"/>
                  </a:cubicBezTo>
                  <a:cubicBezTo>
                    <a:pt x="527486" y="173286"/>
                    <a:pt x="173286" y="527486"/>
                    <a:pt x="173286" y="964413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同心圆 5"/>
            <p:cNvSpPr/>
            <p:nvPr/>
          </p:nvSpPr>
          <p:spPr>
            <a:xfrm>
              <a:off x="-179280" y="5806800"/>
              <a:ext cx="502200" cy="501480"/>
            </a:xfrm>
            <a:custGeom>
              <a:avLst/>
              <a:gdLst/>
              <a:ahLst/>
              <a:rect l="l" t="t" r="r" b="b"/>
              <a:pathLst>
                <a:path w="1444886" h="1444886">
                  <a:moveTo>
                    <a:pt x="0" y="722443"/>
                  </a:moveTo>
                  <a:cubicBezTo>
                    <a:pt x="0" y="323449"/>
                    <a:pt x="323449" y="0"/>
                    <a:pt x="722443" y="0"/>
                  </a:cubicBezTo>
                  <a:cubicBezTo>
                    <a:pt x="1121437" y="0"/>
                    <a:pt x="1444886" y="323449"/>
                    <a:pt x="1444886" y="722443"/>
                  </a:cubicBezTo>
                  <a:cubicBezTo>
                    <a:pt x="1444886" y="1121437"/>
                    <a:pt x="1121437" y="1444886"/>
                    <a:pt x="722443" y="1444886"/>
                  </a:cubicBezTo>
                  <a:cubicBezTo>
                    <a:pt x="323449" y="1444886"/>
                    <a:pt x="0" y="1121437"/>
                    <a:pt x="0" y="722443"/>
                  </a:cubicBezTo>
                  <a:close/>
                  <a:moveTo>
                    <a:pt x="129809" y="722443"/>
                  </a:moveTo>
                  <a:cubicBezTo>
                    <a:pt x="129809" y="1049746"/>
                    <a:pt x="395140" y="1315077"/>
                    <a:pt x="722443" y="1315077"/>
                  </a:cubicBezTo>
                  <a:cubicBezTo>
                    <a:pt x="1049746" y="1315077"/>
                    <a:pt x="1315077" y="1049746"/>
                    <a:pt x="1315077" y="722443"/>
                  </a:cubicBezTo>
                  <a:cubicBezTo>
                    <a:pt x="1315077" y="395140"/>
                    <a:pt x="1049746" y="129809"/>
                    <a:pt x="722443" y="129809"/>
                  </a:cubicBezTo>
                  <a:cubicBezTo>
                    <a:pt x="395140" y="129809"/>
                    <a:pt x="129809" y="395140"/>
                    <a:pt x="129809" y="722443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95640" y="2492280"/>
              <a:ext cx="430920" cy="431280"/>
              <a:chOff x="395640" y="2492280"/>
              <a:chExt cx="430920" cy="431280"/>
            </a:xfrm>
          </p:grpSpPr>
          <p:pic>
            <p:nvPicPr>
              <p:cNvPr id="20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640" y="2492280"/>
                <a:ext cx="43092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458640" y="2554920"/>
                <a:ext cx="30564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1142984" h="1142984">
                <a:moveTo>
                  <a:pt x="0" y="571492"/>
                </a:moveTo>
                <a:cubicBezTo>
                  <a:pt x="0" y="255866"/>
                  <a:pt x="255866" y="0"/>
                  <a:pt x="571492" y="0"/>
                </a:cubicBezTo>
                <a:cubicBezTo>
                  <a:pt x="887118" y="0"/>
                  <a:pt x="1142984" y="255866"/>
                  <a:pt x="1142984" y="571492"/>
                </a:cubicBezTo>
                <a:cubicBezTo>
                  <a:pt x="1142984" y="887118"/>
                  <a:pt x="887118" y="1142984"/>
                  <a:pt x="571492" y="1142984"/>
                </a:cubicBezTo>
                <a:cubicBezTo>
                  <a:pt x="255866" y="1142984"/>
                  <a:pt x="0" y="887118"/>
                  <a:pt x="0" y="571492"/>
                </a:cubicBezTo>
                <a:close/>
                <a:moveTo>
                  <a:pt x="68648" y="571492"/>
                </a:moveTo>
                <a:cubicBezTo>
                  <a:pt x="68648" y="849205"/>
                  <a:pt x="293779" y="1074336"/>
                  <a:pt x="571492" y="1074336"/>
                </a:cubicBezTo>
                <a:cubicBezTo>
                  <a:pt x="849205" y="1074336"/>
                  <a:pt x="1074336" y="849205"/>
                  <a:pt x="1074336" y="571492"/>
                </a:cubicBezTo>
                <a:cubicBezTo>
                  <a:pt x="1074336" y="293779"/>
                  <a:pt x="849205" y="68648"/>
                  <a:pt x="571492" y="68648"/>
                </a:cubicBezTo>
                <a:cubicBezTo>
                  <a:pt x="293779" y="68648"/>
                  <a:pt x="68648" y="293779"/>
                  <a:pt x="68648" y="57149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928694" h="928694">
                <a:moveTo>
                  <a:pt x="0" y="464347"/>
                </a:moveTo>
                <a:cubicBezTo>
                  <a:pt x="0" y="207895"/>
                  <a:pt x="207895" y="0"/>
                  <a:pt x="464347" y="0"/>
                </a:cubicBezTo>
                <a:cubicBezTo>
                  <a:pt x="720799" y="0"/>
                  <a:pt x="928694" y="207895"/>
                  <a:pt x="928694" y="464347"/>
                </a:cubicBezTo>
                <a:cubicBezTo>
                  <a:pt x="928694" y="720799"/>
                  <a:pt x="720799" y="928694"/>
                  <a:pt x="464347" y="928694"/>
                </a:cubicBezTo>
                <a:cubicBezTo>
                  <a:pt x="207895" y="928694"/>
                  <a:pt x="0" y="720799"/>
                  <a:pt x="0" y="464347"/>
                </a:cubicBezTo>
                <a:close/>
                <a:moveTo>
                  <a:pt x="83434" y="464347"/>
                </a:moveTo>
                <a:cubicBezTo>
                  <a:pt x="83434" y="674719"/>
                  <a:pt x="253975" y="845260"/>
                  <a:pt x="464347" y="845260"/>
                </a:cubicBezTo>
                <a:cubicBezTo>
                  <a:pt x="674719" y="845260"/>
                  <a:pt x="845260" y="674719"/>
                  <a:pt x="845260" y="464347"/>
                </a:cubicBezTo>
                <a:cubicBezTo>
                  <a:pt x="845260" y="253975"/>
                  <a:pt x="674719" y="83434"/>
                  <a:pt x="464347" y="83434"/>
                </a:cubicBezTo>
                <a:cubicBezTo>
                  <a:pt x="253975" y="83434"/>
                  <a:pt x="83434" y="253975"/>
                  <a:pt x="83434" y="464347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14" name=""/>
            <p:cNvSpPr/>
            <p:nvPr/>
          </p:nvSpPr>
          <p:spPr>
            <a:xfrm>
              <a:off x="1203840" y="727200"/>
              <a:ext cx="6537240" cy="7081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1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1222560" y="845280"/>
                <a:ext cx="6483240" cy="46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二）着装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>
            <a:off x="4500720" y="2220840"/>
            <a:ext cx="374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出门拜访之前，应根据访问的对象、目的等，将自己的衣物、容貌适当的加以修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可以形象的反映出你对被访者的尊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4"/>
          </p:cNvPr>
          <p:cNvPicPr/>
          <p:nvPr/>
        </p:nvPicPr>
        <p:blipFill>
          <a:blip r:embed="rId5"/>
          <a:srcRect l="67095" t="0" r="0" b="0"/>
          <a:stretch/>
        </p:blipFill>
        <p:spPr>
          <a:xfrm>
            <a:off x="2916360" y="2492280"/>
            <a:ext cx="139680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0" name="" descr="">
            <a:hlinkClick r:id="rId6"/>
          </p:cNvPr>
          <p:cNvPicPr/>
          <p:nvPr/>
        </p:nvPicPr>
        <p:blipFill>
          <a:blip r:embed="rId7"/>
          <a:srcRect l="33411" t="0" r="33449" b="0"/>
          <a:stretch/>
        </p:blipFill>
        <p:spPr>
          <a:xfrm>
            <a:off x="971640" y="1968480"/>
            <a:ext cx="1577880" cy="333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1" name="" descr="">
            <a:hlinkClick r:id="rId8"/>
          </p:cNvPr>
          <p:cNvPicPr/>
          <p:nvPr/>
        </p:nvPicPr>
        <p:blipFill>
          <a:blip r:embed="rId9"/>
          <a:srcRect l="0" t="0" r="67095" b="0"/>
          <a:stretch/>
        </p:blipFill>
        <p:spPr>
          <a:xfrm>
            <a:off x="1979640" y="3214800"/>
            <a:ext cx="1285920" cy="273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0:08:14Z</dcterms:created>
  <dc:creator>yk</dc:creator>
  <dc:description/>
  <dc:language>en-US</dc:language>
  <cp:lastModifiedBy>pc</cp:lastModifiedBy>
  <dcterms:modified xsi:type="dcterms:W3CDTF">2015-07-03T03:37:00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