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47B-9FB3-4D0E-A33F-F0DC9B24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E68-2BAD-4E2F-B7BE-7F62A4EF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43E-F92D-4F08-B4EA-2BB74B3B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32F-05E4-47F2-A0E5-6FF874DF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046-880F-4C4C-BDD7-79D64655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D93-1343-4407-AF9E-DA7B7E37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3E4-1283-4B24-BB59-81CD2A1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59B-0034-4F77-9E25-5FA21A3C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95B-F3D3-4156-887D-DCDFC4DB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A64-49AD-42C8-86FB-A75FB9A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707-CEBA-4C6B-ACE0-A6769CC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5CE-7DA8-435C-B096-5685E57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29C0-D787-4679-BE64-96FE1BA08D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071960" y="4413240"/>
            <a:ext cx="528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786200" y="527364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相关类别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714760" y="185724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299772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070800" y="370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"/>
          <p:cNvSpPr/>
          <p:nvPr/>
        </p:nvSpPr>
        <p:spPr>
          <a:xfrm>
            <a:off x="4359240" y="3714840"/>
            <a:ext cx="5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5643720" y="3714840"/>
            <a:ext cx="42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 flipH="1">
            <a:off x="2928240" y="3746520"/>
            <a:ext cx="42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1211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5213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bj</cp:lastModifiedBy>
  <dcterms:modified xsi:type="dcterms:W3CDTF">2013-11-01T01:18:18Z</dcterms:modified>
  <cp:revision>1</cp:revision>
  <dc:subject/>
  <dc:title>幻灯片 1</dc:title>
</cp:coreProperties>
</file>