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48A-98CB-4A90-9187-2887AFA7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932-3609-4B3A-9057-A2C521F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4A3-A060-4864-B058-29B62CDE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FBD-14E8-4869-B45F-BEB875E5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0BB-0029-462D-BDA1-9F5A12C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CD2-FA11-4518-9B50-E06C088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7DF-8C48-4CF8-B822-994F8B57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286-D0B3-4738-971C-016AF4E5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926-72B4-4EE2-8048-A5F1EB39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B7F-DC2D-48D1-8360-7BE3707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0FB-F06E-4DEF-BF7A-8995DBC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21D-F265-4A88-83EE-CA79C92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CC2-8B28-4A5E-9DAA-544246D1B7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D86-1E2E-4663-961A-B2A027EFA6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42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45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图片 4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" descr=""/>
          <p:cNvPicPr/>
          <p:nvPr/>
        </p:nvPicPr>
        <p:blipFill>
          <a:blip r:embed="rId4"/>
          <a:stretch/>
        </p:blipFill>
        <p:spPr>
          <a:xfrm rot="6589800">
            <a:off x="803520" y="201672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6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7" descr=""/>
          <p:cNvPicPr/>
          <p:nvPr/>
        </p:nvPicPr>
        <p:blipFill>
          <a:blip r:embed="rId6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" descr=""/>
          <p:cNvPicPr/>
          <p:nvPr/>
        </p:nvPicPr>
        <p:blipFill>
          <a:blip r:embed="rId7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1" descr=""/>
          <p:cNvPicPr/>
          <p:nvPr/>
        </p:nvPicPr>
        <p:blipFill>
          <a:blip r:embed="rId8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istrator\My Documents\My Pictures\1659_51.wmf"/>
          <p:cNvPicPr/>
          <p:nvPr/>
        </p:nvPicPr>
        <p:blipFill>
          <a:blip r:embed="rId9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4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5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8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60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63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66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69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2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4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9" name="图片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0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1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82" name="图片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图片 4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图片 47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87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90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91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92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97" name="图片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99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00" name="图片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图片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图片 3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3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26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27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28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33" name="图片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4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35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36" name="图片 6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图片 7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图片 7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>
              <a:gd name="textAreaLeft" fmla="*/ 0 w 4236840"/>
              <a:gd name="textAreaRight" fmla="*/ 4237200 w 42368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>
              <a:gd name="textAreaLeft" fmla="*/ 360 w 4238640"/>
              <a:gd name="textAreaRight" fmla="*/ 4239360 w 423864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rot="18900000">
            <a:off x="1866600" y="2944800"/>
            <a:ext cx="1060560" cy="106200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 rot="18900000">
            <a:off x="4111560" y="2946240"/>
            <a:ext cx="106056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 rot="18900000">
            <a:off x="6334200" y="2945880"/>
            <a:ext cx="10602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55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56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57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62" name="图片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64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65" name="图片 4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图片 4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图片 47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8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94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95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96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01" name="图片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2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3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04" name="图片 6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图片 6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图片 69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7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209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11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5240"/>
                  <a:gd name="textAreaBottom" fmla="*/ 525240 h 615240"/>
                </a:gdLst>
                <a:ahLst/>
                <a:rect l="textAreaLeft" t="textAreaTop" r="textAreaRight" b="textAreaBottom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221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23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4880"/>
                  <a:gd name="textAreaBottom" fmla="*/ 524880 h 614880"/>
                </a:gdLst>
                <a:ahLst/>
                <a:rect l="textAreaLeft" t="textAreaTop" r="textAreaRight" b="textAreaBottom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233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>
                <a:gd name="textAreaLeft" fmla="*/ 313920 w 2143440"/>
                <a:gd name="textAreaRight" fmla="*/ 1829520 w 2143440"/>
                <a:gd name="textAreaTop" fmla="*/ 87120 h 595080"/>
                <a:gd name="textAreaBottom" fmla="*/ 507960 h 59508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44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45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46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51" name="图片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2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53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54" name="图片 7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图片 7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图片 74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7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>
              <a:gd name="textAreaLeft" fmla="*/ 0 w 2203560"/>
              <a:gd name="textAreaRight" fmla="*/ 2203920 w 220356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3149640"/>
              <a:gd name="textAreaBottom" fmla="*/ 3150000 h 3149640"/>
            </a:gdLst>
            <a:ahLst/>
            <a:rect l="textAreaLeft" t="textAreaTop" r="textAreaRight" b="textAreaBottom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12"/>
          <p:cNvSpPr/>
          <p:nvPr/>
        </p:nvSpPr>
        <p:spPr>
          <a:xfrm rot="3533400">
            <a:off x="5794920" y="41461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67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68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69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74" name="图片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5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76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77" name="图片 3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图片 4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图片 4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0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3" descr=""/>
          <p:cNvPicPr/>
          <p:nvPr/>
        </p:nvPicPr>
        <p:blipFill>
          <a:blip r:embed="rId2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51" descr=""/>
          <p:cNvPicPr/>
          <p:nvPr/>
        </p:nvPicPr>
        <p:blipFill>
          <a:blip r:embed="rId3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25" descr=""/>
          <p:cNvPicPr/>
          <p:nvPr/>
        </p:nvPicPr>
        <p:blipFill>
          <a:blip r:embed="rId4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26" descr=""/>
          <p:cNvPicPr/>
          <p:nvPr/>
        </p:nvPicPr>
        <p:blipFill>
          <a:blip r:embed="rId5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32" descr=""/>
          <p:cNvPicPr/>
          <p:nvPr/>
        </p:nvPicPr>
        <p:blipFill>
          <a:blip r:embed="rId6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dc:language>en-US</dc:language>
  <cp:lastModifiedBy>杨光</cp:lastModifiedBy>
  <dcterms:modified xsi:type="dcterms:W3CDTF">2015-05-09T06:28:00Z</dcterms:modified>
  <cp:revision>1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