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3904BFA-A245-419F-A2D7-9C40A245F38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90920"/>
            <a:ext cx="7414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08ED-EBFC-4C90-A2B1-CBC03A8B20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55640" y="3596760"/>
            <a:ext cx="73454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000" y="2590920"/>
            <a:ext cx="7414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6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7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6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2959200" y="2997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ERICLAU</cp:lastModifiedBy>
  <dcterms:modified xsi:type="dcterms:W3CDTF">2015-07-15T09:25:19Z</dcterms:modified>
  <cp:revision>27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