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428D-5BA7-4206-B77C-1A5AF0A5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3640" y="269640"/>
            <a:ext cx="59626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4e3f"/>
              </a:solidFill>
              <a:latin typeface="Tempus Sans IT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8120" y="1294920"/>
            <a:ext cx="826776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8120" y="3938760"/>
            <a:ext cx="826776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26E4-46A1-4FDD-8035-99787323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3640" y="269640"/>
            <a:ext cx="59626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4e3f"/>
              </a:solidFill>
              <a:latin typeface="Tempus Sans IT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8120" y="1294920"/>
            <a:ext cx="40345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600" y="1294920"/>
            <a:ext cx="40345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8120" y="3938760"/>
            <a:ext cx="40345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600" y="3938760"/>
            <a:ext cx="40345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0F8D-B00E-4FC8-8EC9-A2EECC90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3640" y="269640"/>
            <a:ext cx="59626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4e3f"/>
              </a:solidFill>
              <a:latin typeface="Tempus Sans IT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8120" y="1294920"/>
            <a:ext cx="266184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520" y="1294920"/>
            <a:ext cx="266184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8920" y="1294920"/>
            <a:ext cx="266184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8120" y="3938760"/>
            <a:ext cx="266184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520" y="3938760"/>
            <a:ext cx="266184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8920" y="3938760"/>
            <a:ext cx="266184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4601-F115-49D1-B169-CDC543FDE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B4D2-85A2-49C0-BE8D-9B7ECB2E3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69640"/>
            <a:ext cx="59626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4e3f"/>
              </a:solidFill>
              <a:latin typeface="Tempus Sans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8120" y="1294920"/>
            <a:ext cx="82677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DD4B-838E-490C-AC28-77EE069C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269640"/>
            <a:ext cx="59626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4e3f"/>
              </a:solidFill>
              <a:latin typeface="Tempus Sans IT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8120" y="1294920"/>
            <a:ext cx="826776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736E-214F-434E-BBFA-CB71907F6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3640" y="269640"/>
            <a:ext cx="59626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4e3f"/>
              </a:solidFill>
              <a:latin typeface="Tempus Sans IT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8120" y="1294920"/>
            <a:ext cx="403452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600" y="1294920"/>
            <a:ext cx="403452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D69F-3392-4A74-A055-E066237E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269640"/>
            <a:ext cx="59626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4e3f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1C26-734F-4075-B1B7-50B2EDAE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3640" y="269640"/>
            <a:ext cx="596268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E282-6F3C-458A-9169-0C1BC32A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3640" y="269640"/>
            <a:ext cx="59626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4e3f"/>
              </a:solidFill>
              <a:latin typeface="Tempus Sans IT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8120" y="1294920"/>
            <a:ext cx="40345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600" y="1294920"/>
            <a:ext cx="403452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8120" y="3938760"/>
            <a:ext cx="40345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CAB08-7085-4886-BA2E-91287409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3640" y="269640"/>
            <a:ext cx="59626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4e3f"/>
              </a:solidFill>
              <a:latin typeface="Tempus Sans IT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8120" y="1294920"/>
            <a:ext cx="82677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BFB2-2360-4DF9-97E8-4D5356C2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3640" y="269640"/>
            <a:ext cx="59626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4e3f"/>
              </a:solidFill>
              <a:latin typeface="Tempus Sans IT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8120" y="1294920"/>
            <a:ext cx="403452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600" y="1294920"/>
            <a:ext cx="40345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600" y="3938760"/>
            <a:ext cx="40345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55CA-A654-4BDB-A7A6-58E26E38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269640"/>
            <a:ext cx="59626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4e3f"/>
              </a:solidFill>
              <a:latin typeface="Tempus Sans IT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8120" y="1294920"/>
            <a:ext cx="40345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600" y="1294920"/>
            <a:ext cx="40345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8120" y="3938760"/>
            <a:ext cx="826776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8E6C-6C27-4774-B35E-516406B2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3640" y="269640"/>
            <a:ext cx="59626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4e3f"/>
              </a:solidFill>
              <a:latin typeface="Tempus Sans IT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8120" y="1294920"/>
            <a:ext cx="826776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8120" y="3938760"/>
            <a:ext cx="826776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9C58-1FF9-4EEE-8047-624A1E79E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269640"/>
            <a:ext cx="59626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4e3f"/>
              </a:solidFill>
              <a:latin typeface="Tempus Sans IT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8120" y="1294920"/>
            <a:ext cx="40345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600" y="1294920"/>
            <a:ext cx="40345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8120" y="3938760"/>
            <a:ext cx="40345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600" y="3938760"/>
            <a:ext cx="40345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4C35-669B-46E8-AB48-82F703B5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3640" y="269640"/>
            <a:ext cx="59626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4e3f"/>
              </a:solidFill>
              <a:latin typeface="Tempus Sans IT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8120" y="1294920"/>
            <a:ext cx="266184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3520" y="1294920"/>
            <a:ext cx="266184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8920" y="1294920"/>
            <a:ext cx="266184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8120" y="3938760"/>
            <a:ext cx="266184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3520" y="3938760"/>
            <a:ext cx="266184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8920" y="3938760"/>
            <a:ext cx="266184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FD68-E684-450D-AA15-6905A60A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3640" y="269640"/>
            <a:ext cx="59626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4e3f"/>
              </a:solidFill>
              <a:latin typeface="Tempus Sans IT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8120" y="1294920"/>
            <a:ext cx="826776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C979-D9CF-40E5-A06A-8CB15744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3640" y="269640"/>
            <a:ext cx="59626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4e3f"/>
              </a:solidFill>
              <a:latin typeface="Tempus Sans IT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8120" y="1294920"/>
            <a:ext cx="403452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600" y="1294920"/>
            <a:ext cx="403452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2E06-DA04-4A3A-A061-F73B2511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3640" y="269640"/>
            <a:ext cx="59626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4e3f"/>
              </a:solidFill>
              <a:latin typeface="Tempus Sans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790B-E524-4960-A1E1-475E66FF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3640" y="269640"/>
            <a:ext cx="596268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97E0-51DC-401A-A500-80A57F4F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3640" y="269640"/>
            <a:ext cx="59626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4e3f"/>
              </a:solidFill>
              <a:latin typeface="Tempus Sans IT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8120" y="1294920"/>
            <a:ext cx="40345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600" y="1294920"/>
            <a:ext cx="403452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8120" y="3938760"/>
            <a:ext cx="40345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EADB-979F-418F-ABBD-29556253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3640" y="269640"/>
            <a:ext cx="59626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4e3f"/>
              </a:solidFill>
              <a:latin typeface="Tempus Sans IT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8120" y="1294920"/>
            <a:ext cx="403452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600" y="1294920"/>
            <a:ext cx="40345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600" y="3938760"/>
            <a:ext cx="40345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F9A9-46DE-4AE4-AE90-1F461D36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3640" y="269640"/>
            <a:ext cx="59626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4e3f"/>
              </a:solidFill>
              <a:latin typeface="Tempus Sans IT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8120" y="1294920"/>
            <a:ext cx="40345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600" y="1294920"/>
            <a:ext cx="403452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8120" y="3938760"/>
            <a:ext cx="8267760" cy="24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71C3-E1C4-472F-A77E-2376FF0D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23640" y="269640"/>
            <a:ext cx="59626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4e3f"/>
                </a:solidFill>
                <a:latin typeface="Tempus Sans ITC"/>
              </a:rPr>
              <a:t>Click to edit the title text format</a:t>
            </a:r>
            <a:endParaRPr b="0" lang="en-US" sz="3200" spc="-1" strike="noStrike">
              <a:solidFill>
                <a:srgbClr val="fb4e3f"/>
              </a:solidFill>
              <a:latin typeface="Tempus Sans IT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8120" y="1294920"/>
            <a:ext cx="826776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Clr>
                <a:srgbClr val="fb4e3f"/>
              </a:buClr>
              <a:buSzPct val="70000"/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  <a:p>
            <a:pPr lvl="1" marL="357120" indent="-357120">
              <a:lnSpc>
                <a:spcPct val="90000"/>
              </a:lnSpc>
              <a:spcBef>
                <a:spcPts val="1800"/>
              </a:spcBef>
              <a:buClr>
                <a:srgbClr val="5f5f5f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D940-06F4-449E-9FAE-47BD1FEEF0D9}" type="slidenum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14320" y="1892160"/>
            <a:ext cx="539604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4e3f"/>
                </a:solidFill>
                <a:latin typeface="Tempus Sans ITC"/>
              </a:rPr>
              <a:t>Click to edit the title text format</a:t>
            </a:r>
            <a:endParaRPr b="0" lang="en-US" sz="3600" spc="-1" strike="noStrike">
              <a:solidFill>
                <a:srgbClr val="fb4e3f"/>
              </a:solidFill>
              <a:latin typeface="Tempus Sans IT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5E4B-9A44-442C-9B31-D83C1C7F6488}" type="slidenum">
              <a:rPr b="0" lang="zh-CN" sz="1200" spc="-1" strike="noStrike">
                <a:solidFill>
                  <a:srgbClr val="a6a6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indent="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5f5f5f"/>
              </a:solidFill>
              <a:latin typeface="Calibri"/>
            </a:endParaRPr>
          </a:p>
          <a:p>
            <a:pPr lvl="2" marL="914400" algn="ctr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7f7f7f"/>
              </a:solidFill>
              <a:latin typeface="Calibri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7f7f7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14320" y="1892160"/>
            <a:ext cx="5396040" cy="11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b4e3f"/>
              </a:solidFill>
              <a:latin typeface="Tempus Sans IT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498840" y="3235320"/>
            <a:ext cx="54259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69640"/>
            <a:ext cx="596268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b4e3f"/>
              </a:solidFill>
              <a:latin typeface="Tempus Sans IT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38120" y="1294920"/>
            <a:ext cx="826776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2:52:00Z</dcterms:created>
  <dc:creator>admin</dc:creator>
  <dc:description/>
  <dc:language>en-US</dc:language>
  <cp:lastModifiedBy>admin</cp:lastModifiedBy>
  <dcterms:modified xsi:type="dcterms:W3CDTF">2015-06-17T09:47:18Z</dcterms:modified>
  <cp:revision>120</cp:revision>
  <dc:subject/>
  <dc:title>fdsa</dc:title>
</cp:coreProperties>
</file>