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F79A-C35C-4E89-AC68-3871B2EFA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10A1-5774-45D9-8D69-571976472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79B3-5C83-4C7B-89AD-BF1600E8E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D51C-3214-49E1-ADD4-E85E0AD20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14E1-C085-4B4F-9E81-D20ACFA09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4D87-3FE6-4820-B947-8ACF46CFD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1EFE-19B5-4B2B-8810-66EBEE9C1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3664-F828-4B27-85BE-9B725C766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E850-5DB0-4897-B4B2-4FC858AA7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477B-2C07-4AC0-8B89-3C0C5B87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D97E-9C46-469C-ADFC-DC63AAFD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1EFA-5965-442E-A263-07FA5895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1A50C-2ECA-461E-AD03-3A58C6E16DD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000240" y="3857760"/>
            <a:ext cx="485784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医疗保健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5286240" y="6984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6"/>
          <p:cNvSpPr/>
          <p:nvPr/>
        </p:nvSpPr>
        <p:spPr>
          <a:xfrm>
            <a:off x="3071880" y="4357800"/>
            <a:ext cx="3000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流程图: 文档 10"/>
          <p:cNvSpPr/>
          <p:nvPr/>
        </p:nvSpPr>
        <p:spPr>
          <a:xfrm>
            <a:off x="1214280" y="2143080"/>
            <a:ext cx="3500640" cy="3214800"/>
          </a:xfrm>
          <a:prstGeom prst="flowChartDocument">
            <a:avLst/>
          </a:prstGeom>
          <a:solidFill>
            <a:srgbClr val="1f7a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流程图: 文档 11"/>
          <p:cNvSpPr/>
          <p:nvPr/>
        </p:nvSpPr>
        <p:spPr>
          <a:xfrm flipH="1" flipV="1">
            <a:off x="4714200" y="1500120"/>
            <a:ext cx="3500280" cy="3214800"/>
          </a:xfrm>
          <a:prstGeom prst="flowChartDocument">
            <a:avLst/>
          </a:prstGeom>
          <a:solidFill>
            <a:srgbClr val="51a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3"/>
          <p:cNvSpPr/>
          <p:nvPr/>
        </p:nvSpPr>
        <p:spPr>
          <a:xfrm>
            <a:off x="592668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14"/>
          <p:cNvSpPr/>
          <p:nvPr/>
        </p:nvSpPr>
        <p:spPr>
          <a:xfrm>
            <a:off x="306900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十字形 9"/>
          <p:cNvSpPr/>
          <p:nvPr/>
        </p:nvSpPr>
        <p:spPr>
          <a:xfrm>
            <a:off x="1643040" y="2500200"/>
            <a:ext cx="1357200" cy="1357560"/>
          </a:xfrm>
          <a:prstGeom prst="plus">
            <a:avLst>
              <a:gd name="adj" fmla="val 25000"/>
            </a:avLst>
          </a:prstGeom>
          <a:solidFill>
            <a:srgbClr val="1f7a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十字形 10"/>
          <p:cNvSpPr/>
          <p:nvPr/>
        </p:nvSpPr>
        <p:spPr>
          <a:xfrm>
            <a:off x="3286080" y="2500200"/>
            <a:ext cx="1357200" cy="1357560"/>
          </a:xfrm>
          <a:prstGeom prst="plus">
            <a:avLst>
              <a:gd name="adj" fmla="val 25000"/>
            </a:avLst>
          </a:prstGeom>
          <a:solidFill>
            <a:srgbClr val="51a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十字形 11"/>
          <p:cNvSpPr/>
          <p:nvPr/>
        </p:nvSpPr>
        <p:spPr>
          <a:xfrm>
            <a:off x="5000760" y="2500200"/>
            <a:ext cx="1357200" cy="1357560"/>
          </a:xfrm>
          <a:prstGeom prst="plus">
            <a:avLst>
              <a:gd name="adj" fmla="val 25000"/>
            </a:avLst>
          </a:prstGeom>
          <a:solidFill>
            <a:srgbClr val="1f7a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十字形 12"/>
          <p:cNvSpPr/>
          <p:nvPr/>
        </p:nvSpPr>
        <p:spPr>
          <a:xfrm>
            <a:off x="6643800" y="2500200"/>
            <a:ext cx="1357200" cy="1357560"/>
          </a:xfrm>
          <a:prstGeom prst="plus">
            <a:avLst>
              <a:gd name="adj" fmla="val 25000"/>
            </a:avLst>
          </a:prstGeom>
          <a:solidFill>
            <a:srgbClr val="51a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2"/>
          <p:cNvSpPr/>
          <p:nvPr/>
        </p:nvSpPr>
        <p:spPr>
          <a:xfrm>
            <a:off x="500040" y="5000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0"/>
          <p:cNvSpPr/>
          <p:nvPr/>
        </p:nvSpPr>
        <p:spPr>
          <a:xfrm>
            <a:off x="5140800" y="2987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1"/>
          <p:cNvSpPr/>
          <p:nvPr/>
        </p:nvSpPr>
        <p:spPr>
          <a:xfrm>
            <a:off x="3499200" y="2987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2"/>
          <p:cNvSpPr/>
          <p:nvPr/>
        </p:nvSpPr>
        <p:spPr>
          <a:xfrm>
            <a:off x="685512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1"/>
          <p:cNvSpPr/>
          <p:nvPr/>
        </p:nvSpPr>
        <p:spPr>
          <a:xfrm>
            <a:off x="1783080" y="2987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对角圆角矩形 10"/>
          <p:cNvSpPr/>
          <p:nvPr/>
        </p:nvSpPr>
        <p:spPr>
          <a:xfrm flipH="1">
            <a:off x="2143080" y="3357720"/>
            <a:ext cx="2643120" cy="1500120"/>
          </a:xfrm>
          <a:custGeom>
            <a:avLst/>
            <a:gdLst>
              <a:gd name="textAreaLeft" fmla="*/ 73080 w 2643120"/>
              <a:gd name="textAreaRight" fmla="*/ 2570040 w 2643120"/>
              <a:gd name="textAreaTop" fmla="*/ 73080 h 1500120"/>
              <a:gd name="textAreaBottom" fmla="*/ 1427040 h 1500120"/>
            </a:gdLst>
            <a:ahLst/>
            <a:rect l="textAreaLeft" t="textAreaTop" r="textAreaRight" b="textAreaBottom"/>
            <a:pathLst>
              <a:path w="2643188" h="1500187">
                <a:moveTo>
                  <a:pt x="250036" y="0"/>
                </a:moveTo>
                <a:lnTo>
                  <a:pt x="2643188" y="0"/>
                </a:lnTo>
                <a:lnTo>
                  <a:pt x="2643188" y="1250151"/>
                </a:lnTo>
                <a:lnTo>
                  <a:pt x="2643188" y="1250151"/>
                </a:lnTo>
                <a:arcTo wR="250036" hR="250036" stAng="0" swAng="5400000"/>
                <a:lnTo>
                  <a:pt x="0" y="1500187"/>
                </a:lnTo>
                <a:lnTo>
                  <a:pt x="0" y="250036"/>
                </a:lnTo>
                <a:lnTo>
                  <a:pt x="0" y="250036"/>
                </a:lnTo>
                <a:arcTo wR="250036" hR="250036" stAng="10800000" swAng="5400000"/>
                <a:close/>
              </a:path>
            </a:pathLst>
          </a:custGeom>
          <a:solidFill>
            <a:srgbClr val="51a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对角圆角矩形 11"/>
          <p:cNvSpPr/>
          <p:nvPr/>
        </p:nvSpPr>
        <p:spPr>
          <a:xfrm>
            <a:off x="2143080" y="1785960"/>
            <a:ext cx="2643120" cy="1500120"/>
          </a:xfrm>
          <a:custGeom>
            <a:avLst/>
            <a:gdLst>
              <a:gd name="textAreaLeft" fmla="*/ 73080 w 2643120"/>
              <a:gd name="textAreaRight" fmla="*/ 2570040 w 2643120"/>
              <a:gd name="textAreaTop" fmla="*/ 73080 h 1500120"/>
              <a:gd name="textAreaBottom" fmla="*/ 1427040 h 1500120"/>
            </a:gdLst>
            <a:ahLst/>
            <a:rect l="textAreaLeft" t="textAreaTop" r="textAreaRight" b="textAreaBottom"/>
            <a:pathLst>
              <a:path w="2643188" h="1500187">
                <a:moveTo>
                  <a:pt x="250036" y="0"/>
                </a:moveTo>
                <a:lnTo>
                  <a:pt x="2643188" y="0"/>
                </a:lnTo>
                <a:lnTo>
                  <a:pt x="2643188" y="1250151"/>
                </a:lnTo>
                <a:lnTo>
                  <a:pt x="2643188" y="1250151"/>
                </a:lnTo>
                <a:arcTo wR="250036" hR="250036" stAng="0" swAng="5400000"/>
                <a:lnTo>
                  <a:pt x="0" y="1500187"/>
                </a:lnTo>
                <a:lnTo>
                  <a:pt x="0" y="250036"/>
                </a:lnTo>
                <a:lnTo>
                  <a:pt x="0" y="250036"/>
                </a:lnTo>
                <a:arcTo wR="250036" hR="250036" stAng="10800000" swAng="5400000"/>
                <a:close/>
              </a:path>
            </a:pathLst>
          </a:custGeom>
          <a:solidFill>
            <a:srgbClr val="1f7a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对角圆角矩形 12"/>
          <p:cNvSpPr/>
          <p:nvPr/>
        </p:nvSpPr>
        <p:spPr>
          <a:xfrm flipH="1">
            <a:off x="4857840" y="1785960"/>
            <a:ext cx="2643120" cy="1500120"/>
          </a:xfrm>
          <a:custGeom>
            <a:avLst/>
            <a:gdLst>
              <a:gd name="textAreaLeft" fmla="*/ 73080 w 2643120"/>
              <a:gd name="textAreaRight" fmla="*/ 2570040 w 2643120"/>
              <a:gd name="textAreaTop" fmla="*/ 73080 h 1500120"/>
              <a:gd name="textAreaBottom" fmla="*/ 1427040 h 1500120"/>
            </a:gdLst>
            <a:ahLst/>
            <a:rect l="textAreaLeft" t="textAreaTop" r="textAreaRight" b="textAreaBottom"/>
            <a:pathLst>
              <a:path w="2643188" h="1500187">
                <a:moveTo>
                  <a:pt x="250036" y="0"/>
                </a:moveTo>
                <a:lnTo>
                  <a:pt x="2643188" y="0"/>
                </a:lnTo>
                <a:lnTo>
                  <a:pt x="2643188" y="1250151"/>
                </a:lnTo>
                <a:lnTo>
                  <a:pt x="2643188" y="1250151"/>
                </a:lnTo>
                <a:arcTo wR="250036" hR="250036" stAng="0" swAng="5400000"/>
                <a:lnTo>
                  <a:pt x="0" y="1500187"/>
                </a:lnTo>
                <a:lnTo>
                  <a:pt x="0" y="250036"/>
                </a:lnTo>
                <a:lnTo>
                  <a:pt x="0" y="250036"/>
                </a:lnTo>
                <a:arcTo wR="250036" hR="250036" stAng="10800000" swAng="5400000"/>
                <a:close/>
              </a:path>
            </a:pathLst>
          </a:custGeom>
          <a:solidFill>
            <a:srgbClr val="51a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对角圆角矩形 13"/>
          <p:cNvSpPr/>
          <p:nvPr/>
        </p:nvSpPr>
        <p:spPr>
          <a:xfrm>
            <a:off x="4857840" y="3357720"/>
            <a:ext cx="2643120" cy="1500120"/>
          </a:xfrm>
          <a:custGeom>
            <a:avLst/>
            <a:gdLst>
              <a:gd name="textAreaLeft" fmla="*/ 73080 w 2643120"/>
              <a:gd name="textAreaRight" fmla="*/ 2570040 w 2643120"/>
              <a:gd name="textAreaTop" fmla="*/ 73080 h 1500120"/>
              <a:gd name="textAreaBottom" fmla="*/ 1427040 h 1500120"/>
            </a:gdLst>
            <a:ahLst/>
            <a:rect l="textAreaLeft" t="textAreaTop" r="textAreaRight" b="textAreaBottom"/>
            <a:pathLst>
              <a:path w="2643188" h="1500187">
                <a:moveTo>
                  <a:pt x="250036" y="0"/>
                </a:moveTo>
                <a:lnTo>
                  <a:pt x="2643188" y="0"/>
                </a:lnTo>
                <a:lnTo>
                  <a:pt x="2643188" y="1250151"/>
                </a:lnTo>
                <a:lnTo>
                  <a:pt x="2643188" y="1250151"/>
                </a:lnTo>
                <a:arcTo wR="250036" hR="250036" stAng="0" swAng="5400000"/>
                <a:lnTo>
                  <a:pt x="0" y="1500187"/>
                </a:lnTo>
                <a:lnTo>
                  <a:pt x="0" y="250036"/>
                </a:lnTo>
                <a:lnTo>
                  <a:pt x="0" y="250036"/>
                </a:lnTo>
                <a:arcTo wR="250036" hR="250036" stAng="10800000" swAng="5400000"/>
                <a:close/>
              </a:path>
            </a:pathLst>
          </a:custGeom>
          <a:solidFill>
            <a:srgbClr val="1f7a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2"/>
          <p:cNvSpPr/>
          <p:nvPr/>
        </p:nvSpPr>
        <p:spPr>
          <a:xfrm>
            <a:off x="292608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3"/>
          <p:cNvSpPr/>
          <p:nvPr/>
        </p:nvSpPr>
        <p:spPr>
          <a:xfrm>
            <a:off x="578376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4"/>
          <p:cNvSpPr/>
          <p:nvPr/>
        </p:nvSpPr>
        <p:spPr>
          <a:xfrm>
            <a:off x="292608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5"/>
          <p:cNvSpPr/>
          <p:nvPr/>
        </p:nvSpPr>
        <p:spPr>
          <a:xfrm>
            <a:off x="564084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半闭框 10"/>
          <p:cNvSpPr/>
          <p:nvPr/>
        </p:nvSpPr>
        <p:spPr>
          <a:xfrm>
            <a:off x="2062080" y="1919160"/>
            <a:ext cx="2357640" cy="2357640"/>
          </a:xfrm>
          <a:custGeom>
            <a:avLst/>
            <a:gdLst/>
            <a:ahLst/>
            <a:rect l="l" t="t" r="r" b="b"/>
            <a:pathLst>
              <a:path w="2357437" h="2357437">
                <a:moveTo>
                  <a:pt x="0" y="0"/>
                </a:moveTo>
                <a:lnTo>
                  <a:pt x="2357437" y="0"/>
                </a:lnTo>
                <a:lnTo>
                  <a:pt x="2069570" y="287867"/>
                </a:lnTo>
                <a:lnTo>
                  <a:pt x="296919" y="287867"/>
                </a:lnTo>
                <a:lnTo>
                  <a:pt x="296919" y="2060518"/>
                </a:lnTo>
                <a:lnTo>
                  <a:pt x="0" y="2357437"/>
                </a:lnTo>
                <a:close/>
              </a:path>
            </a:pathLst>
          </a:custGeom>
          <a:solidFill>
            <a:srgbClr val="1f7a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半闭框 11"/>
          <p:cNvSpPr/>
          <p:nvPr/>
        </p:nvSpPr>
        <p:spPr>
          <a:xfrm flipH="1" flipV="1">
            <a:off x="2214720" y="2071800"/>
            <a:ext cx="2357280" cy="2357280"/>
          </a:xfrm>
          <a:custGeom>
            <a:avLst/>
            <a:gdLst/>
            <a:ahLst/>
            <a:rect l="l" t="t" r="r" b="b"/>
            <a:pathLst>
              <a:path w="2357437" h="2357437">
                <a:moveTo>
                  <a:pt x="0" y="0"/>
                </a:moveTo>
                <a:lnTo>
                  <a:pt x="2357437" y="0"/>
                </a:lnTo>
                <a:lnTo>
                  <a:pt x="2069570" y="287867"/>
                </a:lnTo>
                <a:lnTo>
                  <a:pt x="296919" y="287867"/>
                </a:lnTo>
                <a:lnTo>
                  <a:pt x="296919" y="2060518"/>
                </a:lnTo>
                <a:lnTo>
                  <a:pt x="0" y="2357437"/>
                </a:lnTo>
                <a:close/>
              </a:path>
            </a:pathLst>
          </a:custGeom>
          <a:solidFill>
            <a:srgbClr val="51a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半闭框 12"/>
          <p:cNvSpPr/>
          <p:nvPr/>
        </p:nvSpPr>
        <p:spPr>
          <a:xfrm>
            <a:off x="5205240" y="1919160"/>
            <a:ext cx="2357640" cy="2357640"/>
          </a:xfrm>
          <a:custGeom>
            <a:avLst/>
            <a:gdLst/>
            <a:ahLst/>
            <a:rect l="l" t="t" r="r" b="b"/>
            <a:pathLst>
              <a:path w="2357437" h="2357437">
                <a:moveTo>
                  <a:pt x="0" y="0"/>
                </a:moveTo>
                <a:lnTo>
                  <a:pt x="2357437" y="0"/>
                </a:lnTo>
                <a:lnTo>
                  <a:pt x="2069570" y="287867"/>
                </a:lnTo>
                <a:lnTo>
                  <a:pt x="296919" y="287867"/>
                </a:lnTo>
                <a:lnTo>
                  <a:pt x="296919" y="2060518"/>
                </a:lnTo>
                <a:lnTo>
                  <a:pt x="0" y="2357437"/>
                </a:lnTo>
                <a:close/>
              </a:path>
            </a:pathLst>
          </a:custGeom>
          <a:solidFill>
            <a:srgbClr val="1f7a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半闭框 13"/>
          <p:cNvSpPr/>
          <p:nvPr/>
        </p:nvSpPr>
        <p:spPr>
          <a:xfrm flipH="1" flipV="1">
            <a:off x="5357880" y="2071800"/>
            <a:ext cx="2357280" cy="2357280"/>
          </a:xfrm>
          <a:custGeom>
            <a:avLst/>
            <a:gdLst/>
            <a:ahLst/>
            <a:rect l="l" t="t" r="r" b="b"/>
            <a:pathLst>
              <a:path w="2357437" h="2357437">
                <a:moveTo>
                  <a:pt x="0" y="0"/>
                </a:moveTo>
                <a:lnTo>
                  <a:pt x="2357437" y="0"/>
                </a:lnTo>
                <a:lnTo>
                  <a:pt x="2069570" y="287867"/>
                </a:lnTo>
                <a:lnTo>
                  <a:pt x="296919" y="287867"/>
                </a:lnTo>
                <a:lnTo>
                  <a:pt x="296919" y="2060518"/>
                </a:lnTo>
                <a:lnTo>
                  <a:pt x="0" y="2357437"/>
                </a:lnTo>
                <a:close/>
              </a:path>
            </a:pathLst>
          </a:custGeom>
          <a:solidFill>
            <a:srgbClr val="51a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3"/>
          <p:cNvSpPr/>
          <p:nvPr/>
        </p:nvSpPr>
        <p:spPr>
          <a:xfrm>
            <a:off x="599976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4"/>
          <p:cNvSpPr/>
          <p:nvPr/>
        </p:nvSpPr>
        <p:spPr>
          <a:xfrm>
            <a:off x="28548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椭圆 10"/>
          <p:cNvSpPr/>
          <p:nvPr/>
        </p:nvSpPr>
        <p:spPr>
          <a:xfrm>
            <a:off x="2857680" y="1357200"/>
            <a:ext cx="2147760" cy="2148120"/>
          </a:xfrm>
          <a:prstGeom prst="ellipse">
            <a:avLst/>
          </a:prstGeom>
          <a:solidFill>
            <a:srgbClr val="51a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椭圆 11"/>
          <p:cNvSpPr/>
          <p:nvPr/>
        </p:nvSpPr>
        <p:spPr>
          <a:xfrm>
            <a:off x="5000760" y="1357200"/>
            <a:ext cx="2147760" cy="2148120"/>
          </a:xfrm>
          <a:prstGeom prst="ellipse">
            <a:avLst/>
          </a:prstGeom>
          <a:solidFill>
            <a:srgbClr val="1f7a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椭圆 12"/>
          <p:cNvSpPr/>
          <p:nvPr/>
        </p:nvSpPr>
        <p:spPr>
          <a:xfrm>
            <a:off x="5072040" y="3500280"/>
            <a:ext cx="2147760" cy="2148120"/>
          </a:xfrm>
          <a:prstGeom prst="ellipse">
            <a:avLst/>
          </a:prstGeom>
          <a:solidFill>
            <a:srgbClr val="51a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椭圆 13"/>
          <p:cNvSpPr/>
          <p:nvPr/>
        </p:nvSpPr>
        <p:spPr>
          <a:xfrm>
            <a:off x="2928960" y="3500280"/>
            <a:ext cx="2147760" cy="2148120"/>
          </a:xfrm>
          <a:prstGeom prst="ellipse">
            <a:avLst/>
          </a:prstGeom>
          <a:solidFill>
            <a:srgbClr val="1f7a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2"/>
          <p:cNvSpPr/>
          <p:nvPr/>
        </p:nvSpPr>
        <p:spPr>
          <a:xfrm>
            <a:off x="349776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3"/>
          <p:cNvSpPr/>
          <p:nvPr/>
        </p:nvSpPr>
        <p:spPr>
          <a:xfrm>
            <a:off x="571212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4"/>
          <p:cNvSpPr/>
          <p:nvPr/>
        </p:nvSpPr>
        <p:spPr>
          <a:xfrm>
            <a:off x="342612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5"/>
          <p:cNvSpPr/>
          <p:nvPr/>
        </p:nvSpPr>
        <p:spPr>
          <a:xfrm>
            <a:off x="549792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空心弧 10"/>
          <p:cNvSpPr/>
          <p:nvPr/>
        </p:nvSpPr>
        <p:spPr>
          <a:xfrm>
            <a:off x="1357200" y="1071720"/>
            <a:ext cx="1500480" cy="5000400"/>
          </a:xfrm>
          <a:custGeom>
            <a:avLst/>
            <a:gdLst>
              <a:gd name="textAreaLeft" fmla="*/ 0 w 1500480"/>
              <a:gd name="textAreaRight" fmla="*/ 1500840 w 1500480"/>
              <a:gd name="textAreaTop" fmla="*/ 0 h 5000400"/>
              <a:gd name="textAreaBottom" fmla="*/ 2500200 h 5000400"/>
            </a:gdLst>
            <a:ahLst/>
            <a:rect l="textAreaLeft" t="textAreaTop" r="textAreaRight" b="textAreaBottom"/>
            <a:pathLst>
              <a:path w="1500187" h="5000625">
                <a:moveTo>
                  <a:pt x="0" y="2500312"/>
                </a:moveTo>
                <a:lnTo>
                  <a:pt x="0" y="2500312"/>
                </a:lnTo>
                <a:arcTo wR="750094" hR="2500313" stAng="-10799995" swAng="10800005"/>
                <a:lnTo>
                  <a:pt x="1125140" y="2500313"/>
                </a:lnTo>
                <a:lnTo>
                  <a:pt x="1125140" y="2500313"/>
                </a:lnTo>
                <a:arcTo wR="375047" hR="2125266" stAng="0" swAng="-10800000"/>
                <a:close/>
              </a:path>
            </a:pathLst>
          </a:custGeom>
          <a:solidFill>
            <a:srgbClr val="1f7a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空心弧 11"/>
          <p:cNvSpPr/>
          <p:nvPr/>
        </p:nvSpPr>
        <p:spPr>
          <a:xfrm flipV="1">
            <a:off x="1357200" y="999000"/>
            <a:ext cx="1500480" cy="5000760"/>
          </a:xfrm>
          <a:custGeom>
            <a:avLst/>
            <a:gdLst>
              <a:gd name="textAreaLeft" fmla="*/ 0 w 1500480"/>
              <a:gd name="textAreaRight" fmla="*/ 1500840 w 1500480"/>
              <a:gd name="textAreaTop" fmla="*/ -360 h 5000760"/>
              <a:gd name="textAreaBottom" fmla="*/ 2500200 h 5000760"/>
            </a:gdLst>
            <a:ahLst/>
            <a:rect l="textAreaLeft" t="textAreaTop" r="textAreaRight" b="textAreaBottom"/>
            <a:pathLst>
              <a:path w="1500187" h="5000625">
                <a:moveTo>
                  <a:pt x="0" y="2500312"/>
                </a:moveTo>
                <a:lnTo>
                  <a:pt x="0" y="2500312"/>
                </a:lnTo>
                <a:arcTo wR="750094" hR="2500313" stAng="-10799995" swAng="10800005"/>
                <a:lnTo>
                  <a:pt x="1125140" y="2500313"/>
                </a:lnTo>
                <a:lnTo>
                  <a:pt x="1125140" y="2500313"/>
                </a:lnTo>
                <a:arcTo wR="375047" hR="2125266" stAng="0" swAng="-10800000"/>
                <a:close/>
              </a:path>
            </a:pathLst>
          </a:custGeom>
          <a:solidFill>
            <a:srgbClr val="51a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空心弧 12"/>
          <p:cNvSpPr/>
          <p:nvPr/>
        </p:nvSpPr>
        <p:spPr>
          <a:xfrm>
            <a:off x="3071880" y="1071720"/>
            <a:ext cx="1500120" cy="5000400"/>
          </a:xfrm>
          <a:custGeom>
            <a:avLst/>
            <a:gdLst>
              <a:gd name="textAreaLeft" fmla="*/ 0 w 1500120"/>
              <a:gd name="textAreaRight" fmla="*/ 1500480 w 1500120"/>
              <a:gd name="textAreaTop" fmla="*/ 0 h 5000400"/>
              <a:gd name="textAreaBottom" fmla="*/ 2500200 h 5000400"/>
            </a:gdLst>
            <a:ahLst/>
            <a:rect l="textAreaLeft" t="textAreaTop" r="textAreaRight" b="textAreaBottom"/>
            <a:pathLst>
              <a:path w="1500187" h="5000625">
                <a:moveTo>
                  <a:pt x="0" y="2500312"/>
                </a:moveTo>
                <a:lnTo>
                  <a:pt x="0" y="2500312"/>
                </a:lnTo>
                <a:arcTo wR="750094" hR="2500313" stAng="-10799995" swAng="10800005"/>
                <a:lnTo>
                  <a:pt x="1125140" y="2500313"/>
                </a:lnTo>
                <a:lnTo>
                  <a:pt x="1125140" y="2500313"/>
                </a:lnTo>
                <a:arcTo wR="375047" hR="2125266" stAng="0" swAng="-10800000"/>
                <a:close/>
              </a:path>
            </a:pathLst>
          </a:custGeom>
          <a:solidFill>
            <a:srgbClr val="1f7a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空心弧 13"/>
          <p:cNvSpPr/>
          <p:nvPr/>
        </p:nvSpPr>
        <p:spPr>
          <a:xfrm flipV="1">
            <a:off x="3071880" y="999000"/>
            <a:ext cx="1500120" cy="5000760"/>
          </a:xfrm>
          <a:custGeom>
            <a:avLst/>
            <a:gdLst>
              <a:gd name="textAreaLeft" fmla="*/ 0 w 1500120"/>
              <a:gd name="textAreaRight" fmla="*/ 1500480 w 1500120"/>
              <a:gd name="textAreaTop" fmla="*/ -360 h 5000760"/>
              <a:gd name="textAreaBottom" fmla="*/ 2500200 h 5000760"/>
            </a:gdLst>
            <a:ahLst/>
            <a:rect l="textAreaLeft" t="textAreaTop" r="textAreaRight" b="textAreaBottom"/>
            <a:pathLst>
              <a:path w="1500187" h="5000625">
                <a:moveTo>
                  <a:pt x="0" y="2500312"/>
                </a:moveTo>
                <a:lnTo>
                  <a:pt x="0" y="2500312"/>
                </a:lnTo>
                <a:arcTo wR="750094" hR="2500313" stAng="-10799995" swAng="10800005"/>
                <a:lnTo>
                  <a:pt x="1125140" y="2500313"/>
                </a:lnTo>
                <a:lnTo>
                  <a:pt x="1125140" y="2500313"/>
                </a:lnTo>
                <a:arcTo wR="375047" hR="2125266" stAng="0" swAng="-10800000"/>
                <a:close/>
              </a:path>
            </a:pathLst>
          </a:custGeom>
          <a:solidFill>
            <a:srgbClr val="51a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空心弧 14"/>
          <p:cNvSpPr/>
          <p:nvPr/>
        </p:nvSpPr>
        <p:spPr>
          <a:xfrm>
            <a:off x="4786200" y="1071720"/>
            <a:ext cx="1500480" cy="5000400"/>
          </a:xfrm>
          <a:custGeom>
            <a:avLst/>
            <a:gdLst>
              <a:gd name="textAreaLeft" fmla="*/ 0 w 1500480"/>
              <a:gd name="textAreaRight" fmla="*/ 1500840 w 1500480"/>
              <a:gd name="textAreaTop" fmla="*/ 0 h 5000400"/>
              <a:gd name="textAreaBottom" fmla="*/ 2500200 h 5000400"/>
            </a:gdLst>
            <a:ahLst/>
            <a:rect l="textAreaLeft" t="textAreaTop" r="textAreaRight" b="textAreaBottom"/>
            <a:pathLst>
              <a:path w="1500187" h="5000625">
                <a:moveTo>
                  <a:pt x="0" y="2500312"/>
                </a:moveTo>
                <a:lnTo>
                  <a:pt x="0" y="2500312"/>
                </a:lnTo>
                <a:arcTo wR="750094" hR="2500313" stAng="-10799995" swAng="10800005"/>
                <a:lnTo>
                  <a:pt x="1125140" y="2500313"/>
                </a:lnTo>
                <a:lnTo>
                  <a:pt x="1125140" y="2500313"/>
                </a:lnTo>
                <a:arcTo wR="375047" hR="2125266" stAng="0" swAng="-10800000"/>
                <a:close/>
              </a:path>
            </a:pathLst>
          </a:custGeom>
          <a:solidFill>
            <a:srgbClr val="1f7a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空心弧 15"/>
          <p:cNvSpPr/>
          <p:nvPr/>
        </p:nvSpPr>
        <p:spPr>
          <a:xfrm flipV="1">
            <a:off x="4786200" y="999000"/>
            <a:ext cx="1500480" cy="5000760"/>
          </a:xfrm>
          <a:custGeom>
            <a:avLst/>
            <a:gdLst>
              <a:gd name="textAreaLeft" fmla="*/ 0 w 1500480"/>
              <a:gd name="textAreaRight" fmla="*/ 1500840 w 1500480"/>
              <a:gd name="textAreaTop" fmla="*/ -360 h 5000760"/>
              <a:gd name="textAreaBottom" fmla="*/ 2500200 h 5000760"/>
            </a:gdLst>
            <a:ahLst/>
            <a:rect l="textAreaLeft" t="textAreaTop" r="textAreaRight" b="textAreaBottom"/>
            <a:pathLst>
              <a:path w="1500187" h="5000625">
                <a:moveTo>
                  <a:pt x="0" y="2500312"/>
                </a:moveTo>
                <a:lnTo>
                  <a:pt x="0" y="2500312"/>
                </a:lnTo>
                <a:arcTo wR="750094" hR="2500313" stAng="-10799995" swAng="10800005"/>
                <a:lnTo>
                  <a:pt x="1125140" y="2500313"/>
                </a:lnTo>
                <a:lnTo>
                  <a:pt x="1125140" y="2500313"/>
                </a:lnTo>
                <a:arcTo wR="375047" hR="2125266" stAng="0" swAng="-10800000"/>
                <a:close/>
              </a:path>
            </a:pathLst>
          </a:custGeom>
          <a:solidFill>
            <a:srgbClr val="51a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空心弧 16"/>
          <p:cNvSpPr/>
          <p:nvPr/>
        </p:nvSpPr>
        <p:spPr>
          <a:xfrm>
            <a:off x="6500880" y="1071720"/>
            <a:ext cx="1500120" cy="5000400"/>
          </a:xfrm>
          <a:custGeom>
            <a:avLst/>
            <a:gdLst>
              <a:gd name="textAreaLeft" fmla="*/ 0 w 1500120"/>
              <a:gd name="textAreaRight" fmla="*/ 1500480 w 1500120"/>
              <a:gd name="textAreaTop" fmla="*/ 0 h 5000400"/>
              <a:gd name="textAreaBottom" fmla="*/ 2500200 h 5000400"/>
            </a:gdLst>
            <a:ahLst/>
            <a:rect l="textAreaLeft" t="textAreaTop" r="textAreaRight" b="textAreaBottom"/>
            <a:pathLst>
              <a:path w="1500187" h="5000625">
                <a:moveTo>
                  <a:pt x="0" y="2500312"/>
                </a:moveTo>
                <a:lnTo>
                  <a:pt x="0" y="2500312"/>
                </a:lnTo>
                <a:arcTo wR="750094" hR="2500313" stAng="-10799995" swAng="10800005"/>
                <a:lnTo>
                  <a:pt x="1125140" y="2500313"/>
                </a:lnTo>
                <a:lnTo>
                  <a:pt x="1125140" y="2500313"/>
                </a:lnTo>
                <a:arcTo wR="375047" hR="2125266" stAng="0" swAng="-10800000"/>
                <a:close/>
              </a:path>
            </a:pathLst>
          </a:custGeom>
          <a:solidFill>
            <a:srgbClr val="1f7a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空心弧 17"/>
          <p:cNvSpPr/>
          <p:nvPr/>
        </p:nvSpPr>
        <p:spPr>
          <a:xfrm flipV="1">
            <a:off x="6500880" y="999000"/>
            <a:ext cx="1500120" cy="5000760"/>
          </a:xfrm>
          <a:custGeom>
            <a:avLst/>
            <a:gdLst>
              <a:gd name="textAreaLeft" fmla="*/ 0 w 1500120"/>
              <a:gd name="textAreaRight" fmla="*/ 1500480 w 1500120"/>
              <a:gd name="textAreaTop" fmla="*/ -360 h 5000760"/>
              <a:gd name="textAreaBottom" fmla="*/ 2500200 h 5000760"/>
            </a:gdLst>
            <a:ahLst/>
            <a:rect l="textAreaLeft" t="textAreaTop" r="textAreaRight" b="textAreaBottom"/>
            <a:pathLst>
              <a:path w="1500187" h="5000625">
                <a:moveTo>
                  <a:pt x="0" y="2500312"/>
                </a:moveTo>
                <a:lnTo>
                  <a:pt x="0" y="2500312"/>
                </a:lnTo>
                <a:arcTo wR="750094" hR="2500313" stAng="-10799995" swAng="10800005"/>
                <a:lnTo>
                  <a:pt x="1125140" y="2500313"/>
                </a:lnTo>
                <a:lnTo>
                  <a:pt x="1125140" y="2500313"/>
                </a:lnTo>
                <a:arcTo wR="375047" hR="2125266" stAng="0" swAng="-10800000"/>
                <a:close/>
              </a:path>
            </a:pathLst>
          </a:custGeom>
          <a:solidFill>
            <a:srgbClr val="51a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2"/>
          <p:cNvSpPr/>
          <p:nvPr/>
        </p:nvSpPr>
        <p:spPr>
          <a:xfrm>
            <a:off x="335484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3"/>
          <p:cNvSpPr/>
          <p:nvPr/>
        </p:nvSpPr>
        <p:spPr>
          <a:xfrm>
            <a:off x="692676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4"/>
          <p:cNvSpPr/>
          <p:nvPr/>
        </p:nvSpPr>
        <p:spPr>
          <a:xfrm>
            <a:off x="514080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5"/>
          <p:cNvSpPr/>
          <p:nvPr/>
        </p:nvSpPr>
        <p:spPr>
          <a:xfrm>
            <a:off x="164052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虚尾箭头 10"/>
          <p:cNvSpPr/>
          <p:nvPr/>
        </p:nvSpPr>
        <p:spPr>
          <a:xfrm>
            <a:off x="1428840" y="2357280"/>
            <a:ext cx="1585800" cy="1643400"/>
          </a:xfrm>
          <a:custGeom>
            <a:avLst/>
            <a:gdLst>
              <a:gd name="textAreaLeft" fmla="*/ 247680 w 1585800"/>
              <a:gd name="textAreaRight" fmla="*/ 1189440 w 1585800"/>
              <a:gd name="textAreaTop" fmla="*/ 410760 h 1643400"/>
              <a:gd name="textAreaBottom" fmla="*/ 1232640 h 1643400"/>
            </a:gdLst>
            <a:ahLst/>
            <a:rect l="textAreaLeft" t="textAreaTop" r="textAreaRight" b="textAreaBottom"/>
            <a:pathLst>
              <a:path w="1585913" h="1643062">
                <a:moveTo>
                  <a:pt x="0" y="410766"/>
                </a:moveTo>
                <a:lnTo>
                  <a:pt x="49560" y="410766"/>
                </a:lnTo>
                <a:lnTo>
                  <a:pt x="49560" y="1232297"/>
                </a:lnTo>
                <a:lnTo>
                  <a:pt x="0" y="1232297"/>
                </a:lnTo>
                <a:close/>
                <a:moveTo>
                  <a:pt x="99120" y="410766"/>
                </a:moveTo>
                <a:lnTo>
                  <a:pt x="198239" y="410766"/>
                </a:lnTo>
                <a:lnTo>
                  <a:pt x="198239" y="1232297"/>
                </a:lnTo>
                <a:lnTo>
                  <a:pt x="99120" y="1232297"/>
                </a:lnTo>
                <a:close/>
                <a:moveTo>
                  <a:pt x="247799" y="410766"/>
                </a:moveTo>
                <a:lnTo>
                  <a:pt x="792957" y="410766"/>
                </a:lnTo>
                <a:lnTo>
                  <a:pt x="792957" y="0"/>
                </a:lnTo>
                <a:lnTo>
                  <a:pt x="1585913" y="821531"/>
                </a:lnTo>
                <a:lnTo>
                  <a:pt x="792957" y="1643062"/>
                </a:lnTo>
                <a:lnTo>
                  <a:pt x="792957" y="1232297"/>
                </a:lnTo>
                <a:lnTo>
                  <a:pt x="247799" y="1232297"/>
                </a:lnTo>
                <a:close/>
              </a:path>
            </a:pathLst>
          </a:custGeom>
          <a:solidFill>
            <a:srgbClr val="51a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虚尾箭头 11"/>
          <p:cNvSpPr/>
          <p:nvPr/>
        </p:nvSpPr>
        <p:spPr>
          <a:xfrm>
            <a:off x="3071880" y="2286000"/>
            <a:ext cx="1585800" cy="1643040"/>
          </a:xfrm>
          <a:custGeom>
            <a:avLst/>
            <a:gdLst>
              <a:gd name="textAreaLeft" fmla="*/ 247680 w 1585800"/>
              <a:gd name="textAreaRight" fmla="*/ 1189440 w 1585800"/>
              <a:gd name="textAreaTop" fmla="*/ 410760 h 1643040"/>
              <a:gd name="textAreaBottom" fmla="*/ 1232280 h 1643040"/>
            </a:gdLst>
            <a:ahLst/>
            <a:rect l="textAreaLeft" t="textAreaTop" r="textAreaRight" b="textAreaBottom"/>
            <a:pathLst>
              <a:path w="1585912" h="1643063">
                <a:moveTo>
                  <a:pt x="0" y="410766"/>
                </a:moveTo>
                <a:lnTo>
                  <a:pt x="49560" y="410766"/>
                </a:lnTo>
                <a:lnTo>
                  <a:pt x="49560" y="1232297"/>
                </a:lnTo>
                <a:lnTo>
                  <a:pt x="0" y="1232297"/>
                </a:lnTo>
                <a:close/>
                <a:moveTo>
                  <a:pt x="99120" y="410766"/>
                </a:moveTo>
                <a:lnTo>
                  <a:pt x="198239" y="410766"/>
                </a:lnTo>
                <a:lnTo>
                  <a:pt x="198239" y="1232297"/>
                </a:lnTo>
                <a:lnTo>
                  <a:pt x="99120" y="1232297"/>
                </a:lnTo>
                <a:close/>
                <a:moveTo>
                  <a:pt x="247799" y="410766"/>
                </a:moveTo>
                <a:lnTo>
                  <a:pt x="792956" y="410766"/>
                </a:lnTo>
                <a:lnTo>
                  <a:pt x="792956" y="0"/>
                </a:lnTo>
                <a:lnTo>
                  <a:pt x="1585912" y="821532"/>
                </a:lnTo>
                <a:lnTo>
                  <a:pt x="792956" y="1643063"/>
                </a:lnTo>
                <a:lnTo>
                  <a:pt x="792956" y="1232297"/>
                </a:lnTo>
                <a:lnTo>
                  <a:pt x="247799" y="1232297"/>
                </a:lnTo>
                <a:close/>
              </a:path>
            </a:pathLst>
          </a:custGeom>
          <a:solidFill>
            <a:srgbClr val="1f7a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虚尾箭头 12"/>
          <p:cNvSpPr/>
          <p:nvPr/>
        </p:nvSpPr>
        <p:spPr>
          <a:xfrm>
            <a:off x="4700520" y="2286000"/>
            <a:ext cx="1586160" cy="1643040"/>
          </a:xfrm>
          <a:custGeom>
            <a:avLst/>
            <a:gdLst>
              <a:gd name="textAreaLeft" fmla="*/ 247680 w 1586160"/>
              <a:gd name="textAreaRight" fmla="*/ 1189800 w 1586160"/>
              <a:gd name="textAreaTop" fmla="*/ 410760 h 1643040"/>
              <a:gd name="textAreaBottom" fmla="*/ 1232280 h 1643040"/>
            </a:gdLst>
            <a:ahLst/>
            <a:rect l="textAreaLeft" t="textAreaTop" r="textAreaRight" b="textAreaBottom"/>
            <a:pathLst>
              <a:path w="1585912" h="1643063">
                <a:moveTo>
                  <a:pt x="0" y="410766"/>
                </a:moveTo>
                <a:lnTo>
                  <a:pt x="49560" y="410766"/>
                </a:lnTo>
                <a:lnTo>
                  <a:pt x="49560" y="1232297"/>
                </a:lnTo>
                <a:lnTo>
                  <a:pt x="0" y="1232297"/>
                </a:lnTo>
                <a:close/>
                <a:moveTo>
                  <a:pt x="99120" y="410766"/>
                </a:moveTo>
                <a:lnTo>
                  <a:pt x="198239" y="410766"/>
                </a:lnTo>
                <a:lnTo>
                  <a:pt x="198239" y="1232297"/>
                </a:lnTo>
                <a:lnTo>
                  <a:pt x="99120" y="1232297"/>
                </a:lnTo>
                <a:close/>
                <a:moveTo>
                  <a:pt x="247799" y="410766"/>
                </a:moveTo>
                <a:lnTo>
                  <a:pt x="792956" y="410766"/>
                </a:lnTo>
                <a:lnTo>
                  <a:pt x="792956" y="0"/>
                </a:lnTo>
                <a:lnTo>
                  <a:pt x="1585912" y="821532"/>
                </a:lnTo>
                <a:lnTo>
                  <a:pt x="792956" y="1643063"/>
                </a:lnTo>
                <a:lnTo>
                  <a:pt x="792956" y="1232297"/>
                </a:lnTo>
                <a:lnTo>
                  <a:pt x="247799" y="1232297"/>
                </a:lnTo>
                <a:close/>
              </a:path>
            </a:pathLst>
          </a:custGeom>
          <a:solidFill>
            <a:srgbClr val="51a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虚尾箭头 13"/>
          <p:cNvSpPr/>
          <p:nvPr/>
        </p:nvSpPr>
        <p:spPr>
          <a:xfrm>
            <a:off x="6343560" y="2214720"/>
            <a:ext cx="1586160" cy="1643040"/>
          </a:xfrm>
          <a:custGeom>
            <a:avLst/>
            <a:gdLst>
              <a:gd name="textAreaLeft" fmla="*/ 247680 w 1586160"/>
              <a:gd name="textAreaRight" fmla="*/ 1189800 w 1586160"/>
              <a:gd name="textAreaTop" fmla="*/ 410760 h 1643040"/>
              <a:gd name="textAreaBottom" fmla="*/ 1232280 h 1643040"/>
            </a:gdLst>
            <a:ahLst/>
            <a:rect l="textAreaLeft" t="textAreaTop" r="textAreaRight" b="textAreaBottom"/>
            <a:pathLst>
              <a:path w="1585913" h="1643062">
                <a:moveTo>
                  <a:pt x="0" y="410766"/>
                </a:moveTo>
                <a:lnTo>
                  <a:pt x="49560" y="410766"/>
                </a:lnTo>
                <a:lnTo>
                  <a:pt x="49560" y="1232297"/>
                </a:lnTo>
                <a:lnTo>
                  <a:pt x="0" y="1232297"/>
                </a:lnTo>
                <a:close/>
                <a:moveTo>
                  <a:pt x="99120" y="410766"/>
                </a:moveTo>
                <a:lnTo>
                  <a:pt x="198239" y="410766"/>
                </a:lnTo>
                <a:lnTo>
                  <a:pt x="198239" y="1232297"/>
                </a:lnTo>
                <a:lnTo>
                  <a:pt x="99120" y="1232297"/>
                </a:lnTo>
                <a:close/>
                <a:moveTo>
                  <a:pt x="247799" y="410766"/>
                </a:moveTo>
                <a:lnTo>
                  <a:pt x="792957" y="410766"/>
                </a:lnTo>
                <a:lnTo>
                  <a:pt x="792957" y="0"/>
                </a:lnTo>
                <a:lnTo>
                  <a:pt x="1585913" y="821531"/>
                </a:lnTo>
                <a:lnTo>
                  <a:pt x="792957" y="1643062"/>
                </a:lnTo>
                <a:lnTo>
                  <a:pt x="792957" y="1232297"/>
                </a:lnTo>
                <a:lnTo>
                  <a:pt x="247799" y="1232297"/>
                </a:lnTo>
                <a:close/>
              </a:path>
            </a:pathLst>
          </a:custGeom>
          <a:solidFill>
            <a:srgbClr val="1f7a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2"/>
          <p:cNvSpPr/>
          <p:nvPr/>
        </p:nvSpPr>
        <p:spPr>
          <a:xfrm>
            <a:off x="164052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3"/>
          <p:cNvSpPr/>
          <p:nvPr/>
        </p:nvSpPr>
        <p:spPr>
          <a:xfrm>
            <a:off x="685512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4"/>
          <p:cNvSpPr/>
          <p:nvPr/>
        </p:nvSpPr>
        <p:spPr>
          <a:xfrm>
            <a:off x="42120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斜纹 10"/>
          <p:cNvSpPr/>
          <p:nvPr/>
        </p:nvSpPr>
        <p:spPr>
          <a:xfrm flipH="1">
            <a:off x="1428840" y="2286000"/>
            <a:ext cx="1928880" cy="1928880"/>
          </a:xfrm>
          <a:custGeom>
            <a:avLst/>
            <a:gdLst>
              <a:gd name="textAreaLeft" fmla="*/ 360 w 1928880"/>
              <a:gd name="textAreaRight" fmla="*/ 1447200 w 1928880"/>
              <a:gd name="textAreaTop" fmla="*/ 0 h 1928880"/>
              <a:gd name="textAreaBottom" fmla="*/ 1446840 h 1928880"/>
            </a:gdLst>
            <a:ahLst/>
            <a:rect l="textAreaLeft" t="textAreaTop" r="textAreaRight" b="textAreaBottom"/>
            <a:pathLst>
              <a:path w="1928813" h="1928813">
                <a:moveTo>
                  <a:pt x="0" y="964407"/>
                </a:moveTo>
                <a:lnTo>
                  <a:pt x="964407" y="0"/>
                </a:lnTo>
                <a:lnTo>
                  <a:pt x="1928813" y="0"/>
                </a:lnTo>
                <a:lnTo>
                  <a:pt x="0" y="1928813"/>
                </a:lnTo>
                <a:close/>
              </a:path>
            </a:pathLst>
          </a:custGeom>
          <a:solidFill>
            <a:srgbClr val="1f7a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斜纹 11"/>
          <p:cNvSpPr/>
          <p:nvPr/>
        </p:nvSpPr>
        <p:spPr>
          <a:xfrm flipH="1" flipV="1" rot="5400000">
            <a:off x="1357200" y="2357280"/>
            <a:ext cx="1928880" cy="1928880"/>
          </a:xfrm>
          <a:custGeom>
            <a:avLst/>
            <a:gdLst>
              <a:gd name="textAreaLeft" fmla="*/ 360 w 1928880"/>
              <a:gd name="textAreaRight" fmla="*/ 1447200 w 1928880"/>
              <a:gd name="textAreaTop" fmla="*/ 360 h 1928880"/>
              <a:gd name="textAreaBottom" fmla="*/ 1447200 h 1928880"/>
            </a:gdLst>
            <a:ahLst/>
            <a:rect l="textAreaLeft" t="textAreaTop" r="textAreaRight" b="textAreaBottom"/>
            <a:pathLst>
              <a:path w="1928812" h="1928812">
                <a:moveTo>
                  <a:pt x="0" y="964406"/>
                </a:moveTo>
                <a:lnTo>
                  <a:pt x="964406" y="0"/>
                </a:lnTo>
                <a:lnTo>
                  <a:pt x="1928812" y="0"/>
                </a:lnTo>
                <a:lnTo>
                  <a:pt x="0" y="1928812"/>
                </a:lnTo>
                <a:close/>
              </a:path>
            </a:pathLst>
          </a:custGeom>
          <a:solidFill>
            <a:srgbClr val="51a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斜纹 12"/>
          <p:cNvSpPr/>
          <p:nvPr/>
        </p:nvSpPr>
        <p:spPr>
          <a:xfrm flipH="1">
            <a:off x="3786120" y="2357280"/>
            <a:ext cx="1928880" cy="1928880"/>
          </a:xfrm>
          <a:custGeom>
            <a:avLst/>
            <a:gdLst>
              <a:gd name="textAreaLeft" fmla="*/ 360 w 1928880"/>
              <a:gd name="textAreaRight" fmla="*/ 1447200 w 1928880"/>
              <a:gd name="textAreaTop" fmla="*/ 0 h 1928880"/>
              <a:gd name="textAreaBottom" fmla="*/ 1446840 h 1928880"/>
            </a:gdLst>
            <a:ahLst/>
            <a:rect l="textAreaLeft" t="textAreaTop" r="textAreaRight" b="textAreaBottom"/>
            <a:pathLst>
              <a:path w="1928812" h="1928812">
                <a:moveTo>
                  <a:pt x="0" y="964406"/>
                </a:moveTo>
                <a:lnTo>
                  <a:pt x="964406" y="0"/>
                </a:lnTo>
                <a:lnTo>
                  <a:pt x="1928812" y="0"/>
                </a:lnTo>
                <a:lnTo>
                  <a:pt x="0" y="1928812"/>
                </a:lnTo>
                <a:close/>
              </a:path>
            </a:pathLst>
          </a:custGeom>
          <a:solidFill>
            <a:srgbClr val="1f7a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斜纹 13"/>
          <p:cNvSpPr/>
          <p:nvPr/>
        </p:nvSpPr>
        <p:spPr>
          <a:xfrm flipH="1" flipV="1" rot="5400000">
            <a:off x="3714840" y="2428920"/>
            <a:ext cx="1928880" cy="1928880"/>
          </a:xfrm>
          <a:custGeom>
            <a:avLst/>
            <a:gdLst>
              <a:gd name="textAreaLeft" fmla="*/ 360 w 1928880"/>
              <a:gd name="textAreaRight" fmla="*/ 1447200 w 1928880"/>
              <a:gd name="textAreaTop" fmla="*/ 360 h 1928880"/>
              <a:gd name="textAreaBottom" fmla="*/ 1447200 h 1928880"/>
            </a:gdLst>
            <a:ahLst/>
            <a:rect l="textAreaLeft" t="textAreaTop" r="textAreaRight" b="textAreaBottom"/>
            <a:pathLst>
              <a:path w="1928813" h="1928813">
                <a:moveTo>
                  <a:pt x="0" y="964407"/>
                </a:moveTo>
                <a:lnTo>
                  <a:pt x="964407" y="0"/>
                </a:lnTo>
                <a:lnTo>
                  <a:pt x="1928813" y="0"/>
                </a:lnTo>
                <a:lnTo>
                  <a:pt x="0" y="1928813"/>
                </a:lnTo>
                <a:close/>
              </a:path>
            </a:pathLst>
          </a:custGeom>
          <a:solidFill>
            <a:srgbClr val="51a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斜纹 14"/>
          <p:cNvSpPr/>
          <p:nvPr/>
        </p:nvSpPr>
        <p:spPr>
          <a:xfrm flipH="1">
            <a:off x="6215040" y="2428920"/>
            <a:ext cx="1928880" cy="1928880"/>
          </a:xfrm>
          <a:custGeom>
            <a:avLst/>
            <a:gdLst>
              <a:gd name="textAreaLeft" fmla="*/ 360 w 1928880"/>
              <a:gd name="textAreaRight" fmla="*/ 1447200 w 1928880"/>
              <a:gd name="textAreaTop" fmla="*/ 0 h 1928880"/>
              <a:gd name="textAreaBottom" fmla="*/ 1446840 h 1928880"/>
            </a:gdLst>
            <a:ahLst/>
            <a:rect l="textAreaLeft" t="textAreaTop" r="textAreaRight" b="textAreaBottom"/>
            <a:pathLst>
              <a:path w="1928812" h="1928813">
                <a:moveTo>
                  <a:pt x="0" y="964407"/>
                </a:moveTo>
                <a:lnTo>
                  <a:pt x="964406" y="0"/>
                </a:lnTo>
                <a:lnTo>
                  <a:pt x="1928812" y="0"/>
                </a:lnTo>
                <a:lnTo>
                  <a:pt x="0" y="1928813"/>
                </a:lnTo>
                <a:close/>
              </a:path>
            </a:pathLst>
          </a:custGeom>
          <a:solidFill>
            <a:srgbClr val="1f7a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斜纹 15"/>
          <p:cNvSpPr/>
          <p:nvPr/>
        </p:nvSpPr>
        <p:spPr>
          <a:xfrm flipH="1" flipV="1" rot="5400000">
            <a:off x="6142320" y="2500200"/>
            <a:ext cx="1928880" cy="1928520"/>
          </a:xfrm>
          <a:custGeom>
            <a:avLst/>
            <a:gdLst>
              <a:gd name="textAreaLeft" fmla="*/ 360 w 1928880"/>
              <a:gd name="textAreaRight" fmla="*/ 1447200 w 1928880"/>
              <a:gd name="textAreaTop" fmla="*/ -360 h 1928520"/>
              <a:gd name="textAreaBottom" fmla="*/ 1446120 h 1928520"/>
            </a:gdLst>
            <a:ahLst/>
            <a:rect l="textAreaLeft" t="textAreaTop" r="textAreaRight" b="textAreaBottom"/>
            <a:pathLst>
              <a:path w="1928812" h="1928813">
                <a:moveTo>
                  <a:pt x="0" y="964407"/>
                </a:moveTo>
                <a:lnTo>
                  <a:pt x="964406" y="0"/>
                </a:lnTo>
                <a:lnTo>
                  <a:pt x="1928812" y="0"/>
                </a:lnTo>
                <a:lnTo>
                  <a:pt x="0" y="1928813"/>
                </a:lnTo>
                <a:close/>
              </a:path>
            </a:pathLst>
          </a:custGeom>
          <a:solidFill>
            <a:srgbClr val="51a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2"/>
          <p:cNvSpPr/>
          <p:nvPr/>
        </p:nvSpPr>
        <p:spPr>
          <a:xfrm>
            <a:off x="17830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3"/>
          <p:cNvSpPr/>
          <p:nvPr/>
        </p:nvSpPr>
        <p:spPr>
          <a:xfrm>
            <a:off x="66409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4"/>
          <p:cNvSpPr/>
          <p:nvPr/>
        </p:nvSpPr>
        <p:spPr>
          <a:xfrm>
            <a:off x="42120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乘号 10"/>
          <p:cNvSpPr/>
          <p:nvPr/>
        </p:nvSpPr>
        <p:spPr>
          <a:xfrm>
            <a:off x="0" y="1698480"/>
            <a:ext cx="3301920" cy="3302280"/>
          </a:xfrm>
          <a:custGeom>
            <a:avLst/>
            <a:gdLst>
              <a:gd name="textAreaLeft" fmla="*/ 186120 w 3301920"/>
              <a:gd name="textAreaRight" fmla="*/ 3115800 w 3301920"/>
              <a:gd name="textAreaTop" fmla="*/ 186120 h 3302280"/>
              <a:gd name="textAreaBottom" fmla="*/ 3116160 h 3302280"/>
            </a:gdLst>
            <a:ahLst/>
            <a:rect l="textAreaLeft" t="textAreaTop" r="textAreaRight" b="textAreaBottom"/>
            <a:pathLst>
              <a:path w="3302000" h="3302000">
                <a:moveTo>
                  <a:pt x="186401" y="1399715"/>
                </a:moveTo>
                <a:lnTo>
                  <a:pt x="1399715" y="186401"/>
                </a:lnTo>
                <a:lnTo>
                  <a:pt x="1651000" y="437687"/>
                </a:lnTo>
                <a:lnTo>
                  <a:pt x="1902285" y="186401"/>
                </a:lnTo>
                <a:lnTo>
                  <a:pt x="3115599" y="1399715"/>
                </a:lnTo>
                <a:lnTo>
                  <a:pt x="2864313" y="1651000"/>
                </a:lnTo>
                <a:lnTo>
                  <a:pt x="3115599" y="1902285"/>
                </a:lnTo>
                <a:lnTo>
                  <a:pt x="1902285" y="3115599"/>
                </a:lnTo>
                <a:lnTo>
                  <a:pt x="1651000" y="2864313"/>
                </a:lnTo>
                <a:lnTo>
                  <a:pt x="1399715" y="3115599"/>
                </a:lnTo>
                <a:lnTo>
                  <a:pt x="186401" y="1902285"/>
                </a:lnTo>
                <a:lnTo>
                  <a:pt x="437687" y="1651000"/>
                </a:lnTo>
                <a:close/>
              </a:path>
            </a:pathLst>
          </a:custGeom>
          <a:solidFill>
            <a:srgbClr val="51a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乘号 11"/>
          <p:cNvSpPr/>
          <p:nvPr/>
        </p:nvSpPr>
        <p:spPr>
          <a:xfrm>
            <a:off x="2928960" y="1698480"/>
            <a:ext cx="3301920" cy="3302280"/>
          </a:xfrm>
          <a:custGeom>
            <a:avLst/>
            <a:gdLst>
              <a:gd name="textAreaLeft" fmla="*/ 186120 w 3301920"/>
              <a:gd name="textAreaRight" fmla="*/ 3115800 w 3301920"/>
              <a:gd name="textAreaTop" fmla="*/ 186120 h 3302280"/>
              <a:gd name="textAreaBottom" fmla="*/ 3116160 h 3302280"/>
            </a:gdLst>
            <a:ahLst/>
            <a:rect l="textAreaLeft" t="textAreaTop" r="textAreaRight" b="textAreaBottom"/>
            <a:pathLst>
              <a:path w="3302000" h="3302000">
                <a:moveTo>
                  <a:pt x="186401" y="1399715"/>
                </a:moveTo>
                <a:lnTo>
                  <a:pt x="1399715" y="186401"/>
                </a:lnTo>
                <a:lnTo>
                  <a:pt x="1651000" y="437687"/>
                </a:lnTo>
                <a:lnTo>
                  <a:pt x="1902285" y="186401"/>
                </a:lnTo>
                <a:lnTo>
                  <a:pt x="3115599" y="1399715"/>
                </a:lnTo>
                <a:lnTo>
                  <a:pt x="2864313" y="1651000"/>
                </a:lnTo>
                <a:lnTo>
                  <a:pt x="3115599" y="1902285"/>
                </a:lnTo>
                <a:lnTo>
                  <a:pt x="1902285" y="3115599"/>
                </a:lnTo>
                <a:lnTo>
                  <a:pt x="1651000" y="2864313"/>
                </a:lnTo>
                <a:lnTo>
                  <a:pt x="1399715" y="3115599"/>
                </a:lnTo>
                <a:lnTo>
                  <a:pt x="186401" y="1902285"/>
                </a:lnTo>
                <a:lnTo>
                  <a:pt x="437687" y="1651000"/>
                </a:lnTo>
                <a:close/>
              </a:path>
            </a:pathLst>
          </a:custGeom>
          <a:solidFill>
            <a:srgbClr val="1f7a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乘号 12"/>
          <p:cNvSpPr/>
          <p:nvPr/>
        </p:nvSpPr>
        <p:spPr>
          <a:xfrm>
            <a:off x="5857920" y="1698480"/>
            <a:ext cx="3301920" cy="3302280"/>
          </a:xfrm>
          <a:custGeom>
            <a:avLst/>
            <a:gdLst>
              <a:gd name="textAreaLeft" fmla="*/ 186120 w 3301920"/>
              <a:gd name="textAreaRight" fmla="*/ 3115800 w 3301920"/>
              <a:gd name="textAreaTop" fmla="*/ 186120 h 3302280"/>
              <a:gd name="textAreaBottom" fmla="*/ 3116160 h 3302280"/>
            </a:gdLst>
            <a:ahLst/>
            <a:rect l="textAreaLeft" t="textAreaTop" r="textAreaRight" b="textAreaBottom"/>
            <a:pathLst>
              <a:path w="3302000" h="3302000">
                <a:moveTo>
                  <a:pt x="186401" y="1399715"/>
                </a:moveTo>
                <a:lnTo>
                  <a:pt x="1399715" y="186401"/>
                </a:lnTo>
                <a:lnTo>
                  <a:pt x="1651000" y="437687"/>
                </a:lnTo>
                <a:lnTo>
                  <a:pt x="1902285" y="186401"/>
                </a:lnTo>
                <a:lnTo>
                  <a:pt x="3115599" y="1399715"/>
                </a:lnTo>
                <a:lnTo>
                  <a:pt x="2864313" y="1651000"/>
                </a:lnTo>
                <a:lnTo>
                  <a:pt x="3115599" y="1902285"/>
                </a:lnTo>
                <a:lnTo>
                  <a:pt x="1902285" y="3115599"/>
                </a:lnTo>
                <a:lnTo>
                  <a:pt x="1651000" y="2864313"/>
                </a:lnTo>
                <a:lnTo>
                  <a:pt x="1399715" y="3115599"/>
                </a:lnTo>
                <a:lnTo>
                  <a:pt x="186401" y="1902285"/>
                </a:lnTo>
                <a:lnTo>
                  <a:pt x="437687" y="1651000"/>
                </a:lnTo>
                <a:close/>
              </a:path>
            </a:pathLst>
          </a:custGeom>
          <a:solidFill>
            <a:srgbClr val="51a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2"/>
          <p:cNvSpPr/>
          <p:nvPr/>
        </p:nvSpPr>
        <p:spPr>
          <a:xfrm>
            <a:off x="12117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3"/>
          <p:cNvSpPr/>
          <p:nvPr/>
        </p:nvSpPr>
        <p:spPr>
          <a:xfrm>
            <a:off x="699804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4"/>
          <p:cNvSpPr/>
          <p:nvPr/>
        </p:nvSpPr>
        <p:spPr>
          <a:xfrm>
            <a:off x="406908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钟强</cp:lastModifiedBy>
  <dcterms:modified xsi:type="dcterms:W3CDTF">2015-10-19T08:15:54Z</dcterms:modified>
  <cp:revision>288</cp:revision>
  <dc:subject/>
  <dc:title>幻灯片 1</dc:title>
</cp:coreProperties>
</file>