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7.png" ContentType="image/png"/>
  <Override PartName="/ppt/media/image9.png" ContentType="image/png"/>
  <Override PartName="/ppt/media/laser.wav" ContentType="audio/x-wav"/>
  <Override PartName="/ppt/media/ricochet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FB69-896A-40CA-827B-7EAB561D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7F3-E8DA-4A84-B85F-23BC916A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BDC-B0AA-427E-912E-0E8B20D1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DF6-327C-4AAB-B4C2-D2E38AD3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24B1-A88F-40C9-B9B9-059C2943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03E5-AA34-44F4-AC29-118684A2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D2B9-38A4-4BB9-8915-34106FF5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47C3-28F1-434D-9DE4-A83B70C5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DCC3-9BE3-4DCC-BC42-5DC1009B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2E7E-7240-4B87-9C01-9F46CE0F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4966-B421-4E6D-97B7-7061CD8F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113-B423-456F-BC20-72E8467D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8A77-3980-4AA8-A3AC-B83720EF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9B4D-B0E2-4F99-BEC9-63121912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A9AD-D900-4FE5-AE23-A3AAA1FE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786A-B8A6-43DD-8955-E04D4E12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C473-6C83-41F1-B632-00B16D60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2DBF-A40C-4074-8BE9-9E495B3D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E4F5-B220-43C2-BCEF-16CF7026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03F4F-D2D0-46E8-8591-D271BE9C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38BB-4CDA-45E9-9E37-70A18397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15DD5-869C-4AAF-AB06-30F799A1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39A-F698-4733-A8E2-69D32852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B203-4D42-4488-8ABD-44854C0B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14EF0-9A63-4058-B9B8-484A972A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44AA-263C-4DC9-81B6-8D9906AF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ED611-402B-40EE-BABC-BFC4415E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86B4A-855D-4D1D-91D8-29C9FB51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BF6FD-2CC9-42E4-ADF0-3DE032DC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69046-6A80-4287-A29E-4DAC5FB6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FDF-442C-4DA9-97AD-5A7816FE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819-C926-4053-B070-B68FD199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FC0-227C-4E51-BB08-73CBFD8E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84B-1E33-447D-AB3A-6072E73F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BD8-4715-4CF4-B4E0-062FFC7E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DB5-9EEB-430B-AFC8-F1D37B2C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3154-BC6C-40DB-8D1F-B263D1177C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A1F1-3039-401D-B013-1E6A7C53A303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1AE3-E747-4A44-BD2C-5E8E6CDF5197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8000" y="-9540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71360" y="800280"/>
            <a:ext cx="8001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19*</a:t>
            </a: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鹿和狼的故事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引狼入室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美国政府为了挽救护鹿灭狼带来的恶果，于上世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代制定了“引狼入室”的计划。而当时该计划遭到了一些人的反对未及时实施。随着人们对环境意识的提高，“引狼入室”计划终于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得到实施。当年美国从加拿大运来首批野狼放 生到落基山中，从此，凯巴伯森林又焕发出勃勃生机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120" y="68580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人们必须尊重动物乃至整个生物界中的这种相互关系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39640" y="1868400"/>
            <a:ext cx="7920000" cy="2825640"/>
            <a:chOff x="539640" y="1868400"/>
            <a:chExt cx="7920000" cy="2825640"/>
          </a:xfrm>
        </p:grpSpPr>
        <p:sp>
          <p:nvSpPr>
            <p:cNvPr id="172" name=""/>
            <p:cNvSpPr/>
            <p:nvPr/>
          </p:nvSpPr>
          <p:spPr>
            <a:xfrm>
              <a:off x="539640" y="2589120"/>
              <a:ext cx="79200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          </a:t>
              </a:r>
              <a:r>
                <a:rPr b="0" lang="zh-CN" sz="44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zh-CN" sz="4400" spc="-1" strike="noStrike">
                  <a:solidFill>
                    <a:srgbClr val="2a3d7a"/>
                  </a:solidFill>
                  <a:latin typeface="华文中宋"/>
                  <a:ea typeface="华文中宋"/>
                </a:rPr>
                <a:t>本课的写作思路是</a:t>
              </a:r>
              <a:r>
                <a:rPr b="1" lang="zh-CN" sz="4400" spc="-1" strike="noStrike" u="sng">
                  <a:solidFill>
                    <a:srgbClr val="2a3d7a"/>
                  </a:solidFill>
                  <a:uFillTx/>
                  <a:latin typeface="华文中宋"/>
                  <a:ea typeface="华文中宋"/>
                </a:rPr>
                <a:t>先叙述具体事例</a:t>
              </a:r>
              <a:r>
                <a:rPr b="1" lang="zh-CN" sz="4400" spc="-1" strike="noStrike">
                  <a:solidFill>
                    <a:srgbClr val="2a3d7a"/>
                  </a:solidFill>
                  <a:latin typeface="华文中宋"/>
                  <a:ea typeface="华文中宋"/>
                </a:rPr>
                <a:t>，</a:t>
              </a:r>
              <a:r>
                <a:rPr b="1" lang="zh-CN" sz="4400" spc="-1" strike="noStrike" u="sng">
                  <a:solidFill>
                    <a:srgbClr val="2a3d7a"/>
                  </a:solidFill>
                  <a:uFillTx/>
                  <a:latin typeface="华文中宋"/>
                  <a:ea typeface="华文中宋"/>
                </a:rPr>
                <a:t>再分析</a:t>
              </a:r>
              <a:r>
                <a:rPr b="1" lang="zh-CN" sz="4400" spc="-1" strike="noStrike">
                  <a:solidFill>
                    <a:srgbClr val="2a3d7a"/>
                  </a:solidFill>
                  <a:latin typeface="华文中宋"/>
                  <a:ea typeface="华文中宋"/>
                </a:rPr>
                <a:t>这一事例产生严重后果的</a:t>
              </a:r>
              <a:r>
                <a:rPr b="1" lang="zh-CN" sz="4400" spc="-1" strike="noStrike" u="sng">
                  <a:solidFill>
                    <a:srgbClr val="2a3d7a"/>
                  </a:solidFill>
                  <a:uFillTx/>
                  <a:latin typeface="华文中宋"/>
                  <a:ea typeface="华文中宋"/>
                </a:rPr>
                <a:t>原因</a:t>
              </a:r>
              <a:r>
                <a:rPr b="1" lang="zh-CN" sz="4400" spc="-1" strike="noStrike">
                  <a:solidFill>
                    <a:srgbClr val="2a3d7a"/>
                  </a:solidFill>
                  <a:latin typeface="华文中宋"/>
                  <a:ea typeface="华文中宋"/>
                </a:rPr>
                <a:t>，</a:t>
              </a:r>
              <a:r>
                <a:rPr b="1" lang="zh-CN" sz="4400" spc="-1" strike="noStrike" u="sng">
                  <a:solidFill>
                    <a:srgbClr val="2a3d7a"/>
                  </a:solidFill>
                  <a:uFillTx/>
                  <a:latin typeface="华文中宋"/>
                  <a:ea typeface="华文中宋"/>
                </a:rPr>
                <a:t>最后</a:t>
              </a:r>
              <a:r>
                <a:rPr b="1" lang="zh-CN" sz="4400" spc="-1" strike="noStrike">
                  <a:solidFill>
                    <a:srgbClr val="2a3d7a"/>
                  </a:solidFill>
                  <a:latin typeface="华文中宋"/>
                  <a:ea typeface="华文中宋"/>
                </a:rPr>
                <a:t>从教训中</a:t>
              </a:r>
              <a:r>
                <a:rPr b="1" lang="zh-CN" sz="4400" spc="-1" strike="noStrike" u="sng">
                  <a:solidFill>
                    <a:srgbClr val="2a3d7a"/>
                  </a:solidFill>
                  <a:uFillTx/>
                  <a:latin typeface="华文中宋"/>
                  <a:ea typeface="华文中宋"/>
                </a:rPr>
                <a:t>概括</a:t>
              </a:r>
              <a:r>
                <a:rPr b="1" lang="zh-CN" sz="4400" spc="-1" strike="noStrike">
                  <a:solidFill>
                    <a:srgbClr val="2a3d7a"/>
                  </a:solidFill>
                  <a:latin typeface="华文中宋"/>
                  <a:ea typeface="华文中宋"/>
                </a:rPr>
                <a:t>出维护生态平衡的</a:t>
              </a:r>
              <a:r>
                <a:rPr b="1" lang="zh-CN" sz="4400" spc="-1" strike="noStrike" u="sng">
                  <a:solidFill>
                    <a:srgbClr val="2a3d7a"/>
                  </a:solidFill>
                  <a:uFillTx/>
                  <a:latin typeface="华文中宋"/>
                  <a:ea typeface="华文中宋"/>
                </a:rPr>
                <a:t>道理</a:t>
              </a:r>
              <a:r>
                <a:rPr b="1" lang="zh-CN" sz="4400" spc="-1" strike="noStrike">
                  <a:solidFill>
                    <a:srgbClr val="2a3d7a"/>
                  </a:solidFill>
                  <a:latin typeface="华文中宋"/>
                  <a:ea typeface="华文中宋"/>
                </a:rPr>
                <a:t>。</a:t>
              </a:r>
              <a:r>
                <a:rPr b="1" lang="zh-CN" sz="4400" spc="-1" strike="noStrike">
                  <a:solidFill>
                    <a:srgbClr val="6600ff"/>
                  </a:solidFill>
                  <a:latin typeface="华文中宋"/>
                  <a:ea typeface="华文中宋"/>
                </a:rPr>
                <a:t> （用故事说明道理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2843280" y="1868400"/>
              <a:ext cx="2620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宋体"/>
                </a:rPr>
                <a:t>课文解析</a:t>
              </a:r>
              <a:endPara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755640" y="765000"/>
            <a:ext cx="6769080" cy="2029320"/>
            <a:chOff x="755640" y="765000"/>
            <a:chExt cx="6769080" cy="2029320"/>
          </a:xfrm>
        </p:grpSpPr>
        <p:sp>
          <p:nvSpPr>
            <p:cNvPr id="175" name=""/>
            <p:cNvSpPr/>
            <p:nvPr/>
          </p:nvSpPr>
          <p:spPr>
            <a:xfrm>
              <a:off x="1042920" y="765000"/>
              <a:ext cx="36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ad6bf"/>
                  </a:solidFill>
                  <a:latin typeface="Times New Roman"/>
                  <a:ea typeface="黑体"/>
                </a:rPr>
                <a:t>关于狼和鹿的成语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5640" y="1412640"/>
              <a:ext cx="67690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0093"/>
                  </a:solidFill>
                  <a:latin typeface="幼圆"/>
                  <a:ea typeface="幼圆"/>
                </a:rPr>
                <a:t>狼狈为奸   狼奔豕突   狼吞虎咽   狼心狗肺   狼烟四起   狼子野心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0093"/>
                  </a:solidFill>
                  <a:latin typeface="幼圆"/>
                  <a:ea typeface="幼圆"/>
                </a:rPr>
                <a:t>鹿死谁手   指鹿为马</a:t>
              </a:r>
              <a:r>
                <a:rPr b="1" lang="en-US" sz="2400" spc="-1" strike="noStrike">
                  <a:solidFill>
                    <a:srgbClr val="d60093"/>
                  </a:solidFill>
                  <a:latin typeface="幼圆"/>
                  <a:ea typeface="幼圆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4000" y="2708280"/>
            <a:ext cx="8208360" cy="4371120"/>
            <a:chOff x="324000" y="2708280"/>
            <a:chExt cx="8208360" cy="4371120"/>
          </a:xfrm>
        </p:grpSpPr>
        <p:sp>
          <p:nvSpPr>
            <p:cNvPr id="178" name=""/>
            <p:cNvSpPr/>
            <p:nvPr/>
          </p:nvSpPr>
          <p:spPr>
            <a:xfrm>
              <a:off x="401040" y="2708280"/>
              <a:ext cx="402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</a:rPr>
                <a:t>关于狼的歇后语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4000" y="3500280"/>
              <a:ext cx="8208360" cy="35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狼头上长角——装样（羊）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狼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窝里养孩子——性命 难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狼夸羊肥——不怀好意       狼看羊羔——越看越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狼行千里吃肉——本性难移     狼吃狼——冷不防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3300"/>
                  </a:solidFill>
                  <a:latin typeface="Times New Roman"/>
                </a:rPr>
                <a:t>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95280" y="260280"/>
            <a:ext cx="8353440" cy="1817640"/>
            <a:chOff x="395280" y="260280"/>
            <a:chExt cx="8353440" cy="1817640"/>
          </a:xfrm>
        </p:grpSpPr>
        <p:sp>
          <p:nvSpPr>
            <p:cNvPr id="134" name=""/>
            <p:cNvSpPr txBox="1"/>
            <p:nvPr/>
          </p:nvSpPr>
          <p:spPr>
            <a:xfrm>
              <a:off x="395280" y="260280"/>
              <a:ext cx="2714760" cy="123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点击课题</a:t>
              </a:r>
              <a:endParaRPr b="0" lang="en-US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32000" y="1557360"/>
              <a:ext cx="741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66"/>
                  </a:solidFill>
                  <a:latin typeface="Times New Roman"/>
                  <a:ea typeface="幼圆"/>
                </a:rPr>
                <a:t>鹿是善良的，所以要保护；狼是凶残的，所以要消灭。课文讲的就是</a:t>
              </a:r>
              <a:r>
                <a:rPr b="0" lang="zh-CN" sz="2800" spc="-1" strike="noStrike">
                  <a:solidFill>
                    <a:srgbClr val="009900"/>
                  </a:solidFill>
                  <a:latin typeface="Times New Roman"/>
                  <a:ea typeface="幼圆"/>
                </a:rPr>
                <a:t>罗斯福</a:t>
              </a:r>
              <a:r>
                <a:rPr b="0" lang="zh-CN" sz="2800" spc="-1" strike="noStrike">
                  <a:solidFill>
                    <a:srgbClr val="ff0066"/>
                  </a:solidFill>
                  <a:latin typeface="Times New Roman"/>
                  <a:ea typeface="幼圆"/>
                </a:rPr>
                <a:t>为了保护凯巴伯森林的饿鹿采取了一系列的措施，但结果出乎意料</a:t>
              </a: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  <a:ea typeface="幼圆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42920" y="2997360"/>
            <a:ext cx="7284960" cy="2620800"/>
            <a:chOff x="1042920" y="2997360"/>
            <a:chExt cx="7284960" cy="2620800"/>
          </a:xfrm>
        </p:grpSpPr>
        <p:sp>
          <p:nvSpPr>
            <p:cNvPr id="137" name=""/>
            <p:cNvSpPr/>
            <p:nvPr/>
          </p:nvSpPr>
          <p:spPr>
            <a:xfrm>
              <a:off x="1042920" y="3573720"/>
              <a:ext cx="3960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9900"/>
                  </a:solidFill>
                  <a:latin typeface="幼圆"/>
                  <a:ea typeface="幼圆"/>
                </a:rPr>
                <a:t>罗斯福：</a:t>
              </a:r>
              <a:r>
                <a:rPr b="1" lang="zh-CN" sz="2800" spc="-1" strike="noStrike">
                  <a:solidFill>
                    <a:srgbClr val="33cccc"/>
                  </a:solidFill>
                  <a:latin typeface="幼圆"/>
                  <a:ea typeface="幼圆"/>
                </a:rPr>
                <a:t>西奥多</a:t>
              </a:r>
              <a:r>
                <a:rPr b="1" lang="en-US" sz="2800" spc="-1" strike="noStrike">
                  <a:solidFill>
                    <a:srgbClr val="33cccc"/>
                  </a:solidFill>
                  <a:latin typeface="幼圆"/>
                  <a:ea typeface="幼圆"/>
                </a:rPr>
                <a:t>·</a:t>
              </a:r>
              <a:r>
                <a:rPr b="1" lang="zh-CN" sz="2800" spc="-1" strike="noStrike">
                  <a:solidFill>
                    <a:srgbClr val="33cccc"/>
                  </a:solidFill>
                  <a:latin typeface="幼圆"/>
                  <a:ea typeface="幼圆"/>
                </a:rPr>
                <a:t>罗斯福（</a:t>
              </a:r>
              <a:r>
                <a:rPr b="1" lang="en-US" sz="2800" spc="-1" strike="noStrike">
                  <a:solidFill>
                    <a:srgbClr val="33cccc"/>
                  </a:solidFill>
                  <a:latin typeface="幼圆"/>
                  <a:ea typeface="幼圆"/>
                </a:rPr>
                <a:t>1858-1919</a:t>
              </a:r>
              <a:r>
                <a:rPr b="1" lang="zh-CN" sz="2800" spc="-1" strike="noStrike">
                  <a:solidFill>
                    <a:srgbClr val="33cccc"/>
                  </a:solidFill>
                  <a:latin typeface="幼圆"/>
                  <a:ea typeface="幼圆"/>
                </a:rPr>
                <a:t>）</a:t>
              </a:r>
              <a:r>
                <a:rPr b="1" lang="en-US" sz="2800" spc="-1" strike="noStrike">
                  <a:solidFill>
                    <a:srgbClr val="33cccc"/>
                  </a:solidFill>
                  <a:latin typeface="幼圆"/>
                  <a:ea typeface="幼圆"/>
                </a:rPr>
                <a:t>1901</a:t>
              </a:r>
              <a:r>
                <a:rPr b="1" lang="zh-CN" sz="2800" spc="-1" strike="noStrike">
                  <a:solidFill>
                    <a:srgbClr val="33cccc"/>
                  </a:solidFill>
                  <a:latin typeface="幼圆"/>
                  <a:ea typeface="幼圆"/>
                </a:rPr>
                <a:t>年任美国副总统，总统麦金利遇刺身亡，继任总统。</a:t>
              </a:r>
              <a:r>
                <a:rPr b="1" lang="en-US" sz="2800" spc="-1" strike="noStrike">
                  <a:solidFill>
                    <a:srgbClr val="33cccc"/>
                  </a:solidFill>
                  <a:latin typeface="幼圆"/>
                  <a:ea typeface="幼圆"/>
                </a:rPr>
                <a:t>1904</a:t>
              </a:r>
              <a:r>
                <a:rPr b="1" lang="zh-CN" sz="2800" spc="-1" strike="noStrike">
                  <a:solidFill>
                    <a:srgbClr val="33cccc"/>
                  </a:solidFill>
                  <a:latin typeface="幼圆"/>
                  <a:ea typeface="幼圆"/>
                </a:rPr>
                <a:t>年，连续当选为总统。是美国第</a:t>
              </a:r>
              <a:r>
                <a:rPr b="1" lang="en-US" sz="2800" spc="-1" strike="noStrike">
                  <a:solidFill>
                    <a:srgbClr val="33cccc"/>
                  </a:solidFill>
                  <a:latin typeface="幼圆"/>
                  <a:ea typeface="幼圆"/>
                </a:rPr>
                <a:t>26</a:t>
              </a:r>
              <a:r>
                <a:rPr b="1" lang="zh-CN" sz="2800" spc="-1" strike="noStrike">
                  <a:solidFill>
                    <a:srgbClr val="33cccc"/>
                  </a:solidFill>
                  <a:latin typeface="幼圆"/>
                  <a:ea typeface="幼圆"/>
                </a:rPr>
                <a:t>届总统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5796000" y="2997360"/>
              <a:ext cx="2531880" cy="262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efefe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14400" y="304920"/>
            <a:ext cx="4191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读一读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286000"/>
            <a:ext cx="815328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凯巴伯   狩猎   雇请   一命呜呼    宠儿    难逃厄运   锐减  苟延残喘   控制    面目全非   罪魁祸首   相悖    乃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533520"/>
            <a:ext cx="396216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2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想一想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2" name=""/>
          <p:cNvSpPr/>
          <p:nvPr/>
        </p:nvSpPr>
        <p:spPr>
          <a:xfrm>
            <a:off x="2005200" y="3352680"/>
            <a:ext cx="32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罗斯福错在哪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720" y="1981080"/>
            <a:ext cx="50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罗斯福是怎样做的？结果如何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51800" y="48769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故事说明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332840" y="3886200"/>
            <a:ext cx="1811160" cy="2971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a3d7a"/>
                </a:solidFill>
                <a:latin typeface="宋体"/>
              </a:rPr>
              <a:t>罗斯福采取了两项措施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263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设立凯巴伯森林为狩猎保护区。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雇请猎人捕杀狼</a:t>
            </a:r>
            <a:r>
              <a:rPr b="1" lang="zh-CN" sz="6000" spc="-1" strike="noStrike">
                <a:solidFill>
                  <a:srgbClr val="5b5249"/>
                </a:solidFill>
                <a:latin typeface="宋体"/>
              </a:rPr>
              <a:t>。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462120" y="1484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120" y="549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鹿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15280" y="549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0" y="37497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森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90680" y="1082520"/>
            <a:ext cx="3962520" cy="457200"/>
          </a:xfrm>
          <a:prstGeom prst="leftArrow">
            <a:avLst>
              <a:gd name="adj1" fmla="val 50000"/>
              <a:gd name="adj2" fmla="val 21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7039800">
            <a:off x="3818160" y="2736000"/>
            <a:ext cx="2741760" cy="485640"/>
          </a:xfrm>
          <a:prstGeom prst="rightArrow">
            <a:avLst>
              <a:gd name="adj1" fmla="val 49019"/>
              <a:gd name="adj2" fmla="val 224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3083400">
            <a:off x="560160" y="2903400"/>
            <a:ext cx="2819520" cy="533160"/>
          </a:xfrm>
          <a:prstGeom prst="rightArrow">
            <a:avLst>
              <a:gd name="adj1" fmla="val 50000"/>
              <a:gd name="adj2" fmla="val 13220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5920" y="259632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破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29040" y="238356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保 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58080" y="4437000"/>
            <a:ext cx="3085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琥珀"/>
              </a:rPr>
              <a:t>相互制约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琥珀"/>
              <a:ea typeface="华文琥珀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058080" y="5877000"/>
            <a:ext cx="3085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华文琥珀"/>
              </a:rPr>
              <a:t>相互联系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华文琥珀"/>
              <a:ea typeface="华文琥珀"/>
            </a:endParaRPr>
          </a:p>
        </p:txBody>
      </p:sp>
    </p:spTree>
  </p:cSld>
  <p:transition>
    <p:wheel spokes="3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427920" y="2286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隶书"/>
              </a:rPr>
              <a:t>列举事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7920" y="22860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隶书"/>
              </a:rPr>
              <a:t>分析原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1960" y="46483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隶书"/>
              </a:rPr>
              <a:t>得出结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1219320"/>
            <a:ext cx="485640" cy="1295280"/>
          </a:xfrm>
          <a:prstGeom prst="downArrow">
            <a:avLst>
              <a:gd name="adj1" fmla="val 50000"/>
              <a:gd name="adj2" fmla="val 666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3429000"/>
            <a:ext cx="485640" cy="1357200"/>
          </a:xfrm>
          <a:prstGeom prst="downArrow">
            <a:avLst>
              <a:gd name="adj1" fmla="val 50000"/>
              <a:gd name="adj2" fmla="val 698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e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26960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本植物克株的花美丽迷人，并且还能散发出甜甜的葡萄酒的香气，不久就以观赏植物的身份出现在美国。后来，由于克株生长快，并能在极其恶劣的土壤条件下生长，适应性极强，还是优良的绿肥和饲料，美国开始大规模推广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仅在得克萨斯一州就种植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英亩。可是由于克株的大量繁殖，给当地带来了极大的灾难。戏剧性的场面发生了：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代，当年致力于研究培育克株的联邦农业部门，来了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度大转弯，转向了研究如何控制和消除克株。于是美国又开始了轰轰烈烈的清除克株运动，并为之付出了巨大的人力物力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0fe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19000" y="251316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2928240"/>
            <a:ext cx="84628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澳大利亚本来不产兔子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5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好事的移民从英国带来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欧洲野兔。这些野兔发现自己来到了天堂：澳大利亚没有鹰、狐狸这些天敌，于是它们开始了几乎不受任何限制的大量繁殖。到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兔子的数量已达上千万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遍布整块大陆。由于兔子和牛羊争夺牧草，澳大利亚的畜牧业遭受了巨大的损失。人们想尽了办法，筑围墙、打猎、捕捉、放毒等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兔灾仍然无法消除。后来生物学家从美洲引进了一种靠蚊子传播的病毒，这种病毒的天然宿主是美洲兔，能在美洲兔体内产生粘液瘤，却不致命；但是它们对于欧洲兔却是致命的，而且对于人、畜和澳大利亚的野生动物完全无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7:12:23Z</dcterms:created>
  <dc:creator>ujjhj</dc:creator>
  <dc:description/>
  <cp:keywords/>
  <dc:language>en-US</dc:language>
  <cp:lastModifiedBy>admin</cp:lastModifiedBy>
  <dcterms:modified xsi:type="dcterms:W3CDTF">2012-12-07T09:58:44Z</dcterms:modified>
  <cp:revision>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363</vt:lpwstr>
  </property>
</Properties>
</file>