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7E3-8750-402A-BC3B-2F23040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8E4-215C-4D3B-8366-02FCA82A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8A7-6097-4950-8361-71E33DD8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318-F622-46DD-ABC4-A047E541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708-4D48-49E6-B11D-A85EFA2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88F-A132-4037-9C96-BBEF411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91D-B639-4D28-AB23-7A381A76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78F-3D83-43A5-B65C-522C2D5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184-5D61-46D0-9E89-B010700E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D09-2818-4D67-9320-D2648A5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472-C821-4E0D-AF9F-0901F9E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542-5EA0-45B1-9417-01A7D11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45B7-0714-4DAD-AC0F-85563ACDC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46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907920"/>
            <a:ext cx="5445360" cy="67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4*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鹿和狼的故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828800"/>
            <a:ext cx="8143560" cy="3245760"/>
            <a:chOff x="457200" y="1828800"/>
            <a:chExt cx="8143560" cy="32457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1913760"/>
              <a:ext cx="358956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006160" y="1828800"/>
              <a:ext cx="3594600" cy="31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4199040" y="3205800"/>
              <a:ext cx="612720" cy="63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和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819520" y="58672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91080" y="558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凶恶而残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38360" y="558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丽而善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很快，森林中的鹿增多了，总数超过了十万只。十万多只鹿在森林中东啃西啃，灌木丛吃光了就啃食小树，小树吃光后又啃食大树的树皮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切能被鹿吃的植物都难逃厄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5000" y="476280"/>
            <a:ext cx="407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为什么“宠儿”会变成“罪魁祸首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2920" y="1413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阅读课文第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—9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然段说说鹿、狼、森林三者之间的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20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1280" y="9079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—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：鹿和狼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5400" y="15573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斯福想保护鹿，下令消灭狼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既害了鹿，还毁了森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6200" y="26370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—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：罗斯福事与愿违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862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类的片面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4320" y="42210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：从鹿和狼的故事中得到的启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5084640"/>
            <a:ext cx="60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活在同一地球上的不同生物之间是相互制约、相互联系的。人们必须尊重动物乃至整个生物界中的这种相互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38080" y="1044720"/>
            <a:ext cx="8478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鹿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05320" y="1120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狼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28800" y="650880"/>
            <a:ext cx="1523880" cy="1155600"/>
            <a:chOff x="1828800" y="650880"/>
            <a:chExt cx="1523880" cy="1155600"/>
          </a:xfrm>
        </p:grpSpPr>
        <p:sp>
          <p:nvSpPr>
            <p:cNvPr id="78" name=""/>
            <p:cNvSpPr/>
            <p:nvPr/>
          </p:nvSpPr>
          <p:spPr>
            <a:xfrm>
              <a:off x="1828800" y="1577880"/>
              <a:ext cx="1523880" cy="228600"/>
            </a:xfrm>
            <a:prstGeom prst="leftArrow">
              <a:avLst>
                <a:gd name="adj1" fmla="val 50000"/>
                <a:gd name="adj2" fmla="val 166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2362320" y="650880"/>
              <a:ext cx="61884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吃</a:t>
              </a:r>
              <a:endParaRPr b="0" lang="en-US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1523880" y="2873520"/>
            <a:ext cx="207648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森林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952720" y="2035080"/>
            <a:ext cx="2152800" cy="990720"/>
            <a:chOff x="2952720" y="2035080"/>
            <a:chExt cx="2152800" cy="990720"/>
          </a:xfrm>
        </p:grpSpPr>
        <p:sp>
          <p:nvSpPr>
            <p:cNvPr id="82" name=""/>
            <p:cNvSpPr/>
            <p:nvPr/>
          </p:nvSpPr>
          <p:spPr>
            <a:xfrm>
              <a:off x="3809880" y="2035080"/>
              <a:ext cx="1295640" cy="990720"/>
            </a:xfrm>
            <a:custGeom>
              <a:avLst/>
              <a:gdLst>
                <a:gd name="textAreaLeft" fmla="*/ 173520 w 1295640"/>
                <a:gd name="textAreaRight" fmla="*/ 1122120 w 129564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952720" y="232092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保护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2111400"/>
            <a:ext cx="2228760" cy="990720"/>
            <a:chOff x="0" y="2111400"/>
            <a:chExt cx="2228760" cy="990720"/>
          </a:xfrm>
        </p:grpSpPr>
        <p:sp>
          <p:nvSpPr>
            <p:cNvPr id="85" name=""/>
            <p:cNvSpPr/>
            <p:nvPr/>
          </p:nvSpPr>
          <p:spPr>
            <a:xfrm>
              <a:off x="0" y="2111400"/>
              <a:ext cx="1219320" cy="990720"/>
            </a:xfrm>
            <a:custGeom>
              <a:avLst/>
              <a:gdLst>
                <a:gd name="textAreaLeft" fmla="*/ 163080 w 1219320"/>
                <a:gd name="textAreaRight" fmla="*/ 1056240 w 121932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295280" y="234000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破坏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5448240" y="1197000"/>
            <a:ext cx="3086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琥珀"/>
              </a:rPr>
              <a:t>相互制约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86400" y="2540160"/>
            <a:ext cx="3086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琥珀"/>
              </a:rPr>
              <a:t>相互联系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685800"/>
            <a:ext cx="7925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生活在同一地球上的不同生物之间是相互制约、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相互联系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们必须尊重动物乃至整个生物界中的这种相互关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2286000"/>
            <a:ext cx="23619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了这片课文你明白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6720" y="334800"/>
            <a:ext cx="584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蛇与庄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42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蛇与庄稼 几十年前，广东沿海发生了一次海啸，是台风引起的，许多田地和村庄被海水淹没了。这场洪水过后，那儿的庄稼总得不到好收成，接连几年都是这样，即使风调雨顺，也不见起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后来，老农们想出了一个办法，他们去外地买了一批蛇回来，把蛇放到田里。说也奇怪，那一年庄稼就获得了丰收。大家不明白这是什么道理。老农把秘密说破了，原来那场洪水把深藏在洞里的蛇都给淹死了，田鼠却游到树上和山坡上，保住了性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后来洪水退了，田鼠又回到田里糟蹋庄稼，没有蛇来捕捉它们，它们繁殖得特别快，庄稼都让田鼠给糟蹋了。现在田里又有了蛇，大量的田鼠让蛇给吃掉了，因而庄稼又得到了好收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※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故   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彩云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彩云"/>
              </a:rPr>
              <a:t>希望大家都行动起来，共同保护我们的生态环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765000"/>
            <a:ext cx="554364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狼狈为奸   狼吞虎咽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狼心狗肺  狼子野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24210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鹿是善良的，所以要保护；狼是凶残的，所以要消灭。课文讲的就是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罗斯福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为了保护凯巴伯森林的饿鹿采取了一系列的措施，但结果出乎意料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森林被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48680" y="981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默读课文，说说课文写了一件什么事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0328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预习热身（读准下列字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8428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凯巴伯 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狩猎       雇请        一命呜呼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宠儿    难逃厄运   锐减         苟延残喘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控制    面目全非   罪魁祸首   相悖  乃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22039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自主学习课文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—6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自然段说说“宠儿”的生活如何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鹿图"/>
          <p:cNvPicPr/>
          <p:nvPr/>
        </p:nvPicPr>
        <p:blipFill>
          <a:blip r:embed="rId2"/>
          <a:stretch/>
        </p:blipFill>
        <p:spPr>
          <a:xfrm>
            <a:off x="395280" y="1268280"/>
            <a:ext cx="3816360" cy="360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0720" y="620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得到特别保护的鹿成了凯巴伯森林中的“宠儿”，在这个“自由王国”里，它们自由自在地生长繁育，自由自在地啃食树木，过着没有危险、食物充足的幸福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>
            <a:hlinkClick r:id="rId2" action="ppaction://hlinksldjump"/>
          </p:cNvPr>
          <p:cNvSpPr/>
          <p:nvPr/>
        </p:nvSpPr>
        <p:spPr>
          <a:xfrm>
            <a:off x="8675640" y="6570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1:57:02Z</dcterms:created>
  <dc:creator>USER</dc:creator>
  <dc:description/>
  <cp:keywords/>
  <dc:language>en-US</dc:language>
  <cp:lastModifiedBy>微软用户</cp:lastModifiedBy>
  <cp:lastPrinted>1899-12-30T00:00:00Z</cp:lastPrinted>
  <dcterms:modified xsi:type="dcterms:W3CDTF">2012-10-23T02:51:3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