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gif" ContentType="image/gif"/>
  <Override PartName="/ppt/media/image20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6.png" ContentType="image/png"/>
  <Override PartName="/ppt/media/image31.png" ContentType="image/png"/>
  <Override PartName="/ppt/media/image13.jpeg" ContentType="image/jpeg"/>
  <Override PartName="/ppt/media/image11.gif" ContentType="image/gif"/>
  <Override PartName="/ppt/media/image28.jpeg" ContentType="image/jpeg"/>
  <Override PartName="/ppt/media/image3.gif" ContentType="image/gif"/>
  <Override PartName="/ppt/media/image33.gif" ContentType="image/gif"/>
  <Override PartName="/ppt/media/image8.png" ContentType="image/png"/>
  <Override PartName="/ppt/media/image14.jpeg" ContentType="image/jpeg"/>
  <Override PartName="/ppt/media/image5.gif" ContentType="image/gif"/>
  <Override PartName="/ppt/media/image29.jpeg" ContentType="image/jpeg"/>
  <Override PartName="/ppt/media/image30.png" ContentType="image/png"/>
  <Override PartName="/ppt/media/image34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12.png" ContentType="image/png"/>
  <Override PartName="/ppt/media/image7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6.jpeg" ContentType="image/jpeg"/>
  <Override PartName="/ppt/media/camera.wav" ContentType="audio/x-wav"/>
  <Override PartName="/ppt/media/chimes.wav" ContentType="audio/x-wav"/>
  <Override PartName="/ppt/media/image21.jpeg" ContentType="image/jpeg"/>
  <Override PartName="/ppt/media/image22.png" ContentType="image/png"/>
  <Override PartName="/ppt/media/image24.jpeg" ContentType="image/jpeg"/>
  <Override PartName="/ppt/media/image17.png" ContentType="image/png"/>
  <Override PartName="/ppt/media/image3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432-4009-406C-B280-301F18D3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DD2-C35E-4F03-B6AC-F7F7FD6F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382-5F27-49FC-9963-4181608B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928-7F04-4DEB-B8E9-ADDAD61A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555-B95D-487E-A486-EFBDB595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1FB-9827-4951-87D5-92CFF060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1C9-F4C6-4092-A222-2B24D576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445-BF04-4AC8-A748-7E524A7C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D23-29AB-4DC5-881E-061923C9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3C3-E557-4EB0-8604-21BA3F5A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C8C-C05E-4D56-B613-27EAA846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EC9-E760-4804-9038-8ED286FA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BCB6-43FB-4A9E-A366-504BF541D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2,&#24187;&#28783;&#29255; 2" TargetMode="External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256,1,&#24187;&#28783;&#29255; 1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256,1,&#24187;&#28783;&#29255; 1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256,1,&#24187;&#28783;&#29255; 1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256,1,&#24187;&#28783;&#29255; 1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261,6,&#24187;&#28783;&#29255; 6" TargetMode="External"/><Relationship Id="rId3" Type="http://schemas.openxmlformats.org/officeDocument/2006/relationships/hyperlink" Target="262,7,&#24187;&#28783;&#29255; 7" TargetMode="External"/><Relationship Id="rId4" Type="http://schemas.openxmlformats.org/officeDocument/2006/relationships/hyperlink" Target="263,8,&#24187;&#28783;&#29255; 8" TargetMode="External"/><Relationship Id="rId5" Type="http://schemas.openxmlformats.org/officeDocument/2006/relationships/hyperlink" Target="261,7,&#24187;&#28783;&#29255; 7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hyperlink" Target="260,6,&#24187;&#28783;&#29255; 6" TargetMode="External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260,6,&#24187;&#28783;&#29255; 6" TargetMode="External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264,10,&#24187;&#28783;&#29255; 10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371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01240" y="2708280"/>
            <a:ext cx="115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5445000"/>
            <a:ext cx="16761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  <a:hlinkClick r:id="rId2"/>
              </a:rPr>
              <a:t>下一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84360" y="2276640"/>
            <a:ext cx="482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楷体_GB2312"/>
              </a:rPr>
              <a:t>落花生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0920" y="549360"/>
            <a:ext cx="2401920" cy="2001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39 -0.02959 0.01302 -0.01456 0.02899 -0.04438 C 0.0309 -0.04808 0.03506 -0.04808 0.03784 -0.05039 C 0.04322 -0.05502 0.05329 -0.06519 0.05329 -0.06519 C 0.13263 -0.06056 0.08281 -0.06565 0.11996 -0.05317 C 0.146 -0.01017 0.11631 -0.05594 0.13541 -0.03259 C 0.15399 -0.01017 0.16857 0.01087 0.1934 0.02081 C 0.19791 0.02265 0.21701 0.02612 0.21996 0.02658 C 0.32829 0.02057 0.29027 0.03005 0.33559 0.0178 C 0.35381 -0.00162 0.37586 -0.01526 0.3934 -0.0356 C 0.40243 -0.046 0.40572 -0.05825 0.41545 -0.06796 C 0.41684 -0.07097 0.41788 -0.07466 0.41996 -0.07698 C 0.425 -0.08252 0.43246 -0.07882 0.43767 -0.07698 C 0.44947 -0.07281 0.46041 -0.06634 0.47118 -0.05918 C 0.48385 -0.03375 0.496 -0.01734 0.51788 -0.003 C 0.52534 0.00185 0.53177 0.01133 0.5401 0.01179 C 0.56163 0.01271 0.58298 0.01387 0.60451 0.0148 C 0.79756 -0.00324 0.69062 0.03514 0.74444 -0.01179 C 0.74965 -0.02196 0.75225 -0.03121 0.75781 -0.04138 C 0.7585 -0.04438 0.76006 -0.05039 0.76006 -0.05039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39 -0.02959 0.01302 -0.01456 0.02899 -0.04438 C 0.0309 -0.04808 0.03506 -0.04808 0.03784 -0.05039 C 0.04322 -0.05502 0.05329 -0.06519 0.05329 -0.06519 C 0.13263 -0.06056 0.08281 -0.06565 0.11996 -0.05317 C 0.146 -0.01017 0.11631 -0.05594 0.13541 -0.03259 C 0.15399 -0.01017 0.16857 0.01087 0.1934 0.02081 C 0.19791 0.02265 0.21701 0.02612 0.21996 0.02658 C 0.32829 0.02057 0.29027 0.03005 0.33559 0.0178 C 0.35381 -0.00162 0.37586 -0.01526 0.3934 -0.0356 C 0.40243 -0.046 0.40572 -0.05825 0.41545 -0.06796 C 0.41684 -0.07097 0.41788 -0.07466 0.41996 -0.07698 C 0.425 -0.08252 0.43246 -0.07882 0.43767 -0.07698 C 0.44947 -0.07281 0.46041 -0.06634 0.47118 -0.05918 C 0.48385 -0.03375 0.496 -0.01734 0.51788 -0.003 C 0.52534 0.00185 0.53177 0.01133 0.5401 0.01179 C 0.56163 0.01271 0.58298 0.01387 0.60451 0.0148 C 0.79756 -0.00324 0.69062 0.03514 0.74444 -0.01179 C 0.74965 -0.02196 0.75225 -0.03121 0.75781 -0.04138 C 0.7585 -0.04438 0.76006 -0.05039 0.76006 -0.05039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3399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1125360"/>
            <a:ext cx="86104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具有花生品格的人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工人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农民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教师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警察……各种工作岗位上的普通劳动者，他们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不图虚名，默默奉献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232760" y="0"/>
            <a:ext cx="1911240" cy="2298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7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764720" cy="6932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152280"/>
            <a:ext cx="853416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华文新魏"/>
                <a:ea typeface="华文新魏"/>
              </a:rPr>
              <a:t>总结全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333399"/>
              </a:buClr>
              <a:buFont typeface="华文新魏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课文以谈花生的可贵之处，来说明做人的道理，是什么道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2  </a:t>
            </a:r>
            <a:r>
              <a:rPr b="1" lang="zh-CN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为了突出中心，作者在写作方法上，有什么特点？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1814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借物喻人，主次分明，先写事物外表，再写内在精神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6668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（不图虚名，默默奉献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3040" y="6099120"/>
            <a:ext cx="712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写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8000" y="765000"/>
            <a:ext cx="87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生活中，你还发现了哪些像落花生这样的事物，他们具有哪些做人的道理。比如粉笔粉身碎骨为了学生学得知识。梅（不畏严寒，坚贞不屈）、牛（勤勤恳恳，任劳任怨，默默无闻地为人们无私地奉献着）、搭石……你能找到什么做人的道理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3600" y="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找一找  说一说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631836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14280" y="1454040"/>
            <a:ext cx="8601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374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69228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6278400"/>
            <a:ext cx="1523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  <a:hlinkClick r:id="rId2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0"/>
            <a:ext cx="87566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践写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     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天，我在一堆石头中，发现了一棵幼小的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挺着笔直的身子，沐浴在阳光下，两片叶子像一双小小的手，伸着懒腰，惬意地沐浴在阳光下。那身躯是绿的，却不是墨绿，深绿，而是那种发出一种生命力的绿，似乎一挤，“哧”的一声就会冒出水一样，这种绿，在阳光下被照成了半透明，更增加了它的美丽。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外在的能看到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14280" y="1454040"/>
            <a:ext cx="8601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374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69228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6278400"/>
            <a:ext cx="1523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  <a:hlinkClick r:id="rId2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0"/>
            <a:ext cx="87566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践写作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此时已是晚春，别的草已经长得很深了，而这株小草，却只有几厘米长，这是为什么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奇心促使我扒开岩石一探究竟。我扒开了它周围的石头，却惊呆了，它那瘦小的身躯，在石块下，形成了一条长长的茎一直连到根部冒出的地方。我的心为之而震撼。这是一个多么伟大的生命，对于那些在草坪上茁壮成长的同伴们，它似乎是微不足道的。但是，谁又会知道，它为了那从种子中就萌发出的愿望――沐浴阳光，付出了多大的努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从种子中破出，见到的却只有那无边的黑暗。然而，就是在这一望无际的黑暗中，小草以它那坚定不屈的信念，以普通小草不可做到的方法，在黑暗中寻找着光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执着的意念，在那一片黑暗中，冲破黑暗，找到了属于自己的光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比较，发现，挖掘内在精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14280" y="1454040"/>
            <a:ext cx="8601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374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69228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6278400"/>
            <a:ext cx="1523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  <a:hlinkClick r:id="rId2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8000" y="0"/>
            <a:ext cx="8756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践写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又何尝不是这样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运给我们安排的历程不可能是一帆风顺的，但是在面对困难时，我们又应该怎样做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一点，大家都应该明白了，因为，小草那艰辛的成长历程，已经为我的问题做出了最好的回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升华做人的道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916280"/>
            <a:ext cx="853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2c02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体会父亲所说的话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从中学会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华文新魏"/>
              </a:rPr>
              <a:t>要做对别人有用的人，不要做只讲体面而对别人没有好处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02c6"/>
                </a:solidFill>
                <a:latin typeface="Arial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理解课文内容，学习花生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华文新魏"/>
              </a:rPr>
              <a:t>不求虚名，默默奉献</a:t>
            </a:r>
            <a:r>
              <a:rPr b="1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的品格</a:t>
            </a:r>
            <a:r>
              <a:rPr b="1" lang="en-US" sz="3600" spc="-1" strike="noStrike">
                <a:solidFill>
                  <a:srgbClr val="2c02c6"/>
                </a:solidFill>
                <a:latin typeface="Arial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836640"/>
            <a:ext cx="37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695240" cy="222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5302080"/>
            <a:ext cx="86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学习借物喻人的写法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：先写表面现象，再写内在精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4280" y="1454040"/>
            <a:ext cx="8601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374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69228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6278400"/>
            <a:ext cx="1523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  <a:hlinkClick r:id="rId2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000" y="0"/>
            <a:ext cx="8756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尝试练习习作：把今天课堂上从一般事物身上发现的人生道理变成你们文字，然后在班级展示板上与大家分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 rot="5400000">
            <a:off x="5003640" y="3068280"/>
            <a:ext cx="3313080" cy="86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7000"/>
                    </a:srgbClr>
                  </a:outerShdw>
                </a:effectLst>
                <a:latin typeface="宋体"/>
              </a:rPr>
              <a:t>谢谢欣赏</a:t>
            </a:r>
            <a:endParaRPr b="0" lang="en-US" sz="24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63960" y="77472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rot="16450200">
            <a:off x="5267880" y="1724040"/>
            <a:ext cx="2590920" cy="2399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rot="16450200">
            <a:off x="659520" y="2012040"/>
            <a:ext cx="2590560" cy="239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 rot="4010400">
            <a:off x="3699720" y="-466560"/>
            <a:ext cx="2338560" cy="109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 rot="20464200">
            <a:off x="611280" y="4797000"/>
            <a:ext cx="2590560" cy="2398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 rot="20464200">
            <a:off x="395280" y="764640"/>
            <a:ext cx="2590920" cy="2399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12536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分小组细读全文，讨论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276640"/>
            <a:ext cx="8675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找一找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：我们兄弟姐妹是怎样评论花生的？父亲又是怎样说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一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：父亲拿什么来与花生进行对比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议一议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：父亲通过花生告诉了我们什么道理呢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60"/>
                            </p:stCondLst>
                            <p:childTnLst>
                              <p:par>
                                <p:cTn id="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43200" y="533520"/>
            <a:ext cx="481644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1676520"/>
            <a:ext cx="2209680" cy="1447560"/>
          </a:xfrm>
          <a:prstGeom prst="wedgeEllipseCallout">
            <a:avLst>
              <a:gd name="adj1" fmla="val 114800"/>
              <a:gd name="adj2" fmla="val 75768"/>
            </a:avLst>
          </a:prstGeom>
          <a:solidFill>
            <a:srgbClr val="ff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味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4114800"/>
            <a:ext cx="2057400" cy="1143000"/>
          </a:xfrm>
          <a:prstGeom prst="wedgeEllipseCallout">
            <a:avLst>
              <a:gd name="adj1" fmla="val -75925"/>
              <a:gd name="adj2" fmla="val -2527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可以榨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91120"/>
            <a:ext cx="3200400" cy="1981080"/>
          </a:xfrm>
          <a:prstGeom prst="wedgeEllipseCallout">
            <a:avLst>
              <a:gd name="adj1" fmla="val 48861"/>
              <a:gd name="adj2" fmla="val -27962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价钱便宜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都可以买来吃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都喜欢吃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这就是它的好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304920"/>
            <a:ext cx="3276720" cy="1523880"/>
          </a:xfrm>
          <a:prstGeom prst="wedgeEllipseCallout">
            <a:avLst>
              <a:gd name="adj1" fmla="val -35175"/>
              <a:gd name="adj2" fmla="val 78023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能把花生的好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说出来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24000" y="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92360" y="382680"/>
            <a:ext cx="670536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华文宋体"/>
                <a:ea typeface="华文宋体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花生的好处很多，有一样最可贵，它的果实埋在地里，不像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华文宋体"/>
                <a:ea typeface="华文宋体"/>
                <a:hlinkClick r:id="rId2"/>
              </a:rPr>
              <a:t>桃子、石榴、苹果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那样，把</a:t>
            </a:r>
            <a:r>
              <a:rPr b="1" lang="zh-CN" sz="4000" spc="-1" strike="noStrike">
                <a:solidFill>
                  <a:srgbClr val="ff3300"/>
                </a:solidFill>
                <a:latin typeface="华文宋体"/>
                <a:ea typeface="华文宋体"/>
              </a:rPr>
              <a:t>鲜红</a:t>
            </a:r>
            <a:r>
              <a:rPr b="1" lang="zh-CN" sz="4000" spc="-1" strike="noStrike">
                <a:solidFill>
                  <a:srgbClr val="00ff00"/>
                </a:solidFill>
                <a:latin typeface="华文宋体"/>
                <a:ea typeface="华文宋体"/>
              </a:rPr>
              <a:t>嫩绿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的果实高高地挂在枝头上，使人一见就生爱慕之心。你们看它</a:t>
            </a:r>
            <a:r>
              <a:rPr b="1" lang="zh-CN" sz="4000" spc="-1" strike="noStrike">
                <a:solidFill>
                  <a:srgbClr val="99cc00"/>
                </a:solidFill>
                <a:latin typeface="华文宋体"/>
                <a:ea typeface="华文宋体"/>
              </a:rPr>
              <a:t>矮矮地</a:t>
            </a:r>
            <a:r>
              <a:rPr b="1" lang="zh-CN" sz="4000" spc="-1" strike="noStrike">
                <a:solidFill>
                  <a:srgbClr val="3333ff"/>
                </a:solidFill>
                <a:latin typeface="华文宋体"/>
                <a:ea typeface="华文宋体"/>
              </a:rPr>
              <a:t>长在地上，等到成熟了，也不能立刻分辨出来它有没不果实，必须挖出来才知道</a:t>
            </a:r>
            <a:r>
              <a:rPr b="1" lang="en-US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3080" y="380880"/>
            <a:ext cx="549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78480" y="304920"/>
            <a:ext cx="14817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第一次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第二次     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4"/>
              </a:rPr>
              <a:t>第三次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父亲的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6278400"/>
            <a:ext cx="1371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  <a:hlinkClick r:id="rId5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95280" y="1752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19720" y="533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24280" y="7632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08000" y="3284640"/>
            <a:ext cx="457200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791320" y="4191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943600" y="3276720"/>
            <a:ext cx="32004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001000" y="6400800"/>
            <a:ext cx="1447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  <a:hlinkClick r:id="rId5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1960" y="219240"/>
            <a:ext cx="15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到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1080" y="260280"/>
            <a:ext cx="19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  <p:sndAc>
      <p:stSnd>
        <p:snd r:embed="rId6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所以你们要像花生，它虽然不好看，可是很有用，不是外表好看而没有实用的东西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4419360" cy="315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105520" y="3657600"/>
            <a:ext cx="3962160" cy="3124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6278400"/>
            <a:ext cx="106668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  <a:hlinkClick r:id="rId4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  <p:sndAc>
      <p:stSnd>
        <p:snd r:embed="rId5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765600" cy="5676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4600" y="5638680"/>
            <a:ext cx="106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对，这是我对你们的希望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248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华文行楷"/>
                <a:hlinkClick r:id="rId2"/>
              </a:rPr>
              <a:t>含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1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3657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119700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楷体_GB2312"/>
              </a:rPr>
              <a:t>含义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242100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人要做有用的人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不要做只讲体面而对别人没有好处的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4:42:48Z</dcterms:created>
  <dc:creator>Administrator</dc:creator>
  <dc:description/>
  <dc:language>en-US</dc:language>
  <cp:lastModifiedBy>fwy</cp:lastModifiedBy>
  <dcterms:modified xsi:type="dcterms:W3CDTF">2015-10-19T01:29:26Z</dcterms:modified>
  <cp:revision>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