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8CC-B21A-4CB8-92C2-5854BB0D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5B1-D00F-4A27-BFD8-BFAD6D1A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292-87E6-4FBA-B3F9-2CF440DE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218-600C-4435-A533-AE14E512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D67-5233-412E-B6C9-5ECA45E8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EC7-F17D-453A-9684-3F22019B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119-4A03-4C24-BE24-42F246A1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FBE-7FFD-4312-ADEA-A4E3047F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36E-502A-482E-9DAB-F7B4CAB7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55F-0E9D-4D85-8486-95318D32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64F-40BA-4213-9DF3-F429DBE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E2B-7E1B-4B29-9810-95E2C4A4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CFF1-0B90-4C6C-BB08-8C215684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377" t="3826" r="0" b="0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37040" y="1989000"/>
            <a:ext cx="16434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落花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33336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2808360" cy="3851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692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姐弟几个都很高兴，买种，翻地，施肥，浇水，没过几个月，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居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收获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过了几个月，</a:t>
            </a:r>
            <a:r>
              <a:rPr b="1" lang="zh-CN" sz="4000" spc="-1" strike="noStrike" u="sng">
                <a:solidFill>
                  <a:srgbClr val="cc3399"/>
                </a:solidFill>
                <a:uFillTx/>
                <a:latin typeface="Arial"/>
              </a:rPr>
              <a:t>居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收获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居然”是什么意思？写出了什么？在这里起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2808360" cy="385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692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姐弟几个都很高兴，买种，翻地，施肥，浇水，没过几个月，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居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收获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276720" y="4292640"/>
            <a:ext cx="5587920" cy="1917720"/>
            <a:chOff x="3276720" y="4292640"/>
            <a:chExt cx="5587920" cy="1917720"/>
          </a:xfrm>
        </p:grpSpPr>
        <p:sp>
          <p:nvSpPr>
            <p:cNvPr id="86" name=""/>
            <p:cNvSpPr/>
            <p:nvPr/>
          </p:nvSpPr>
          <p:spPr>
            <a:xfrm>
              <a:off x="3276720" y="4292640"/>
              <a:ext cx="5587920" cy="1917720"/>
            </a:xfrm>
            <a:prstGeom prst="wedgeEllipseCallout">
              <a:avLst>
                <a:gd name="adj1" fmla="val -4092"/>
                <a:gd name="adj2" fmla="val -9383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27520" y="4498920"/>
              <a:ext cx="451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写出了种花生的结果，也写出了获得收获时大家出乎意料的高兴心情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686560" y="29973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示出乎意料；竟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课文，一边读一边想，他们是怎样过收获节的？先干什么？后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06864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吃花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3500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3068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谈花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3860640"/>
            <a:ext cx="17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371628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-1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亲说：“今晚我们过一个收获节，请你们新的父亲也来尝尝我们的新花生，好不好？”母亲把花生做成了好几样食品，还吩咐就在后园的茅亭里过这个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晚上天色不太好。可是父亲也来了，实在很难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2565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好几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0360" y="2565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吩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443700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很难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5084640"/>
            <a:ext cx="20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重视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几个人谈话？他们都谈了些什么？孩子们认为花生的好处是什么？用          圈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父亲认为花生最可贵之处是什么？用          画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3068640"/>
            <a:ext cx="865440" cy="5032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5013360"/>
            <a:ext cx="1297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1628640"/>
            <a:ext cx="2354400" cy="1447920"/>
          </a:xfrm>
          <a:prstGeom prst="wedgeEllipseCallout">
            <a:avLst>
              <a:gd name="adj1" fmla="val 85467"/>
              <a:gd name="adj2" fmla="val 72259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味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0"/>
            <a:ext cx="3492360" cy="1857240"/>
          </a:xfrm>
          <a:prstGeom prst="wedgeEllipseCallout">
            <a:avLst>
              <a:gd name="adj1" fmla="val -44092"/>
              <a:gd name="adj2" fmla="val 40685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谁能把花生的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说出来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76920"/>
            <a:ext cx="3200400" cy="1981080"/>
          </a:xfrm>
          <a:prstGeom prst="wedgeEllipseCallout">
            <a:avLst>
              <a:gd name="adj1" fmla="val 60365"/>
              <a:gd name="adj2" fmla="val -10013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都喜欢吃。这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是它的好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1113400">
            <a:off x="6948000" y="2707920"/>
            <a:ext cx="2057400" cy="1684440"/>
          </a:xfrm>
          <a:prstGeom prst="wedgeEllipseCallout">
            <a:avLst>
              <a:gd name="adj1" fmla="val -82194"/>
              <a:gd name="adj2" fmla="val 25458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可以榨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100360" y="5877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260280"/>
            <a:ext cx="8424720" cy="50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：“你们爱吃花生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”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都争着答应：“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”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谁能把花生的好处说出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”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姐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：“花生的气味很美。”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哥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：“花生可以榨油。”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：“花生的价钱便宜，谁都可以买来吃，都喜欢吃它。这就是它的好处。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0"/>
            <a:ext cx="8353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“花生的好处很多；有一样是很可贵的：它的果实埋在地里，不像桃子、石榴、苹果那样，把鲜红嫩绿的果实高高地挂在枝头上，使人一见就生爱慕之心。你们它矮矮地长在地上，等到成熟了，也不能立刻分辨出来它有没有果实，必须挖起来才知道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下去说：“所以你们要像花生，它虽然不好看，可是很有用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“那么，人要做有用的人，不要做只讲体面 而对别人没有好处的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“对。这是我对你们的希望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441360"/>
            <a:ext cx="8569080" cy="5943240"/>
          </a:xfrm>
          <a:prstGeom prst="rect">
            <a:avLst/>
          </a:prstGeom>
          <a:solidFill>
            <a:srgbClr val="ff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花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好处很多，有一样最可贵：它的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实埋在地里，不像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桃子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石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苹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那样，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鲜红嫩绿的果实高高地挂在枝头，使人一见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生爱慕之心。你们看它矮矮地长在地上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等到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熟了，也不能立刻分辩出它有没有果实，必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挖起来才知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57800" y="990720"/>
            <a:ext cx="37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幼圆"/>
              </a:rPr>
              <a:t>花生又叫落花生，因为花生的花落了，子房柄就钻到土里长成花生，所以又叫落花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377" t="3826" r="0" b="0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7451640" y="573408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9280" y="115920"/>
            <a:ext cx="4343400" cy="320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79280" y="3476520"/>
            <a:ext cx="4321440" cy="3265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14165" t="12835" r="11803" b="15354"/>
          <a:stretch/>
        </p:blipFill>
        <p:spPr>
          <a:xfrm>
            <a:off x="4716360" y="11592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rcRect l="11046" t="43709" r="0" b="3795"/>
          <a:stretch/>
        </p:blipFill>
        <p:spPr>
          <a:xfrm>
            <a:off x="4788000" y="3476520"/>
            <a:ext cx="4066920" cy="3240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H="1">
            <a:off x="8171640" y="5877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95280" y="1557360"/>
          <a:ext cx="8137440" cy="4530600"/>
        </p:xfrm>
        <a:graphic>
          <a:graphicData uri="http://schemas.openxmlformats.org/drawingml/2006/table">
            <a:tbl>
              <a:tblPr/>
              <a:tblGrid>
                <a:gridCol w="1668600"/>
                <a:gridCol w="2138400"/>
                <a:gridCol w="4330440"/>
              </a:tblGrid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花生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桃﹑石榴﹑苹果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位置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外表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印象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95280" y="1341360"/>
          <a:ext cx="8229600" cy="4525920"/>
        </p:xfrm>
        <a:graphic>
          <a:graphicData uri="http://schemas.openxmlformats.org/drawingml/2006/table">
            <a:tbl>
              <a:tblPr/>
              <a:tblGrid>
                <a:gridCol w="1295280"/>
                <a:gridCol w="2971800"/>
                <a:gridCol w="3962520"/>
              </a:tblGrid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花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桃﹑石榴﹑苹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埋在地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高高地挂在枝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矮矮地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鲜红嫩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印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挖起来才知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一见就生爱慕之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55640" y="1197000"/>
            <a:ext cx="807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所以你们要像花生，它虽然不好看，可是很有用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419360" cy="2508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962160" cy="2508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172360" y="621036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26920" y="1844640"/>
            <a:ext cx="758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要做有用的人，不要做只讲体面而对别人没有好处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27640" y="3716280"/>
            <a:ext cx="2073240" cy="2843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一夜我们谈到深夜才散。花生做的食品都吃完了，父亲的话却深深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我的心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737080" cy="3058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H="1">
            <a:off x="8100360" y="580536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0859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5076720" y="260280"/>
            <a:ext cx="3670200" cy="2875680"/>
            <a:chOff x="5076720" y="260280"/>
            <a:chExt cx="3670200" cy="28756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076720" y="260280"/>
              <a:ext cx="28292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211600" y="260280"/>
              <a:ext cx="535320" cy="28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形成子房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809880" y="685800"/>
            <a:ext cx="533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开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3048120"/>
            <a:ext cx="3962520" cy="3580560"/>
            <a:chOff x="457200" y="3048120"/>
            <a:chExt cx="3962520" cy="3580560"/>
          </a:xfrm>
        </p:grpSpPr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457200" y="3200040"/>
              <a:ext cx="304956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809880" y="3048120"/>
              <a:ext cx="609840" cy="24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子房柄钻入土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76720" y="3213000"/>
            <a:ext cx="3657600" cy="3429000"/>
            <a:chOff x="5076720" y="3213000"/>
            <a:chExt cx="3657600" cy="342900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5076720" y="3213000"/>
              <a:ext cx="28195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200800" y="3666960"/>
              <a:ext cx="533520" cy="24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形成果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600200"/>
            <a:ext cx="78487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0" y="2349360"/>
            <a:ext cx="453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父亲的话却深深地印在我心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父亲的话却深深地记在我心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63700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83360" y="3141720"/>
            <a:ext cx="152280" cy="22860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2720" y="4508640"/>
            <a:ext cx="152280" cy="22860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73332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比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4360" y="476280"/>
            <a:ext cx="81356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印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”：牢牢记住终生不忘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记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”：把事物保持在头脑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724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如：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整齐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”和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非常整齐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292428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（程度不一样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8360" y="19162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在我们周围也有许多像落花生一样的人和事，让我们懂得人要做有用的人的深刻道理。您能举出例子来说一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7333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429264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选择身边一种事物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：貌不惊人的铅笔、橡皮，默默无闻的环卫工人，风里来雨里去的邮递员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1515960"/>
            <a:ext cx="799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辩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当今的社会你想做一个像桃子、石榴、苹果一样的人呢，还是做一个像花生一样的人呢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622920" y="3789360"/>
            <a:ext cx="2125800" cy="2914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8317080" y="59500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1844640"/>
            <a:ext cx="758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要做有用的人，不要做只讲体面而对别人没有好处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0000" y="3284640"/>
            <a:ext cx="3168720" cy="3419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7811280" y="5661000"/>
            <a:ext cx="576360" cy="72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2138040"/>
            <a:ext cx="828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地山生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9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―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。在抗战中，他积劳成疾，导致心脏病逐渐严重。天不假年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他心脏病再次复发，英年早逝，年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噩耗传出，第一个送来花圈的是宋庆龄。梅兰芳、叶恭绰、郁达夫、徐悲鸿等许多知名人士送了花圈、挽联。当天，香港学校下半旗，港九钟楼鸣钟致哀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香港文化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个团体近千名代表举行“许地山先生追悼大会”。国内及新加坡等地也都隆重集会，痛悼这位新文学运动的先驱者、爱国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907920"/>
            <a:ext cx="8496360" cy="54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半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mǔ)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开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pì)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吩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fēn fù)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zhà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油      石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liu)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便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pián yi)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爱慕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mù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)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居然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我会认读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692280"/>
            <a:ext cx="871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半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亩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开辟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吩咐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石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榴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便宜    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尝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茅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嫩绿    居然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分辨   爱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体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2133720"/>
            <a:ext cx="882000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朗读课文，想想 课文围绕花生讲了哪些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种花生      （            ）     （            ）     （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3860640"/>
            <a:ext cx="5032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3500280"/>
            <a:ext cx="14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收花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3933720"/>
            <a:ext cx="5032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43640" y="3860640"/>
            <a:ext cx="5032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3573360"/>
            <a:ext cx="14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尝花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357336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议花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73332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377" t="3826" r="0" b="0"/>
          <a:stretch/>
        </p:blipFill>
        <p:spPr>
          <a:xfrm>
            <a:off x="-541440" y="0"/>
            <a:ext cx="6228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300720" y="907920"/>
            <a:ext cx="26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落花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6000" y="1844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88000" y="3141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议论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中心事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6e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第一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中哪些词语写种花生的经过？这些词语能颠倒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买种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翻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,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播种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,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浇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这些词语是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按种花生的顺序排列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，不能颠倒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836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1:01:34Z</dcterms:created>
  <dc:creator>雨林木风</dc:creator>
  <dc:description/>
  <dc:language>en-US</dc:language>
  <cp:lastModifiedBy>MC SYSTEM</cp:lastModifiedBy>
  <dcterms:modified xsi:type="dcterms:W3CDTF">2015-10-19T01:48:57Z</dcterms:modified>
  <cp:revision>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