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057-8495-45E0-AE81-A650E732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D0F-1061-4572-9223-0DBB3E08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158-48C2-4928-A99E-42A7C282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9BB-DEEA-44E8-9195-702F5AF5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1DA9-050E-456F-8985-8986465B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4628-2963-4A3B-A2B2-C2EDCD16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D399-F117-48B9-85F9-2725A943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8F7C-3E2B-4B5E-9BEA-599D1057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2773-B125-4C5B-857D-39DCBC69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A235-7BEC-49FF-B702-686EC179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175C-B6B0-4A87-9A65-B3E1B10E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79C-DB08-4DD7-8EB9-1A4D11A8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2D46-967F-4B26-ABE4-497DDBE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75AF-5177-4145-AA73-2F53EF22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938D-2C32-4CCE-BCCB-E7648F19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7D44-0B8A-4A0C-87BF-4AA913DB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F8F4-7B73-401F-B9C4-DF328777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5A9-CD08-45A5-A406-CF8DCDE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472-1FA9-4E1F-A398-FC731377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36B-01E3-4474-B0F3-471E7C5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D2A-78F3-44A5-8BAA-1B37764A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C19-2EA5-4193-9380-5194071A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C2D-CDDA-4085-9828-042E220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CFF-3F9A-4349-AF21-E799979B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6933-BD1D-44EF-9C62-CF171DE01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7720-A457-40DC-A8FE-056D44629F1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52480" y="1295280"/>
            <a:ext cx="609624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水柱简体"/>
              </a:rPr>
              <a:t>拿来主义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水柱简体"/>
              <a:ea typeface="方正水柱简体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8862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方正姚体简体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方正姚体简体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4419720"/>
            <a:ext cx="1219320" cy="0"/>
          </a:xfrm>
          <a:prstGeom prst="line">
            <a:avLst/>
          </a:prstGeom>
          <a:ln w="381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867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5181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9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9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dzz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80880" y="228600"/>
            <a:ext cx="1143000" cy="60948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28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水柱简体"/>
                <a:ea typeface="方正水柱简体"/>
              </a:rPr>
              <a:t>问题</a:t>
            </a:r>
            <a:r>
              <a:rPr b="1" lang="en-US" sz="3600" spc="-1" strike="noStrike">
                <a:solidFill>
                  <a:srgbClr val="ff0000"/>
                </a:solidFill>
                <a:latin typeface="方正水柱简体"/>
                <a:ea typeface="方正水柱简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方正水柱简体"/>
                <a:ea typeface="方正水柱简体"/>
              </a:rPr>
              <a:t>２</a:t>
            </a:r>
            <a:r>
              <a:rPr b="1" lang="en-US" sz="3600" spc="-1" strike="noStrike">
                <a:solidFill>
                  <a:srgbClr val="ff0000"/>
                </a:solidFill>
                <a:latin typeface="方正水柱简体"/>
                <a:ea typeface="方正水柱简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6858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方正舒体简体"/>
                <a:ea typeface="方正舒体简体"/>
              </a:rPr>
              <a:t>★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“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大宅子”比喻什么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对待文化遗产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,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文章一共列举了几种态度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是怎样说理的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43000" y="4038480"/>
            <a:ext cx="2590920" cy="1295280"/>
            <a:chOff x="1143000" y="4038480"/>
            <a:chExt cx="2590920" cy="1295280"/>
          </a:xfrm>
        </p:grpSpPr>
        <p:sp>
          <p:nvSpPr>
            <p:cNvPr id="151" name=""/>
            <p:cNvSpPr/>
            <p:nvPr/>
          </p:nvSpPr>
          <p:spPr>
            <a:xfrm>
              <a:off x="1143000" y="403848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大 宅 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1080" y="472428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38080" y="5181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文 化 遗 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1981080"/>
            <a:ext cx="1981080" cy="609840"/>
          </a:xfrm>
          <a:prstGeom prst="wedgeEllipseCallout">
            <a:avLst>
              <a:gd name="adj1" fmla="val -60898"/>
              <a:gd name="adj2" fmla="val 94273"/>
            </a:avLst>
          </a:prstGeom>
          <a:gradFill rotWithShape="0">
            <a:gsLst>
              <a:gs pos="0">
                <a:srgbClr val="cccc00"/>
              </a:gs>
              <a:gs pos="50000">
                <a:srgbClr val="fefefe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不敢进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43400" y="3505320"/>
            <a:ext cx="1828800" cy="838080"/>
            <a:chOff x="4343400" y="3505320"/>
            <a:chExt cx="1828800" cy="838080"/>
          </a:xfrm>
        </p:grpSpPr>
        <p:sp>
          <p:nvSpPr>
            <p:cNvPr id="156" name=""/>
            <p:cNvSpPr/>
            <p:nvPr/>
          </p:nvSpPr>
          <p:spPr>
            <a:xfrm>
              <a:off x="4343400" y="3505320"/>
              <a:ext cx="1600200" cy="838080"/>
            </a:xfrm>
            <a:prstGeom prst="cloudCallout">
              <a:avLst>
                <a:gd name="adj1" fmla="val -82736"/>
                <a:gd name="adj2" fmla="val -9128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19720" y="3733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接受一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419720" y="2819520"/>
            <a:ext cx="1523880" cy="533160"/>
          </a:xfrm>
          <a:prstGeom prst="wedgeRectCallout">
            <a:avLst>
              <a:gd name="adj1" fmla="val -79166"/>
              <a:gd name="adj2" fmla="val 4763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放火烧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648320"/>
            <a:ext cx="1295280" cy="457200"/>
          </a:xfrm>
          <a:prstGeom prst="wedgeRoundRectCallout">
            <a:avLst>
              <a:gd name="adj1" fmla="val -93504"/>
              <a:gd name="adj2" fmla="val -150000"/>
              <a:gd name="adj3" fmla="val 16667"/>
            </a:avLst>
          </a:prstGeom>
          <a:gradFill rotWithShape="0">
            <a:gsLst>
              <a:gs pos="0">
                <a:srgbClr val="0066ff"/>
              </a:gs>
              <a:gs pos="50000">
                <a:srgbClr val="fefefe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拿来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形象的比喻论证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,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继承“大宅子”即继承“文化遗产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95880" y="1981080"/>
            <a:ext cx="2666880" cy="609480"/>
            <a:chOff x="6095880" y="1981080"/>
            <a:chExt cx="2666880" cy="609480"/>
          </a:xfrm>
        </p:grpSpPr>
        <p:sp>
          <p:nvSpPr>
            <p:cNvPr id="162" name=""/>
            <p:cNvSpPr/>
            <p:nvPr/>
          </p:nvSpPr>
          <p:spPr>
            <a:xfrm>
              <a:off x="6095880" y="2057400"/>
              <a:ext cx="2438280" cy="533160"/>
            </a:xfrm>
            <a:prstGeom prst="leftArrowCallout">
              <a:avLst>
                <a:gd name="adj1" fmla="val 22030"/>
                <a:gd name="adj2" fmla="val 25000"/>
                <a:gd name="adj3" fmla="val 72939"/>
                <a:gd name="adj4" fmla="val 75725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efefe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05360" y="19810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ff"/>
                  </a:solidFill>
                  <a:latin typeface="Times New Roman"/>
                  <a:ea typeface="隶书"/>
                </a:rPr>
                <a:t>逃避害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5880" y="2743200"/>
            <a:ext cx="2666880" cy="609480"/>
            <a:chOff x="6095880" y="2743200"/>
            <a:chExt cx="2666880" cy="609480"/>
          </a:xfrm>
        </p:grpSpPr>
        <p:sp>
          <p:nvSpPr>
            <p:cNvPr id="165" name=""/>
            <p:cNvSpPr/>
            <p:nvPr/>
          </p:nvSpPr>
          <p:spPr>
            <a:xfrm>
              <a:off x="6095880" y="2819520"/>
              <a:ext cx="2438280" cy="533160"/>
            </a:xfrm>
            <a:prstGeom prst="leftArrowCallout">
              <a:avLst>
                <a:gd name="adj1" fmla="val 22030"/>
                <a:gd name="adj2" fmla="val 25000"/>
                <a:gd name="adj3" fmla="val 72939"/>
                <a:gd name="adj4" fmla="val 75725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efefe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05360" y="27432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ff"/>
                  </a:solidFill>
                  <a:latin typeface="Times New Roman"/>
                  <a:ea typeface="隶书"/>
                </a:rPr>
                <a:t>全盘否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095880" y="4572000"/>
            <a:ext cx="2666880" cy="609480"/>
            <a:chOff x="6095880" y="4572000"/>
            <a:chExt cx="2666880" cy="609480"/>
          </a:xfrm>
        </p:grpSpPr>
        <p:sp>
          <p:nvSpPr>
            <p:cNvPr id="168" name=""/>
            <p:cNvSpPr/>
            <p:nvPr/>
          </p:nvSpPr>
          <p:spPr>
            <a:xfrm>
              <a:off x="6095880" y="4648320"/>
              <a:ext cx="2438280" cy="533160"/>
            </a:xfrm>
            <a:prstGeom prst="leftArrowCallout">
              <a:avLst>
                <a:gd name="adj1" fmla="val 22030"/>
                <a:gd name="adj2" fmla="val 25000"/>
                <a:gd name="adj3" fmla="val 72939"/>
                <a:gd name="adj4" fmla="val 75725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efefe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5360" y="457200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ff"/>
                  </a:solidFill>
                  <a:latin typeface="Times New Roman"/>
                  <a:ea typeface="隶书"/>
                </a:rPr>
                <a:t>辩证吸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019920" y="3581280"/>
            <a:ext cx="2666880" cy="609480"/>
            <a:chOff x="6019920" y="3581280"/>
            <a:chExt cx="2666880" cy="609480"/>
          </a:xfrm>
        </p:grpSpPr>
        <p:sp>
          <p:nvSpPr>
            <p:cNvPr id="171" name=""/>
            <p:cNvSpPr/>
            <p:nvPr/>
          </p:nvSpPr>
          <p:spPr>
            <a:xfrm>
              <a:off x="6019920" y="3657600"/>
              <a:ext cx="2438280" cy="533160"/>
            </a:xfrm>
            <a:prstGeom prst="leftArrowCallout">
              <a:avLst>
                <a:gd name="adj1" fmla="val 22030"/>
                <a:gd name="adj2" fmla="val 25000"/>
                <a:gd name="adj3" fmla="val 72939"/>
                <a:gd name="adj4" fmla="val 75725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fefefe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3581280"/>
              <a:ext cx="205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ff"/>
                  </a:solidFill>
                  <a:latin typeface="Times New Roman"/>
                  <a:ea typeface="隶书"/>
                </a:rPr>
                <a:t>全盘肯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9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9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79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79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79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79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79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79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79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79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79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79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譬如——比喻论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宅子：文化遗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比喻论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1904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孱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懦弱无能、害怕继承、拒绝鉴赏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逃避主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4520" y="4343400"/>
          <a:ext cx="15703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4520" y="4343400"/>
                    <a:ext cx="15703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16200000">
            <a:off x="2781360" y="2781000"/>
            <a:ext cx="3429000" cy="2590920"/>
          </a:xfrm>
          <a:prstGeom prst="flowChartDelay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243828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4114800"/>
            <a:ext cx="76320" cy="76320"/>
          </a:xfrm>
          <a:prstGeom prst="octagon">
            <a:avLst>
              <a:gd name="adj" fmla="val 29287"/>
            </a:avLst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4114800"/>
            <a:ext cx="76320" cy="7632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比喻论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1981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昏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不分好坏、盲目排斥、全盘否定（虚无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81480" y="2819520"/>
          <a:ext cx="2872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19520"/>
                    <a:ext cx="2872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 rot="16229400">
            <a:off x="5866920" y="2971800"/>
            <a:ext cx="3353040" cy="2286000"/>
          </a:xfrm>
          <a:prstGeom prst="flowChartDelay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2438280"/>
            <a:ext cx="0" cy="3353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4191120"/>
            <a:ext cx="152280" cy="15228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191120"/>
            <a:ext cx="152280" cy="152280"/>
          </a:xfrm>
          <a:prstGeom prst="ellipse">
            <a:avLst/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267080" y="3429000"/>
          <a:ext cx="862200" cy="196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429000"/>
                    <a:ext cx="86220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7086600" y="3657600"/>
            <a:ext cx="914400" cy="685800"/>
          </a:xfrm>
          <a:prstGeom prst="irregularSeal2">
            <a:avLst/>
          </a:prstGeom>
          <a:solidFill>
            <a:srgbClr val="e9e2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2971800"/>
            <a:ext cx="685800" cy="838080"/>
          </a:xfrm>
          <a:prstGeom prst="irregularSeal1">
            <a:avLst/>
          </a:prstGeom>
          <a:solidFill>
            <a:srgbClr val="e9e2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9464600">
            <a:off x="3581280" y="2557080"/>
            <a:ext cx="1024200" cy="835200"/>
          </a:xfrm>
          <a:prstGeom prst="wedgeRoundRectCallout">
            <a:avLst>
              <a:gd name="adj1" fmla="val 19328"/>
              <a:gd name="adj2" fmla="val 83953"/>
              <a:gd name="adj3" fmla="val 16667"/>
            </a:avLst>
          </a:prstGeom>
          <a:solidFill>
            <a:srgbClr val="e9e2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哈哈哈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比喻论证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1981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废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崇洋媚外全盘西化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投降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78600" y="4495680"/>
            <a:ext cx="745920" cy="1298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rot="16200000">
            <a:off x="4267080" y="2057040"/>
            <a:ext cx="3962520" cy="4267080"/>
          </a:xfrm>
          <a:prstGeom prst="flowChartDelay">
            <a:avLst/>
          </a:prstGeom>
          <a:solidFill>
            <a:srgbClr val="f7f5c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1143000" cy="1571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086600" y="3429000"/>
            <a:ext cx="609480" cy="304920"/>
          </a:xfrm>
          <a:prstGeom prst="cloudCallout">
            <a:avLst>
              <a:gd name="adj1" fmla="val -40625"/>
              <a:gd name="adj2" fmla="val 90106"/>
            </a:avLst>
          </a:prstGeom>
          <a:solidFill>
            <a:srgbClr val="727de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95880" y="3962160"/>
            <a:ext cx="76212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172200" y="4038480"/>
            <a:ext cx="76212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095880" y="4038480"/>
            <a:ext cx="76212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172200" y="3962160"/>
            <a:ext cx="76212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4495680"/>
            <a:ext cx="22860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3962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248520" y="4495680"/>
            <a:ext cx="0" cy="763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8244800">
            <a:off x="4838760" y="3238560"/>
            <a:ext cx="1371600" cy="990720"/>
          </a:xfrm>
          <a:prstGeom prst="wedgeEllipseCallout">
            <a:avLst>
              <a:gd name="adj1" fmla="val -44444"/>
              <a:gd name="adj2" fmla="val 60736"/>
            </a:avLst>
          </a:prstGeom>
          <a:solidFill>
            <a:srgbClr val="e9e2b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太棒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dzz" descr=""/>
          <p:cNvPicPr/>
          <p:nvPr/>
        </p:nvPicPr>
        <p:blipFill>
          <a:blip r:embed="rId1"/>
          <a:stretch/>
        </p:blipFill>
        <p:spPr>
          <a:xfrm>
            <a:off x="0" y="2209680"/>
            <a:ext cx="73915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273240" y="457200"/>
            <a:ext cx="1098360" cy="1676520"/>
            <a:chOff x="273240" y="457200"/>
            <a:chExt cx="1098360" cy="1676520"/>
          </a:xfrm>
        </p:grpSpPr>
        <p:sp>
          <p:nvSpPr>
            <p:cNvPr id="212" name=""/>
            <p:cNvSpPr/>
            <p:nvPr/>
          </p:nvSpPr>
          <p:spPr>
            <a:xfrm>
              <a:off x="533520" y="457200"/>
              <a:ext cx="838080" cy="1676520"/>
            </a:xfrm>
            <a:prstGeom prst="verticalScroll">
              <a:avLst>
                <a:gd name="adj" fmla="val 13944"/>
              </a:avLst>
            </a:prstGeom>
            <a:gradFill rotWithShape="0">
              <a:gsLst>
                <a:gs pos="0">
                  <a:srgbClr val="339933"/>
                </a:gs>
                <a:gs pos="50000">
                  <a:srgbClr val="fefefe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3240" y="457200"/>
              <a:ext cx="1011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问题</a:t>
              </a:r>
              <a:r>
                <a:rPr b="0" lang="en-US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(</a:t>
              </a:r>
              <a:r>
                <a:rPr b="0" lang="zh-CN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３</a:t>
              </a:r>
              <a:r>
                <a:rPr b="0" lang="en-US" sz="32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905120" y="533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60948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行楷简体"/>
                <a:ea typeface="方正行楷简体"/>
              </a:rPr>
              <a:t>★</a:t>
            </a:r>
            <a:r>
              <a:rPr b="1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“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拿来主义”者是怎样“</a:t>
            </a:r>
            <a:r>
              <a:rPr b="0" lang="zh-CN" sz="3200" spc="-1" strike="noStrike">
                <a:solidFill>
                  <a:srgbClr val="ff0000"/>
                </a:solidFill>
                <a:latin typeface="方正行楷简体"/>
                <a:ea typeface="方正行楷简体"/>
              </a:rPr>
              <a:t>挑选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”文化遗产的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?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是怎样说理的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鱼         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鸦       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81280" y="4876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姨   太  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烟枪烟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29000" y="2514600"/>
            <a:ext cx="304920" cy="2666880"/>
            <a:chOff x="3429000" y="2514600"/>
            <a:chExt cx="304920" cy="2666880"/>
          </a:xfrm>
        </p:grpSpPr>
        <p:sp>
          <p:nvSpPr>
            <p:cNvPr id="221" name=""/>
            <p:cNvSpPr/>
            <p:nvPr/>
          </p:nvSpPr>
          <p:spPr>
            <a:xfrm>
              <a:off x="3429000" y="2514600"/>
              <a:ext cx="228600" cy="266688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0 h 2666880"/>
                <a:gd name="textAreaBottom" fmla="*/ 266688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0"/>
                    <a:pt x="0" y="0"/>
                  </a:cubicBezTo>
                  <a:lnTo>
                    <a:pt x="0" y="21600"/>
                  </a:lnTo>
                  <a:cubicBezTo>
                    <a:pt x="0" y="216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3276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9000" y="4114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80880" y="4495680"/>
            <a:ext cx="2971800" cy="762120"/>
            <a:chOff x="380880" y="4495680"/>
            <a:chExt cx="2971800" cy="762120"/>
          </a:xfrm>
        </p:grpSpPr>
        <p:sp>
          <p:nvSpPr>
            <p:cNvPr id="225" name=""/>
            <p:cNvSpPr/>
            <p:nvPr/>
          </p:nvSpPr>
          <p:spPr>
            <a:xfrm>
              <a:off x="380880" y="4495680"/>
              <a:ext cx="2895480" cy="76212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efefe"/>
                </a:gs>
                <a:gs pos="100000">
                  <a:srgbClr val="0000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160" y="4572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大宅子里的遗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029200" y="2286000"/>
            <a:ext cx="1676520" cy="459720"/>
            <a:chOff x="5029200" y="2286000"/>
            <a:chExt cx="1676520" cy="459720"/>
          </a:xfrm>
        </p:grpSpPr>
        <p:sp>
          <p:nvSpPr>
            <p:cNvPr id="228" name=""/>
            <p:cNvSpPr/>
            <p:nvPr/>
          </p:nvSpPr>
          <p:spPr>
            <a:xfrm>
              <a:off x="5029200" y="24382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15000" y="2286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Times New Roman"/>
                </a:rPr>
                <a:t>吃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952880" y="2971800"/>
            <a:ext cx="1828800" cy="459720"/>
            <a:chOff x="4952880" y="2971800"/>
            <a:chExt cx="1828800" cy="459720"/>
          </a:xfrm>
        </p:grpSpPr>
        <p:sp>
          <p:nvSpPr>
            <p:cNvPr id="231" name=""/>
            <p:cNvSpPr/>
            <p:nvPr/>
          </p:nvSpPr>
          <p:spPr>
            <a:xfrm>
              <a:off x="4952880" y="31240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2360" y="2971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Times New Roman"/>
                </a:rPr>
                <a:t>送药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029200" y="3886200"/>
            <a:ext cx="1828800" cy="459720"/>
            <a:chOff x="5029200" y="3886200"/>
            <a:chExt cx="1828800" cy="459720"/>
          </a:xfrm>
        </p:grpSpPr>
        <p:sp>
          <p:nvSpPr>
            <p:cNvPr id="234" name=""/>
            <p:cNvSpPr/>
            <p:nvPr/>
          </p:nvSpPr>
          <p:spPr>
            <a:xfrm>
              <a:off x="5029200" y="40384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62720" y="38862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Times New Roman"/>
                </a:rPr>
                <a:t>送</a:t>
              </a:r>
              <a:r>
                <a:rPr b="0" lang="en-US" sz="2400" spc="-1" strike="noStrike">
                  <a:solidFill>
                    <a:srgbClr val="cc00ff"/>
                  </a:solidFill>
                  <a:latin typeface="Times New Roman"/>
                </a:rPr>
                <a:t>,</a:t>
              </a:r>
              <a:r>
                <a:rPr b="0" lang="zh-CN" sz="2400" spc="-1" strike="noStrike">
                  <a:solidFill>
                    <a:srgbClr val="cc00ff"/>
                  </a:solidFill>
                  <a:latin typeface="Times New Roman"/>
                </a:rPr>
                <a:t>毁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876920"/>
            <a:ext cx="1600200" cy="459720"/>
            <a:chOff x="5029200" y="4876920"/>
            <a:chExt cx="1600200" cy="459720"/>
          </a:xfrm>
        </p:grpSpPr>
        <p:sp>
          <p:nvSpPr>
            <p:cNvPr id="237" name=""/>
            <p:cNvSpPr/>
            <p:nvPr/>
          </p:nvSpPr>
          <p:spPr>
            <a:xfrm>
              <a:off x="5029200" y="502920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38680" y="4876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Times New Roman"/>
                </a:rPr>
                <a:t>走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477120" y="2209680"/>
            <a:ext cx="2438280" cy="685800"/>
          </a:xfrm>
          <a:prstGeom prst="leftArrowCallout">
            <a:avLst>
              <a:gd name="adj1" fmla="val 25002"/>
              <a:gd name="adj2" fmla="val 25000"/>
              <a:gd name="adj3" fmla="val 46977"/>
              <a:gd name="adj4" fmla="val 79054"/>
            </a:avLst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昆仑楷体"/>
              </a:rPr>
              <a:t>喻文化精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2971800"/>
            <a:ext cx="2438280" cy="685800"/>
          </a:xfrm>
          <a:prstGeom prst="leftArrowCallout">
            <a:avLst>
              <a:gd name="adj1" fmla="val 25002"/>
              <a:gd name="adj2" fmla="val 25000"/>
              <a:gd name="adj3" fmla="val 46977"/>
              <a:gd name="adj4" fmla="val 79054"/>
            </a:avLst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昆仑楷体"/>
              </a:rPr>
              <a:t>喻益害并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3809880"/>
            <a:ext cx="2438640" cy="685800"/>
          </a:xfrm>
          <a:prstGeom prst="leftArrowCallout">
            <a:avLst>
              <a:gd name="adj1" fmla="val 25002"/>
              <a:gd name="adj2" fmla="val 25000"/>
              <a:gd name="adj3" fmla="val 46984"/>
              <a:gd name="adj4" fmla="val 79054"/>
            </a:avLst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昆仑楷体"/>
              </a:rPr>
              <a:t>喻文化糟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00800" y="4800600"/>
            <a:ext cx="2438280" cy="685800"/>
          </a:xfrm>
          <a:prstGeom prst="leftArrowCallout">
            <a:avLst>
              <a:gd name="adj1" fmla="val 25002"/>
              <a:gd name="adj2" fmla="val 25000"/>
              <a:gd name="adj3" fmla="val 46977"/>
              <a:gd name="adj4" fmla="val 79054"/>
            </a:avLst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昆仑楷体"/>
              </a:rPr>
              <a:t>喻封建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00"/>
                </a:solidFill>
                <a:latin typeface="方正姚体简体"/>
                <a:ea typeface="方正姚体简体"/>
              </a:rPr>
              <a:t>一言以敝之</a:t>
            </a:r>
            <a:r>
              <a:rPr b="0" lang="en-US" sz="2400" spc="-1" strike="noStrike">
                <a:solidFill>
                  <a:srgbClr val="cccc00"/>
                </a:solidFill>
                <a:latin typeface="方正姚体简体"/>
                <a:ea typeface="方正姚体简体"/>
              </a:rPr>
              <a:t>,“</a:t>
            </a:r>
            <a:r>
              <a:rPr b="0" lang="zh-CN" sz="2400" spc="-1" strike="noStrike">
                <a:solidFill>
                  <a:srgbClr val="cccc00"/>
                </a:solidFill>
                <a:latin typeface="方正姚体简体"/>
                <a:ea typeface="方正姚体简体"/>
              </a:rPr>
              <a:t>拿来主义”者对待文化遗产是</a:t>
            </a:r>
            <a:r>
              <a:rPr b="0" lang="en-US" sz="2400" spc="-1" strike="noStrike">
                <a:solidFill>
                  <a:srgbClr val="cccc00"/>
                </a:solidFill>
                <a:latin typeface="方正姚体简体"/>
                <a:ea typeface="方正姚体简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1614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00"/>
                </a:solidFill>
                <a:latin typeface="方正姚体简体"/>
                <a:ea typeface="方正姚体简体"/>
              </a:rPr>
              <a:t>比喻说理</a:t>
            </a:r>
            <a:r>
              <a:rPr b="1" lang="en-US" sz="2400" spc="-1" strike="noStrike">
                <a:solidFill>
                  <a:srgbClr val="cccc00"/>
                </a:solidFill>
                <a:latin typeface="方正姚体简体"/>
                <a:ea typeface="方正姚体简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圆简体"/>
                <a:ea typeface="方正粗圆简体"/>
              </a:rPr>
              <a:t>吸取精华</a:t>
            </a:r>
            <a:r>
              <a:rPr b="0" lang="en-US" sz="2800" spc="-1" strike="noStrike">
                <a:solidFill>
                  <a:srgbClr val="ff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38880" y="586728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粗圆简体"/>
                <a:ea typeface="方正粗圆简体"/>
              </a:rPr>
              <a:t>剔除糟粕</a:t>
            </a:r>
            <a:r>
              <a:rPr b="0" lang="en-US" sz="2800" spc="-1" strike="noStrike">
                <a:solidFill>
                  <a:srgbClr val="ff0000"/>
                </a:solidFill>
                <a:latin typeface="方正粗圆简体"/>
                <a:ea typeface="方正粗圆简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形象生动</a:t>
            </a:r>
            <a:r>
              <a:rPr b="0" i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1614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幽默含蓄</a:t>
            </a:r>
            <a:r>
              <a:rPr b="0" i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160020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ff"/>
                </a:solidFill>
                <a:latin typeface="隶书"/>
                <a:ea typeface="隶书"/>
              </a:rPr>
              <a:t>而锋芒毕露</a:t>
            </a:r>
            <a:r>
              <a:rPr b="0" i="1" lang="en-US" sz="2800" spc="-1" strike="noStrike">
                <a:solidFill>
                  <a:srgbClr val="3333ff"/>
                </a:solidFill>
                <a:latin typeface="隶书"/>
                <a:ea typeface="隶书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79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79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79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79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79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79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9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9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79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79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79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79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79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79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79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79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79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79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79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79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79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79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79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79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79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79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79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79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4400" y="457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比喻的内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1295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宅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776520" cy="465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97180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文化遗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2057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鱼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776520" cy="465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971800" y="20574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文化遗产中的精华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2895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2209680" y="2971800"/>
            <a:ext cx="776520" cy="465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971800" y="2971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文化遗产中精华与糟粕并存的东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3809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209680" y="3886200"/>
            <a:ext cx="776520" cy="465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971800" y="3886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文化遗产中的旧形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4724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姨太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2209680" y="4800600"/>
            <a:ext cx="776520" cy="4651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048120" y="48006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纯粹的糟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14400" y="5335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拿来主义者的态度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鱼翅</a:t>
            </a: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只要有养料，也和朋友们像萝卜白菜一样的吃掉。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（吸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438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鸦片</a:t>
            </a: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只送到药房里去，以供治病之用，却不弄“出售存膏，售完即止”的玄虚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（批判地吸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3505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烟具</a:t>
            </a: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除了送一点进博物馆之外，其余的是大可以毁掉的了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（绝大多数应清除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4572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姨太太</a:t>
            </a: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大以请她们各自走散为是。       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（坚决抛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  <a:ea typeface="隶书"/>
              </a:rPr>
              <a:t>如何区别对待文化遗产中的不同内容：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01880" y="1828800"/>
            <a:ext cx="7845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838080" y="380880"/>
            <a:ext cx="2743200" cy="838080"/>
            <a:chOff x="838080" y="380880"/>
            <a:chExt cx="2743200" cy="838080"/>
          </a:xfrm>
        </p:grpSpPr>
        <p:sp>
          <p:nvSpPr>
            <p:cNvPr id="274" name=""/>
            <p:cNvSpPr/>
            <p:nvPr/>
          </p:nvSpPr>
          <p:spPr>
            <a:xfrm>
              <a:off x="838080" y="380880"/>
              <a:ext cx="2743200" cy="838080"/>
            </a:xfrm>
            <a:custGeom>
              <a:avLst/>
              <a:gdLst>
                <a:gd name="textAreaLeft" fmla="*/ 493200 w 2743200"/>
                <a:gd name="textAreaRight" fmla="*/ 2250000 w 2743200"/>
                <a:gd name="textAreaTop" fmla="*/ 0 h 838080"/>
                <a:gd name="textAreaBottom" fmla="*/ 73332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585" y="18900"/>
                  </a:moveTo>
                  <a:lnTo>
                    <a:pt x="6585" y="20925"/>
                  </a:lnTo>
                  <a:cubicBezTo>
                    <a:pt x="6585" y="21263"/>
                    <a:pt x="6165" y="21600"/>
                    <a:pt x="5745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3885" y="2700"/>
                  </a:lnTo>
                  <a:lnTo>
                    <a:pt x="3885" y="675"/>
                  </a:lnTo>
                  <a:cubicBezTo>
                    <a:pt x="3885" y="338"/>
                    <a:pt x="4305" y="0"/>
                    <a:pt x="4725" y="0"/>
                  </a:cubicBezTo>
                  <a:lnTo>
                    <a:pt x="16875" y="0"/>
                  </a:lnTo>
                  <a:cubicBezTo>
                    <a:pt x="17295" y="0"/>
                    <a:pt x="17715" y="338"/>
                    <a:pt x="17715" y="675"/>
                  </a:cubicBezTo>
                  <a:lnTo>
                    <a:pt x="17715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5855" y="21600"/>
                  </a:lnTo>
                  <a:cubicBezTo>
                    <a:pt x="15435" y="21600"/>
                    <a:pt x="15015" y="21263"/>
                    <a:pt x="15015" y="20925"/>
                  </a:cubicBezTo>
                  <a:lnTo>
                    <a:pt x="15015" y="18900"/>
                  </a:lnTo>
                  <a:close/>
                </a:path>
                <a:path fill="darkenLess" w="21600" h="21600">
                  <a:moveTo>
                    <a:pt x="6585" y="18900"/>
                  </a:moveTo>
                  <a:lnTo>
                    <a:pt x="6585" y="20925"/>
                  </a:lnTo>
                  <a:cubicBezTo>
                    <a:pt x="6585" y="20588"/>
                    <a:pt x="6165" y="20250"/>
                    <a:pt x="5745" y="20250"/>
                  </a:cubicBezTo>
                  <a:lnTo>
                    <a:pt x="4725" y="20250"/>
                  </a:lnTo>
                  <a:cubicBezTo>
                    <a:pt x="4305" y="20250"/>
                    <a:pt x="3885" y="19913"/>
                    <a:pt x="3885" y="19575"/>
                  </a:cubicBezTo>
                  <a:cubicBezTo>
                    <a:pt x="3885" y="19238"/>
                    <a:pt x="4305" y="18900"/>
                    <a:pt x="4725" y="18900"/>
                  </a:cubicBezTo>
                  <a:close/>
                </a:path>
                <a:path fill="darkenLess" w="21600" h="21600">
                  <a:moveTo>
                    <a:pt x="15015" y="18900"/>
                  </a:moveTo>
                  <a:lnTo>
                    <a:pt x="15015" y="20925"/>
                  </a:lnTo>
                  <a:cubicBezTo>
                    <a:pt x="15015" y="20588"/>
                    <a:pt x="15435" y="20250"/>
                    <a:pt x="15855" y="20250"/>
                  </a:cubicBezTo>
                  <a:lnTo>
                    <a:pt x="16875" y="20250"/>
                  </a:lnTo>
                  <a:cubicBezTo>
                    <a:pt x="17295" y="20250"/>
                    <a:pt x="17715" y="19913"/>
                    <a:pt x="17715" y="19575"/>
                  </a:cubicBezTo>
                  <a:cubicBezTo>
                    <a:pt x="17715" y="19238"/>
                    <a:pt x="17295" y="18900"/>
                    <a:pt x="16875" y="18900"/>
                  </a:cubicBezTo>
                  <a:close/>
                </a:path>
                <a:path fill="darkenLess" w="21600" h="21600">
                  <a:moveTo>
                    <a:pt x="3885" y="19575"/>
                  </a:moveTo>
                  <a:lnTo>
                    <a:pt x="3885" y="2700"/>
                  </a:lnTo>
                </a:path>
                <a:path fill="darkenLess" w="21600" h="21600">
                  <a:moveTo>
                    <a:pt x="17715" y="19575"/>
                  </a:moveTo>
                  <a:lnTo>
                    <a:pt x="17715" y="2700"/>
                  </a:lnTo>
                </a:path>
              </a:pathLst>
            </a:custGeom>
            <a:gradFill rotWithShape="0">
              <a:gsLst>
                <a:gs pos="0">
                  <a:srgbClr val="339933"/>
                </a:gs>
                <a:gs pos="50000">
                  <a:srgbClr val="fefefe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71600" y="457200"/>
              <a:ext cx="16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问题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４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57200" y="228600"/>
            <a:ext cx="8534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                                  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文章结尾共有五个句子组成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                                  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如果这五句话是五个问题的答案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,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应提哪五个问题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“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拿来”的最终目的是为了什么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23623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方正魏碑简体"/>
                <a:ea typeface="方正魏碑简体"/>
              </a:rPr>
              <a:t>问题设计</a:t>
            </a:r>
            <a:r>
              <a:rPr b="1" lang="en-US" sz="3600" spc="-1" strike="noStrike">
                <a:solidFill>
                  <a:srgbClr val="3333ff"/>
                </a:solidFill>
                <a:latin typeface="方正魏碑简体"/>
                <a:ea typeface="方正魏碑简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29718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１</a:t>
            </a: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).</a:t>
            </a:r>
            <a:r>
              <a:rPr b="1" lang="zh-CN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对待文化遗产</a:t>
            </a:r>
            <a:r>
              <a:rPr b="1" lang="en-US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,</a:t>
            </a:r>
            <a:r>
              <a:rPr b="1" lang="zh-CN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我们应该怎么办</a:t>
            </a:r>
            <a:r>
              <a:rPr b="1" lang="en-US" sz="2800" spc="-1" strike="noStrike">
                <a:solidFill>
                  <a:srgbClr val="cc9900"/>
                </a:solidFill>
                <a:latin typeface="方正行楷简体"/>
                <a:ea typeface="方正行楷简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3809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２</a:t>
            </a: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).</a:t>
            </a:r>
            <a:r>
              <a:rPr b="1" lang="zh-CN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怎样“拿来”</a:t>
            </a:r>
            <a:r>
              <a:rPr b="1" lang="en-US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43434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３</a:t>
            </a: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).</a:t>
            </a:r>
            <a:r>
              <a:rPr b="1" lang="en-US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“</a:t>
            </a:r>
            <a:r>
              <a:rPr b="1" lang="zh-CN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拿来”有何意义</a:t>
            </a: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4876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４</a:t>
            </a: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).</a:t>
            </a:r>
            <a:r>
              <a:rPr b="1" lang="zh-CN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怎样才能“拿来”</a:t>
            </a:r>
            <a:r>
              <a:rPr b="1" lang="en-US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53020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５</a:t>
            </a:r>
            <a:r>
              <a:rPr b="1" lang="en-US" sz="2800" spc="-1" strike="noStrike">
                <a:solidFill>
                  <a:srgbClr val="ff0000"/>
                </a:solidFill>
                <a:latin typeface="昆仑楷体"/>
                <a:ea typeface="昆仑楷体"/>
              </a:rPr>
              <a:t>).</a:t>
            </a:r>
            <a:r>
              <a:rPr b="1" lang="en-US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“</a:t>
            </a:r>
            <a:r>
              <a:rPr b="1" lang="zh-CN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拿来”的最终目的是什么</a:t>
            </a:r>
            <a:r>
              <a:rPr b="1" lang="en-US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?(</a:t>
            </a:r>
            <a:r>
              <a:rPr b="1" lang="zh-CN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两个字概括</a:t>
            </a:r>
            <a:r>
              <a:rPr b="1" lang="en-US" sz="2800" spc="-1" strike="noStrike">
                <a:solidFill>
                  <a:srgbClr val="cc9900"/>
                </a:solidFill>
                <a:latin typeface="昆仑楷体"/>
                <a:ea typeface="昆仑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267080" y="2971800"/>
            <a:ext cx="2971800" cy="581400"/>
            <a:chOff x="4267080" y="2971800"/>
            <a:chExt cx="2971800" cy="581400"/>
          </a:xfrm>
        </p:grpSpPr>
        <p:sp>
          <p:nvSpPr>
            <p:cNvPr id="284" name=""/>
            <p:cNvSpPr/>
            <p:nvPr/>
          </p:nvSpPr>
          <p:spPr>
            <a:xfrm>
              <a:off x="4267080" y="2971800"/>
              <a:ext cx="2743200" cy="533520"/>
            </a:xfrm>
            <a:prstGeom prst="leftArrowCallout">
              <a:avLst>
                <a:gd name="adj1" fmla="val 25002"/>
                <a:gd name="adj2" fmla="val 25000"/>
                <a:gd name="adj3" fmla="val 85695"/>
                <a:gd name="adj4" fmla="val 72692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d1fec2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297180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要“拿来”</a:t>
              </a:r>
              <a:r>
                <a:rPr b="0" lang="en-US" sz="32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352680" y="3657600"/>
            <a:ext cx="5257440" cy="533520"/>
            <a:chOff x="3352680" y="3657600"/>
            <a:chExt cx="5257440" cy="533520"/>
          </a:xfrm>
        </p:grpSpPr>
        <p:sp>
          <p:nvSpPr>
            <p:cNvPr id="287" name=""/>
            <p:cNvSpPr/>
            <p:nvPr/>
          </p:nvSpPr>
          <p:spPr>
            <a:xfrm>
              <a:off x="3352680" y="3657600"/>
              <a:ext cx="4852800" cy="533520"/>
            </a:xfrm>
            <a:prstGeom prst="leftArrowCallout">
              <a:avLst>
                <a:gd name="adj1" fmla="val 25002"/>
                <a:gd name="adj2" fmla="val 25000"/>
                <a:gd name="adj3" fmla="val 151597"/>
                <a:gd name="adj4" fmla="val 72692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d1fec2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65880" y="3657600"/>
              <a:ext cx="40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或使用</a:t>
              </a:r>
              <a:r>
                <a:rPr b="0" lang="en-US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,</a:t>
              </a:r>
              <a:r>
                <a:rPr b="0" lang="zh-CN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或存放</a:t>
              </a:r>
              <a:r>
                <a:rPr b="0" lang="en-US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,</a:t>
              </a:r>
              <a:r>
                <a:rPr b="0" lang="zh-CN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或毁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343400" y="4343400"/>
            <a:ext cx="4571280" cy="581400"/>
            <a:chOff x="4343400" y="4343400"/>
            <a:chExt cx="4571280" cy="581400"/>
          </a:xfrm>
        </p:grpSpPr>
        <p:sp>
          <p:nvSpPr>
            <p:cNvPr id="290" name=""/>
            <p:cNvSpPr/>
            <p:nvPr/>
          </p:nvSpPr>
          <p:spPr>
            <a:xfrm>
              <a:off x="4343400" y="4343400"/>
              <a:ext cx="4219920" cy="533520"/>
            </a:xfrm>
            <a:prstGeom prst="leftArrowCallout">
              <a:avLst>
                <a:gd name="adj1" fmla="val 25002"/>
                <a:gd name="adj2" fmla="val 25000"/>
                <a:gd name="adj3" fmla="val 131826"/>
                <a:gd name="adj4" fmla="val 72692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d1fec2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98200" y="4343400"/>
              <a:ext cx="351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建设民族新文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809880" y="5029200"/>
            <a:ext cx="5714280" cy="533520"/>
            <a:chOff x="3809880" y="5029200"/>
            <a:chExt cx="5714280" cy="533520"/>
          </a:xfrm>
        </p:grpSpPr>
        <p:sp>
          <p:nvSpPr>
            <p:cNvPr id="293" name=""/>
            <p:cNvSpPr/>
            <p:nvPr/>
          </p:nvSpPr>
          <p:spPr>
            <a:xfrm>
              <a:off x="3809880" y="5029200"/>
              <a:ext cx="5274720" cy="533520"/>
            </a:xfrm>
            <a:prstGeom prst="leftArrowCallout">
              <a:avLst>
                <a:gd name="adj1" fmla="val 25002"/>
                <a:gd name="adj2" fmla="val 25000"/>
                <a:gd name="adj3" fmla="val 164777"/>
                <a:gd name="adj4" fmla="val 72692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d1fec2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28560" y="5029200"/>
              <a:ext cx="43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沉着</a:t>
              </a:r>
              <a:r>
                <a:rPr b="0" lang="en-US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,</a:t>
              </a:r>
              <a:r>
                <a:rPr b="0" lang="zh-CN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勇猛</a:t>
              </a:r>
              <a:r>
                <a:rPr b="0" lang="en-US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,</a:t>
              </a:r>
              <a:r>
                <a:rPr b="0" lang="zh-CN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有辨别</a:t>
              </a:r>
              <a:r>
                <a:rPr b="0" lang="en-US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,</a:t>
              </a:r>
              <a:r>
                <a:rPr b="0" lang="zh-CN" sz="28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不自私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572000" y="5745240"/>
            <a:ext cx="1828440" cy="581400"/>
            <a:chOff x="4572000" y="5745240"/>
            <a:chExt cx="1828440" cy="581400"/>
          </a:xfrm>
        </p:grpSpPr>
        <p:sp>
          <p:nvSpPr>
            <p:cNvPr id="296" name=""/>
            <p:cNvSpPr/>
            <p:nvPr/>
          </p:nvSpPr>
          <p:spPr>
            <a:xfrm>
              <a:off x="4572000" y="5745240"/>
              <a:ext cx="1688040" cy="533160"/>
            </a:xfrm>
            <a:prstGeom prst="leftArrowCallout">
              <a:avLst>
                <a:gd name="adj1" fmla="val 25002"/>
                <a:gd name="adj2" fmla="val 25000"/>
                <a:gd name="adj3" fmla="val 52768"/>
                <a:gd name="adj4" fmla="val 72692"/>
              </a:avLst>
            </a:prstGeom>
            <a:gradFill rotWithShape="0">
              <a:gsLst>
                <a:gs pos="0">
                  <a:srgbClr val="66ff33"/>
                </a:gs>
                <a:gs pos="50000">
                  <a:srgbClr val="d1fec2"/>
                </a:gs>
                <a:gs pos="100000">
                  <a:srgbClr val="66ff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93920" y="5745240"/>
              <a:ext cx="140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方正姚体简体"/>
                  <a:ea typeface="方正姚体简体"/>
                </a:rPr>
                <a:t>创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79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79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79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79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79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79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79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79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79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79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79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79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79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79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3049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方正魏碑简体"/>
              </a:rPr>
              <a:t>引出课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815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问</a:t>
            </a: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: </a:t>
            </a: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对于鲁迅其人</a:t>
            </a: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初中阶段我们已经学了他不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精彩的文章了</a:t>
            </a: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你能分类列举一些吗</a:t>
            </a: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2096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答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:(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１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)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小说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:&lt;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故乡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&gt;,&lt;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社戏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&gt;,&lt;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孔乙己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    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(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２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)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散文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:&lt;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从百草园到三味书屋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&gt;,&lt;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藤野先生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    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(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３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)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杂文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:&lt;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论雷峰塔的倒掉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&gt;,&lt;“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友邦惊诧”论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809880"/>
            <a:ext cx="83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问</a:t>
            </a: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:   </a:t>
            </a: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对于鲁迅其人</a:t>
            </a: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你了解他多少呢</a:t>
            </a: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?</a:t>
            </a:r>
            <a:r>
              <a:rPr b="0" lang="zh-CN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简要为我们介绍</a:t>
            </a:r>
            <a:r>
              <a:rPr b="0" lang="en-US" sz="2800" spc="-1" strike="noStrike">
                <a:solidFill>
                  <a:srgbClr val="0000ff"/>
                </a:solidFill>
                <a:latin typeface="方正隶书简体"/>
                <a:ea typeface="方正隶书简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4343400"/>
            <a:ext cx="8077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答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:  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原名周树人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,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浙江绍兴人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,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我国现代著名的文学家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       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思想家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,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革命家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.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其创作方面最杰出的是杂文创作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       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鲁迅的杂文“象投枪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,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象匕首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,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直刺向黑暗势力”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.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        </a:t>
            </a:r>
            <a:r>
              <a:rPr b="0" lang="zh-CN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们今天又要学习他的杂文</a:t>
            </a:r>
            <a:r>
              <a:rPr b="0" lang="en-US" sz="2400" spc="-1" strike="noStrike">
                <a:solidFill>
                  <a:srgbClr val="3bb626"/>
                </a:solidFill>
                <a:latin typeface="方正行楷简体"/>
                <a:ea typeface="方正行楷简体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04920" y="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五个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914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、我们究竟应当怎样对待文化遗产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371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总之，我们要拿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、拿来之后怎样区别对待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2438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我们要或使用，或存放，或毁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3048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、正确对待文化遗产有什么积极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3505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那么，主人是新主人，宅子也就会成为新宅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、怎样才能做到正确对待文化遗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572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然而首先要这人沉着，勇猛，有辨别，不自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334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、实行拿来主义有什么重要性和迫切性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57913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2b6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e9e2b6"/>
                </a:solidFill>
                <a:latin typeface="Times New Roman"/>
              </a:rPr>
              <a:t>没有拿来的，人不能自成为新人，没有拿来的，文艺不能自成为新文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拿来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09480" y="228600"/>
            <a:ext cx="2743200" cy="825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方正魏碑简体"/>
              </a:rPr>
              <a:t>板书设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447920" y="914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昏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34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拿来主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2590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完全否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81080" y="457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闭关主义（排外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838080"/>
            <a:ext cx="0" cy="457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83080" y="2057400"/>
            <a:ext cx="7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反对三种态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6094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76720" y="27432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1066680"/>
            <a:ext cx="152640" cy="2590920"/>
          </a:xfrm>
          <a:custGeom>
            <a:avLst/>
            <a:gdLst>
              <a:gd name="textAreaLeft" fmla="*/ 97560 w 152640"/>
              <a:gd name="textAreaRight" fmla="*/ 153000 w 1526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5720" y="1371600"/>
            <a:ext cx="485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拿　来　主　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295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送去主义（媚外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6049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281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立：新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孱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57800" y="1981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消极逃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6252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废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全盘接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13372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4724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存放或利用（鸦片与部分烟具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4129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使用（鱼翅与部分鸦片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5348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毁灭（烟具与姨太太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4343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396252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占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48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挑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400800" y="21337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91120" y="4191120"/>
            <a:ext cx="729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出三种方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08840" y="42670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写作特点</a:t>
            </a:r>
            <a:r>
              <a:rPr b="0" lang="en-US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1</a:t>
            </a:r>
            <a:r>
              <a:rPr b="0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：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590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运用形象概括，进行归纳推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可辩驳的说服力和严密的逻辑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85840" y="1752480"/>
            <a:ext cx="4876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闭关——抱残守缺（误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送去——取悦洋人（卖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拿来——批判吸收（利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00"/>
                </a:solidFill>
                <a:latin typeface="黑体"/>
                <a:ea typeface="黑体"/>
              </a:rPr>
              <a:t>写作特点</a:t>
            </a:r>
            <a:r>
              <a:rPr b="0" lang="en-US" sz="4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2438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选取具体典型，取代抽象论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节约文字，印象深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8640" y="1752480"/>
            <a:ext cx="5334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三种对外来文化的错误态度画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孱头——愚弱无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昏蛋——头脑发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废物——失去自立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写作特点</a:t>
            </a:r>
            <a:r>
              <a:rPr b="0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0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：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361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就近取喻，说明复杂道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突出本体特征，平实易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36520" y="1981080"/>
            <a:ext cx="51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宅子——整个文化遗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鱼翅、鸦片、烟枪、姨太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`````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写作特点</a:t>
            </a:r>
            <a:r>
              <a:rPr b="0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4</a:t>
            </a:r>
            <a:r>
              <a:rPr b="0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：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514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讽刺辛辣，妙趣横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诙谐中见讥讽，憎恶溢于言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33920" y="17524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人替代了古董，我敢说，也可以算得显示一点进步了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能够只是送去，也不算坏事情，一者见得丰富，二者见得大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讽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几位“大师”，“捧着几张古画和新画，在欧洲一路地挂过去，”叫做“发扬国光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 rot="20907000">
            <a:off x="-457200" y="304560"/>
            <a:ext cx="3429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水柱简体"/>
              </a:rPr>
              <a:t>想想议议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水柱简体"/>
              <a:ea typeface="方正水柱简体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33520" y="762120"/>
            <a:ext cx="8076960" cy="4495680"/>
            <a:chOff x="533520" y="762120"/>
            <a:chExt cx="8076960" cy="4495680"/>
          </a:xfrm>
        </p:grpSpPr>
        <p:sp>
          <p:nvSpPr>
            <p:cNvPr id="359" name=""/>
            <p:cNvSpPr/>
            <p:nvPr/>
          </p:nvSpPr>
          <p:spPr>
            <a:xfrm>
              <a:off x="533520" y="762120"/>
              <a:ext cx="8076960" cy="4495680"/>
            </a:xfrm>
            <a:prstGeom prst="cloudCallout">
              <a:avLst>
                <a:gd name="adj1" fmla="val -53851"/>
                <a:gd name="adj2" fmla="val 77861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5440" y="1371600"/>
              <a:ext cx="7848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٭</a:t>
              </a:r>
              <a:r>
                <a:rPr b="0" lang="en-US" sz="3200" spc="-1" strike="noStrike">
                  <a:solidFill>
                    <a:srgbClr val="ff0000"/>
                  </a:solidFill>
                  <a:latin typeface="方正粗圆简体"/>
                  <a:ea typeface="方正粗圆简体"/>
                </a:rPr>
                <a:t>1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有人说“开卷有益”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,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也有人说“</a:t>
              </a:r>
              <a:r>
                <a:rPr b="1" lang="zh-CN" sz="3600" spc="-1" strike="noStrike">
                  <a:solidFill>
                    <a:srgbClr val="f8b700"/>
                  </a:solidFill>
                  <a:latin typeface="文鼎广告体繁"/>
                  <a:ea typeface="文鼎广告体繁"/>
                </a:rPr>
                <a:t>开卷未必有益”</a:t>
              </a:r>
              <a:r>
                <a:rPr b="1" lang="zh-CN" sz="3600" spc="-1" strike="noStrike">
                  <a:solidFill>
                    <a:srgbClr val="f8b700"/>
                  </a:solidFill>
                  <a:latin typeface="文鼎广告体繁"/>
                  <a:ea typeface="文鼎广告体繁"/>
                </a:rPr>
                <a:t>,</a:t>
              </a:r>
              <a:r>
                <a:rPr b="1" lang="zh-CN" sz="3600" spc="-1" strike="noStrike">
                  <a:solidFill>
                    <a:srgbClr val="f8b700"/>
                  </a:solidFill>
                  <a:latin typeface="文鼎广告体繁"/>
                  <a:ea typeface="文鼎广告体繁"/>
                </a:rPr>
                <a:t>似乎都有一定的道理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.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面对古今中外浩如烟海的书籍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,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运用今天所学的观点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,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谈谈你准备怎样阅读</a:t>
              </a:r>
              <a:r>
                <a:rPr b="1" lang="zh-CN" sz="3600" spc="-1" strike="noStrike">
                  <a:solidFill>
                    <a:srgbClr val="ffbf0b"/>
                  </a:solidFill>
                  <a:latin typeface="文鼎广告体繁"/>
                  <a:ea typeface="文鼎广告体繁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838080" y="37339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方正粗圆简体"/>
                <a:ea typeface="方正粗圆简体"/>
              </a:rPr>
              <a:t>2.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“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拿来主义”的思想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含义深远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于我们的学习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生活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工作都有很大的指导作用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.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比如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生活中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我们交朋友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就是一个很现实的问题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.</a:t>
            </a:r>
            <a:r>
              <a:rPr b="0" lang="zh-CN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请用“拿来主义”的观点说明我们应怎样结交朋友</a:t>
            </a:r>
            <a:r>
              <a:rPr b="0" lang="en-US" sz="3200" spc="-1" strike="noStrike">
                <a:solidFill>
                  <a:srgbClr val="cc9900"/>
                </a:solidFill>
                <a:latin typeface="方正粗圆简体"/>
                <a:ea typeface="方正粗圆简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79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79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BJ_001" descr=""/>
          <p:cNvPicPr/>
          <p:nvPr/>
        </p:nvPicPr>
        <p:blipFill>
          <a:blip r:embed="rId1"/>
          <a:stretch/>
        </p:blipFill>
        <p:spPr>
          <a:xfrm>
            <a:off x="-533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1752480" y="1371600"/>
            <a:ext cx="5791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文鼎广告体繁"/>
              </a:rPr>
              <a:t>谢谢使用</a:t>
            </a:r>
            <a:endParaRPr b="0" lang="en-US" sz="6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文鼎广告体繁"/>
              <a:ea typeface="文鼎广告体繁"/>
            </a:endParaRPr>
          </a:p>
        </p:txBody>
      </p:sp>
      <p:sp>
        <p:nvSpPr>
          <p:cNvPr id="364" name=""/>
          <p:cNvSpPr/>
          <p:nvPr/>
        </p:nvSpPr>
        <p:spPr>
          <a:xfrm>
            <a:off x="2743200" y="31240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方正魏碑简体"/>
                <a:ea typeface="方正魏碑简体"/>
              </a:rPr>
              <a:t>再 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495288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方正隶书简体"/>
                <a:ea typeface="方正隶书简体"/>
              </a:rPr>
              <a:t>设计制作</a:t>
            </a:r>
            <a:r>
              <a:rPr b="1" lang="en-US" sz="4000" spc="-1" strike="noStrike">
                <a:solidFill>
                  <a:srgbClr val="9900ff"/>
                </a:solidFill>
                <a:latin typeface="方正隶书简体"/>
                <a:ea typeface="方正隶书简体"/>
              </a:rPr>
              <a:t>:  </a:t>
            </a:r>
            <a:r>
              <a:rPr b="1" lang="zh-CN" sz="4000" spc="-1" strike="noStrike">
                <a:solidFill>
                  <a:srgbClr val="9900ff"/>
                </a:solidFill>
                <a:latin typeface="方正隶书简体"/>
                <a:ea typeface="方正隶书简体"/>
              </a:rPr>
              <a:t>韦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方正隶书简体"/>
                <a:ea typeface="方正隶书简体"/>
              </a:rPr>
              <a:t>制作日期</a:t>
            </a:r>
            <a:r>
              <a:rPr b="1" lang="en-US" sz="4000" spc="-1" strike="noStrike">
                <a:solidFill>
                  <a:srgbClr val="9900ff"/>
                </a:solidFill>
                <a:latin typeface="方正隶书简体"/>
                <a:ea typeface="方正隶书简体"/>
              </a:rPr>
              <a:t>:</a:t>
            </a:r>
            <a:r>
              <a:rPr b="1" lang="en-US" sz="4000" spc="-1" strike="noStrike">
                <a:solidFill>
                  <a:srgbClr val="cccc00"/>
                </a:solidFill>
                <a:latin typeface="方正隶书简体"/>
                <a:ea typeface="方正隶书简体"/>
              </a:rPr>
              <a:t>    </a:t>
            </a:r>
            <a:r>
              <a:rPr b="1" lang="en-US" sz="4000" spc="-1" strike="noStrike">
                <a:solidFill>
                  <a:srgbClr val="0000ff"/>
                </a:solidFill>
                <a:latin typeface="昆仑楷体"/>
                <a:ea typeface="昆仑楷体"/>
              </a:rPr>
              <a:t>2005</a:t>
            </a:r>
            <a:r>
              <a:rPr b="1" lang="zh-CN" sz="4000" spc="-1" strike="noStrike">
                <a:solidFill>
                  <a:srgbClr val="0000ff"/>
                </a:solidFill>
                <a:latin typeface="昆仑楷体"/>
                <a:ea typeface="昆仑楷体"/>
              </a:rPr>
              <a:t>年</a:t>
            </a:r>
            <a:r>
              <a:rPr b="1" lang="en-US" sz="4000" spc="-1" strike="noStrike">
                <a:solidFill>
                  <a:srgbClr val="0000ff"/>
                </a:solidFill>
                <a:latin typeface="昆仑楷体"/>
                <a:ea typeface="昆仑楷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昆仑楷体"/>
                <a:ea typeface="昆仑楷体"/>
              </a:rPr>
              <a:t>月</a:t>
            </a:r>
            <a:r>
              <a:rPr b="1" lang="en-US" sz="4000" spc="-1" strike="noStrike">
                <a:solidFill>
                  <a:srgbClr val="0000ff"/>
                </a:solidFill>
                <a:latin typeface="昆仑楷体"/>
                <a:ea typeface="昆仑楷体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昆仑楷体"/>
                <a:ea typeface="昆仑楷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79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79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28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作者介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838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方正仿宋简体"/>
              </a:rPr>
              <a:t>鲁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838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881~1936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伟大的文学家、思想家、革命家。原名周树人，字豫才，鲁迅是笔名。</a:t>
            </a: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898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离家到南京学习，</a:t>
            </a: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02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留学日本，</a:t>
            </a: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09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回国，</a:t>
            </a: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918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月发表《狂人日记》，奠定了新文学运动的基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方正报宋简体"/>
              </a:rPr>
              <a:t>主要作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04812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</a:rPr>
              <a:t>小说集：《呐喊》《彷徨》《故事新编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</a:rPr>
              <a:t>散文集：《朝花夕拾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</a:rPr>
              <a:t>散文诗集：《野草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</a:rPr>
              <a:t>杂文集：《坟》《热风》《而已集》《三闲集》《二心集》《伪自由书》《准风月谈》《南腔北调集》《花边文学》《华盖集》《华盖集续编》《且介亭杂文》《且介亭杂文二集》《且介亭杂文末编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J_0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7587" dir="19578596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  <a:ea typeface="隶书"/>
              </a:rPr>
              <a:t>背景介绍</a:t>
            </a:r>
            <a:endParaRPr b="0" lang="en-US" sz="8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4479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2096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２０世纪３０年代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,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国民党政府奉行卖国主义政策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,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实行反革命文化“围剿”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,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主张“全盘西化”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.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在左翼文艺队伍中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,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一些人反对继承旧文化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,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反对吸收外国文化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,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造成思想混乱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.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鲁迅先生就写下了这篇杂文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,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批驳了错误思潮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,</a:t>
            </a:r>
            <a:r>
              <a:rPr b="0" i="1" lang="zh-CN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提倡“拿来主义”</a:t>
            </a:r>
            <a:r>
              <a:rPr b="0" i="1" lang="en-US" sz="3600" spc="-1" strike="noStrike">
                <a:solidFill>
                  <a:srgbClr val="808000"/>
                </a:solidFill>
                <a:latin typeface="方正粗圆简体"/>
                <a:ea typeface="方正粗圆简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8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efefe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371600"/>
            <a:ext cx="8763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思考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为了旗帜鲜明地亮出“拿来主义”的主张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作者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从反面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-----“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送去主义”做文章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把“送去主义”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得体无完肤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文章可分为明显的两部分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划分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.(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提示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</a:rPr>
              <a:t>注意过渡段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方正姚体简体"/>
                <a:ea typeface="方正姚体简体"/>
              </a:rPr>
              <a:t>明确</a:t>
            </a:r>
            <a:r>
              <a:rPr b="0" lang="en-US" sz="32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:  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(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１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)-(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４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)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段批判“送去主义”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,(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５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)-(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１０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)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          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提出 “拿来主义”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.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其中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(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５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)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段为过渡段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,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承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          </a:t>
            </a:r>
            <a:r>
              <a:rPr b="0" lang="zh-CN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启下</a:t>
            </a:r>
            <a:r>
              <a:rPr b="0" lang="en-US" sz="3200" spc="-1" strike="noStrike">
                <a:solidFill>
                  <a:srgbClr val="cc00ff"/>
                </a:solidFill>
                <a:latin typeface="方正姚体简体"/>
                <a:ea typeface="方正姚体简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808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理清思路</a:t>
            </a:r>
            <a:r>
              <a:rPr b="0" lang="en-US" sz="4800" spc="-1" strike="noStrike">
                <a:solidFill>
                  <a:srgbClr val="ff0066"/>
                </a:solidFill>
                <a:latin typeface="隶书"/>
                <a:ea typeface="隶书"/>
              </a:rPr>
              <a:t>,</a:t>
            </a:r>
            <a:r>
              <a:rPr b="0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整体把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79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79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8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212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04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方正行楷简体"/>
              </a:rPr>
              <a:t>分析课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295280"/>
            <a:ext cx="4648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思考１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作者是怎样批判“送去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义”的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? 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请完成小练习</a:t>
            </a:r>
            <a:r>
              <a:rPr b="0" lang="en-US" sz="2400" spc="-1" strike="noStrike">
                <a:solidFill>
                  <a:srgbClr val="99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作者先指出了“送去主义”产生的根源是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__________,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其实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两者是一脉相承的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然后列举了“送去主义”的表现有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______________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和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_______________,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以及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_________.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接着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作者一针见血地指出了“送去主义”的实质是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_____________,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最后又形象的揭示了“送去主义”的危害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一是导致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___________,</a:t>
            </a: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二是导致</a:t>
            </a: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952880" y="1981080"/>
            <a:ext cx="3489480" cy="2669400"/>
            <a:chOff x="4952880" y="1981080"/>
            <a:chExt cx="3489480" cy="2669400"/>
          </a:xfrm>
        </p:grpSpPr>
        <p:grpSp>
          <p:nvGrpSpPr>
            <p:cNvPr id="110" name=""/>
            <p:cNvGrpSpPr/>
            <p:nvPr/>
          </p:nvGrpSpPr>
          <p:grpSpPr>
            <a:xfrm>
              <a:off x="4952880" y="1981080"/>
              <a:ext cx="3489480" cy="2669400"/>
              <a:chOff x="4952880" y="1981080"/>
              <a:chExt cx="3489480" cy="2669400"/>
            </a:xfrm>
          </p:grpSpPr>
          <p:sp>
            <p:nvSpPr>
              <p:cNvPr id="111" name=""/>
              <p:cNvSpPr/>
              <p:nvPr/>
            </p:nvSpPr>
            <p:spPr>
              <a:xfrm>
                <a:off x="4952880" y="2819160"/>
                <a:ext cx="838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6600"/>
                    </a:solidFill>
                    <a:latin typeface="Times New Roman"/>
                  </a:rPr>
                  <a:t>闭关主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90960" y="3200400"/>
                <a:ext cx="304920" cy="228600"/>
              </a:xfrm>
              <a:prstGeom prst="rightArrow">
                <a:avLst>
                  <a:gd name="adj1" fmla="val 50000"/>
                  <a:gd name="adj2" fmla="val 33346"/>
                </a:avLst>
              </a:prstGeom>
              <a:solidFill>
                <a:srgbClr val="727d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72200" y="281916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6600"/>
                    </a:solidFill>
                    <a:latin typeface="Times New Roman"/>
                  </a:rPr>
                  <a:t>送去主义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010280" y="3200400"/>
                <a:ext cx="304920" cy="228600"/>
              </a:xfrm>
              <a:prstGeom prst="rightArrow">
                <a:avLst>
                  <a:gd name="adj1" fmla="val 50000"/>
                  <a:gd name="adj2" fmla="val 33346"/>
                </a:avLst>
              </a:prstGeom>
              <a:solidFill>
                <a:srgbClr val="727de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467480" y="2209680"/>
                <a:ext cx="228600" cy="228600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0 h 2286000"/>
                  <a:gd name="textAreaBottom" fmla="*/ 2286360 h 228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895880" y="19810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6600"/>
                    </a:solidFill>
                    <a:latin typeface="Times New Roman"/>
                  </a:rPr>
                  <a:t>表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895880" y="31240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6600"/>
                    </a:solidFill>
                    <a:latin typeface="Times New Roman"/>
                  </a:rPr>
                  <a:t>实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95880" y="41907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6600"/>
                    </a:solidFill>
                    <a:latin typeface="Times New Roman"/>
                  </a:rPr>
                  <a:t>危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7467480" y="3352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82880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闭关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429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送古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3809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送梅兰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572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崇洋媚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经济衰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主权丧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809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送古画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8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9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9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8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79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79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怎么样实行拿来主义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BJ_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868680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54f41"/>
                </a:solidFill>
                <a:latin typeface="Times New Roman"/>
                <a:ea typeface="文鼎广告体繁"/>
              </a:rPr>
              <a:t>思考２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9900"/>
                </a:solidFill>
                <a:latin typeface="方正姚体简体"/>
                <a:ea typeface="方正姚体简体"/>
              </a:rPr>
              <a:t>作者在批判“送去主义”之后</a:t>
            </a:r>
            <a:r>
              <a:rPr b="0" lang="en-US" sz="3200" spc="-1" strike="noStrike">
                <a:solidFill>
                  <a:srgbClr val="ff9900"/>
                </a:solidFill>
                <a:latin typeface="方正姚体简体"/>
                <a:ea typeface="方正姚体简体"/>
              </a:rPr>
              <a:t>,</a:t>
            </a:r>
            <a:r>
              <a:rPr b="0" lang="zh-CN" sz="3200" spc="-1" strike="noStrike">
                <a:solidFill>
                  <a:srgbClr val="ff9900"/>
                </a:solidFill>
                <a:latin typeface="方正姚体简体"/>
                <a:ea typeface="方正姚体简体"/>
              </a:rPr>
              <a:t>是怎样论述“拿来主义”的主张的</a:t>
            </a:r>
            <a:r>
              <a:rPr b="0" lang="en-US" sz="3200" spc="-1" strike="noStrike">
                <a:solidFill>
                  <a:srgbClr val="ff9900"/>
                </a:solidFill>
                <a:latin typeface="方正姚体简体"/>
                <a:ea typeface="方正姚体简体"/>
              </a:rPr>
              <a:t>?</a:t>
            </a:r>
            <a:r>
              <a:rPr b="0" lang="zh-CN" sz="3200" spc="-1" strike="noStrike">
                <a:solidFill>
                  <a:srgbClr val="ff9900"/>
                </a:solidFill>
                <a:latin typeface="方正姚体简体"/>
                <a:ea typeface="方正姚体简体"/>
              </a:rPr>
              <a:t>分组讨论下列问题</a:t>
            </a:r>
            <a:r>
              <a:rPr b="0" lang="en-US" sz="3200" spc="-1" strike="noStrike">
                <a:solidFill>
                  <a:srgbClr val="ff9900"/>
                </a:solidFill>
                <a:latin typeface="方正姚体简体"/>
                <a:ea typeface="方正姚体简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447920"/>
            <a:ext cx="8381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１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“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送来”和“拿来”有什么不同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?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用一句话说明怎样 “拿”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514600"/>
            <a:ext cx="8381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２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“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大宅子”比喻什么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对待文化遗产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,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文章一共列举了几种态度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是怎样说理的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65760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３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.“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拿来主义”者是怎样“挑选”文化遗产的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?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是怎样说理的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648320"/>
            <a:ext cx="8153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４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.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文章结尾共有五个句子组成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,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如果这五句话是五个问题的答案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,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应提哪五个问题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“</a:t>
            </a:r>
            <a:r>
              <a:rPr b="0" lang="zh-CN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拿来”的最终目的是为了什么</a:t>
            </a:r>
            <a:r>
              <a:rPr b="0" lang="en-US" sz="3200" spc="-1" strike="noStrike">
                <a:solidFill>
                  <a:srgbClr val="008080"/>
                </a:solidFill>
                <a:latin typeface="方正舒体简体"/>
                <a:ea typeface="方正舒体简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8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8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9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9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8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4fefe"/>
            </a:gs>
            <a:gs pos="100000">
              <a:srgbClr val="cc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914400" y="609480"/>
            <a:ext cx="2209680" cy="609480"/>
            <a:chOff x="914400" y="609480"/>
            <a:chExt cx="2209680" cy="609480"/>
          </a:xfrm>
        </p:grpSpPr>
        <p:sp>
          <p:nvSpPr>
            <p:cNvPr id="136" name=""/>
            <p:cNvSpPr/>
            <p:nvPr/>
          </p:nvSpPr>
          <p:spPr>
            <a:xfrm>
              <a:off x="914400" y="609480"/>
              <a:ext cx="2209680" cy="609480"/>
            </a:xfrm>
            <a:prstGeom prst="ellipse">
              <a:avLst/>
            </a:prstGeom>
            <a:gradFill rotWithShape="0">
              <a:gsLst>
                <a:gs pos="0">
                  <a:srgbClr val="9966ff"/>
                </a:gs>
                <a:gs pos="50000">
                  <a:srgbClr val="fefefe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6094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方正粗圆简体"/>
                  <a:ea typeface="方正粗圆简体"/>
                </a:rPr>
                <a:t>问题</a:t>
              </a:r>
              <a:r>
                <a:rPr b="0" lang="en-US" sz="2800" spc="-1" strike="noStrike">
                  <a:solidFill>
                    <a:srgbClr val="ff3300"/>
                  </a:solidFill>
                  <a:latin typeface="方正粗圆简体"/>
                  <a:ea typeface="方正粗圆简体"/>
                </a:rPr>
                <a:t>(</a:t>
              </a:r>
              <a:r>
                <a:rPr b="0" lang="zh-CN" sz="2800" spc="-1" strike="noStrike">
                  <a:solidFill>
                    <a:srgbClr val="ff3300"/>
                  </a:solidFill>
                  <a:latin typeface="方正粗圆简体"/>
                  <a:ea typeface="方正粗圆简体"/>
                </a:rPr>
                <a:t>１</a:t>
              </a:r>
              <a:r>
                <a:rPr b="0" lang="en-US" sz="2800" spc="-1" strike="noStrike">
                  <a:solidFill>
                    <a:srgbClr val="ff3300"/>
                  </a:solidFill>
                  <a:latin typeface="方正粗圆简体"/>
                  <a:ea typeface="方正粗圆简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85800" y="13716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44792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方正行楷简体"/>
                <a:ea typeface="方正行楷简体"/>
              </a:rPr>
              <a:t>★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“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送来”和“拿来”有什么不同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?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用一句话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    </a:t>
            </a:r>
            <a:r>
              <a:rPr b="0" lang="zh-CN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明怎样 “拿”</a:t>
            </a:r>
            <a:r>
              <a:rPr b="0" lang="en-US" sz="3200" spc="-1" strike="noStrike">
                <a:solidFill>
                  <a:srgbClr val="cc00ff"/>
                </a:solidFill>
                <a:latin typeface="方正行楷简体"/>
                <a:ea typeface="方正行楷简体"/>
              </a:rPr>
              <a:t>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514600"/>
            <a:ext cx="7086600" cy="2819520"/>
          </a:xfrm>
          <a:prstGeom prst="horizontalScroll">
            <a:avLst>
              <a:gd name="adj" fmla="val 9912"/>
            </a:avLst>
          </a:prstGeom>
          <a:gradFill rotWithShape="0">
            <a:gsLst>
              <a:gs pos="0">
                <a:srgbClr val="339933"/>
              </a:gs>
              <a:gs pos="50000">
                <a:srgbClr val="fefefe"/>
              </a:gs>
              <a:gs pos="100000">
                <a:srgbClr val="339933"/>
              </a:gs>
            </a:gsLst>
            <a:lin ang="5400000"/>
          </a:gradFill>
          <a:ln w="9360">
            <a:solidFill>
              <a:srgbClr val="7869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819520"/>
            <a:ext cx="662940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送来”不等于“拿来”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送来”是被动接受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而“拿来”是主动获取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送来”的是帝国主义剩余的东西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而“拿来”的是经过挑选的有用的东西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4100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我们要</a:t>
            </a:r>
            <a:r>
              <a:rPr b="0" lang="zh-CN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运用脑子</a:t>
            </a:r>
            <a:r>
              <a:rPr b="0" lang="en-US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放出眼光</a:t>
            </a:r>
            <a:r>
              <a:rPr b="0" lang="en-US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,</a:t>
            </a:r>
            <a:r>
              <a:rPr b="0" lang="zh-CN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自己来拿</a:t>
            </a:r>
            <a:r>
              <a:rPr b="0" lang="en-US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019920"/>
            <a:ext cx="3124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-------</a:t>
            </a:r>
            <a:r>
              <a:rPr b="0" lang="zh-CN" sz="3200" spc="-1" strike="noStrike">
                <a:solidFill>
                  <a:srgbClr val="cc99ff"/>
                </a:solidFill>
                <a:latin typeface="方正粗圆简体"/>
                <a:ea typeface="方正粗圆简体"/>
              </a:rPr>
              <a:t>有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60199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--</a:t>
            </a:r>
            <a:r>
              <a:rPr b="0" lang="zh-CN" sz="3200" spc="-1" strike="noStrike">
                <a:solidFill>
                  <a:srgbClr val="9966ff"/>
                </a:solidFill>
                <a:latin typeface="方正粗圆简体"/>
                <a:ea typeface="方正粗圆简体"/>
              </a:rPr>
              <a:t>有鉴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6019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--</a:t>
            </a:r>
            <a:r>
              <a:rPr b="0" lang="zh-CN" sz="3200" spc="-1" strike="noStrike">
                <a:solidFill>
                  <a:srgbClr val="9900ff"/>
                </a:solidFill>
                <a:latin typeface="方正粗圆简体"/>
                <a:ea typeface="方正粗圆简体"/>
              </a:rPr>
              <a:t>有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8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79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79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9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79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79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2:41:41Z</dcterms:created>
  <dc:creator>8888</dc:creator>
  <dc:description/>
  <dc:language>en-US</dc:language>
  <cp:lastModifiedBy>user</cp:lastModifiedBy>
  <dcterms:modified xsi:type="dcterms:W3CDTF">2015-08-07T07:50:00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