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3.jpeg" ContentType="image/jpeg"/>
  <Override PartName="/ppt/media/image15.png" ContentType="image/png"/>
  <Override PartName="/ppt/media/image2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0C0-FBC1-4EA6-B27F-5A7FD800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868C-D415-4C44-B6E3-AE55D070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DEB88-18C0-43AF-995E-D1441DC1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FC284-29F5-4F9B-AEAC-F57D837B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73032-5B84-4145-9A20-FB2DA500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796C5-407C-4B4A-8CB5-AE219B59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A7B0E-0EBB-4FD6-B604-074F628A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44A06-90AA-41FC-8B66-914EDE42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7965B-A3F8-49E2-BB28-545B357C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57256-85D3-4E9F-BE35-939E03E0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2F0DD-96B2-4F8A-A9A8-8793E691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2412E-F2C5-45E1-8BA2-31DCEFBA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344-85D8-41D7-A936-0BEBA069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D4612-2296-4EF6-83B5-77541C48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16503-B534-4021-9A40-C15400DF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16779-7D7F-40D8-AB31-C091888F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DE15F-4842-42A2-9A8A-68BA515C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CCD83-B896-42EA-8055-7C900C26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DF0BD-85AA-4A4D-AB01-30FA4B65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B8F58-FA51-4C2A-9812-077EF888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04119-1127-4FDD-8C62-BD4B9E13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61E84-7B3A-458A-A138-54E0D726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8DD13-D391-4643-A71E-2DFEBEB9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AF3-2295-451B-99EE-F1365FD7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7F494-C9B3-4502-AD59-66772972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B01E6-1E93-488A-AD01-10952074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21A92-A6F1-4596-A1E9-7E507069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BB784-F4C4-4DE4-A0A9-CAD9CD9E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2F898-71C7-46B6-A1B5-1EC341BE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4CA6C-FE6B-4E4B-90E5-7805A6CE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F140D-3346-4596-9D7D-C0C7C5F2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C420F-E1FB-48F1-A1B9-9AB4C118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B6303-340C-4A82-880F-3ECA4C53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375D3-3C7A-4B91-9250-6D5E6121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D54D-FC9B-49E8-BAD5-E9BC9E1B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9BFF6-9086-4FA7-8A72-398D7C24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A2F14-2872-4421-99BE-CB475A86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388C6-6CE0-4481-A558-D1B3B61B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E6C75-58DC-43C6-9962-DFE61BF1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36398-6DDC-4C3F-8F24-BFFE4142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42573-1B5D-4C0F-91F9-95F480F0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43528-E8F5-436A-BED7-9F8E8510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4D99F-4DBF-4606-AD2B-DA8EAA5C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36425-3130-46BB-A4B8-6B744B54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07092-4157-4C81-BDEA-41B9006A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37E2-C71C-4B15-BA9B-397CDAFB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F3AD1-1584-436B-8297-29BF8699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1A757-D097-4F4B-99F5-100DCD1D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AAAA3-01B4-40AE-82A6-1064FAEC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A2478-0AE5-4624-9A90-52627EED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60436-5CBF-47F8-A1E4-D77659A8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93FF8-1383-4916-8A4C-BB166670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F1CE9-F545-4491-A00E-48C870D5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0FB12-38B8-4577-9D66-4FCEE90F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7B081-CAFC-47C5-B74A-64902BCE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636EF-E11F-4198-A914-D5B93CF9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F24F-8FC1-4D9F-8751-C1EAC404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13706-E0EB-4B67-9A24-E6197A4D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B0563-2F76-4507-A13C-549822FF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401F6-131A-4944-951A-634EF316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F63D2-02FA-491D-88F2-6D77006C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EDBB2-1336-4A6C-B43C-2E032E55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61364-7815-4F06-A63C-FFFD74A6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9A942-E9F7-4DA2-BF93-F9A3BCCC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B1F7-BCD3-43D2-8362-5D4EA5F4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7D8E-FFAC-4480-8979-7B432761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9936-50F5-43F0-B4F0-C41BEA75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FD17-E8A2-472D-9E0D-284907C6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14D-37F2-4BCC-A1E3-EFAF731E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8D6B-A752-439B-A345-8A2679E9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F057-095A-44E2-B87E-914E91D7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E09E-C8AA-42AD-99F8-0641E655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EDBF-8D90-4658-9405-407ECF92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8540-78D6-4A47-AFC3-C98305EC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E1417-99E5-4C9F-94EA-23E71E10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C2D68-9AF1-498E-9D36-C9720123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202D-F682-4479-9F6D-AF801BEC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E0AAD-DD0D-4D17-A5E8-BF104829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B9C9-4CE8-46B3-88E6-3961F2AB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10F-A61C-47F7-A2EA-8A7A6920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00131-4F3A-4881-AA59-CC11BA38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4A01-AF7C-4EF3-92D3-839DD4C2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5B16A-2CD8-41E9-87FA-9A7CC5DA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408DC-824D-4B98-82E2-F2B950A8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55476-8871-46A0-BC34-116C3A8E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3644F-09B4-4818-95CD-1F1ED65E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D0DF8-1BBC-460E-A4D5-9838098B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467ED-D2B0-4AFA-A476-737A74A2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4A4DC-4F2C-40C1-8D89-3DA843C1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A8C78-09DA-4B6A-A421-8F4FA629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41B-B895-493C-BEB5-861DD155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8422E-02BF-4158-93DA-3C5C5F06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C61BD-0E5C-4429-B310-70F1D963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81970-E820-444E-8AAA-A5B9E525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1C17-D9D6-43B5-A44C-6CC32FCA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25639-077A-4E6D-9D4F-88441813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A7BD6-0285-47AA-91E3-0EF682D4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D4544-DC45-49AF-8B09-47FC23AA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C22F0-786A-47CC-8FD4-29895D0D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79BF6-B65C-4814-BCA8-481B1897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DD7BE-4C3E-47C8-8B69-41D317E9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44F-109F-4CDF-BB37-B3F66B05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DF073-07C1-4153-8376-8F07F745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11FF1-E220-462D-BEF7-40E7D823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8F8D3-245B-43F2-817E-D12DDDCF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C608C-BE0F-40BA-A092-4AFF6310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21C82-5ECA-478B-BB7D-81D0FC8B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4B985-E2F9-4E1A-B6E8-AB91DE9C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C983A-2675-41D5-88AA-7C990B6B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920E6-3A78-4716-9064-602473B7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073B7-FC23-428B-92E5-8BE460EB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EE5A6-8379-439A-A25B-E0052B00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39A-217B-4637-8E38-8BCBF37B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F13A1-D58F-4EFC-8899-31F8C16E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F82CE-5961-404D-9C80-9F8E3BE7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73385-A586-44DB-8243-266FC8CE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EF61B-9916-4DD3-9666-22F93941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43FCE-C189-453F-822E-8650DC0E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F2B06-BA25-4306-9B2E-B230B9C5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F414C-9A7F-4766-8746-5DAA9C7A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60118-7F78-4146-B411-E801BBEE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0847E-E19A-4DE2-95FE-E6683D09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694F9-19CD-4308-BBD6-4FC3B511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EA1-4312-422F-B01E-394738F8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9D86D-317A-45CD-96F6-65119421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613FF-D6BD-4F10-A174-A18AD847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424C3-5BD0-4C78-89D5-9A00AB5A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D51E1-F48A-415D-8383-5F2CFDE0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74DC6-DEF5-431A-9525-F17C60A1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57F46-4E75-4FB6-9636-29648DE6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F9AAB-4730-48FC-912D-48C250CB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4BBFB-68FB-449B-8C5C-77AB007C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0A40F-7BA7-458E-9770-33C02188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7E6D5-AC0D-4A00-AA4B-B4D4B647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A6C-CDDA-412C-A31E-9201B975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55677-41D1-4434-B5DC-46839D28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77AE4-A48D-4CED-AF7F-64F826C1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03FEC-E63F-4E10-BF50-598FB97A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E517A-DD02-4A7B-A64A-0A0BD67C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4D3B8-F979-4136-9F27-EE9C841A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86E18-414D-4877-A1A0-4858DF9C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8D93F-6435-41DB-8F3B-E1B7F837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7D97E-318E-4BAE-A716-07F44D34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61B58-4018-42B3-B971-3CD3E5D0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38648-98BA-4F50-9911-E7A96C9B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ED7-3B0E-4C7E-8860-5332EE63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EA315-B1CD-4B56-A32F-B9F7BC21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D6F14-4169-4446-A7AC-4153157E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50A34-768F-4257-AF6A-029FC26D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4C673-C872-4BD6-AE2C-A328160D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149D0-FCB2-4D47-9B66-EBD5882C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42F99-4A94-41A0-B9E3-A9D7F92D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559B4-515F-4B06-91EF-41F3D8DD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E8BE4-F76F-45CF-8D39-AD20082C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6B290-00F4-4F32-8FC6-2B0FBD90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D3E46-93DA-4DBC-B3D1-D0D19BA3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2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2.wmf"/><Relationship Id="rId35" Type="http://schemas.openxmlformats.org/officeDocument/2006/relationships/image" Target="../media/image2.wmf"/><Relationship Id="rId36" Type="http://schemas.openxmlformats.org/officeDocument/2006/relationships/image" Target="../media/image2.wmf"/><Relationship Id="rId37" Type="http://schemas.openxmlformats.org/officeDocument/2006/relationships/image" Target="../media/image2.wmf"/><Relationship Id="rId38" Type="http://schemas.openxmlformats.org/officeDocument/2006/relationships/image" Target="../media/image2.wmf"/><Relationship Id="rId39" Type="http://schemas.openxmlformats.org/officeDocument/2006/relationships/image" Target="../media/image2.wmf"/><Relationship Id="rId40" Type="http://schemas.openxmlformats.org/officeDocument/2006/relationships/image" Target="../media/image2.wmf"/><Relationship Id="rId41" Type="http://schemas.openxmlformats.org/officeDocument/2006/relationships/image" Target="../media/image2.wmf"/><Relationship Id="rId42" Type="http://schemas.openxmlformats.org/officeDocument/2006/relationships/image" Target="../media/image2.wmf"/><Relationship Id="rId43" Type="http://schemas.openxmlformats.org/officeDocument/2006/relationships/image" Target="../media/image2.wmf"/><Relationship Id="rId44" Type="http://schemas.openxmlformats.org/officeDocument/2006/relationships/image" Target="../media/image2.wmf"/><Relationship Id="rId45" Type="http://schemas.openxmlformats.org/officeDocument/2006/relationships/image" Target="../media/image2.wmf"/><Relationship Id="rId46" Type="http://schemas.openxmlformats.org/officeDocument/2006/relationships/image" Target="../media/image2.wmf"/><Relationship Id="rId47" Type="http://schemas.openxmlformats.org/officeDocument/2006/relationships/image" Target="../media/image2.wmf"/><Relationship Id="rId48" Type="http://schemas.openxmlformats.org/officeDocument/2006/relationships/image" Target="../media/image2.wmf"/><Relationship Id="rId49" Type="http://schemas.openxmlformats.org/officeDocument/2006/relationships/image" Target="../media/image2.wmf"/><Relationship Id="rId50" Type="http://schemas.openxmlformats.org/officeDocument/2006/relationships/image" Target="../media/image2.wmf"/><Relationship Id="rId51" Type="http://schemas.openxmlformats.org/officeDocument/2006/relationships/image" Target="../media/image2.wmf"/><Relationship Id="rId52" Type="http://schemas.openxmlformats.org/officeDocument/2006/relationships/image" Target="../media/image2.wmf"/><Relationship Id="rId53" Type="http://schemas.openxmlformats.org/officeDocument/2006/relationships/image" Target="../media/image2.wmf"/><Relationship Id="rId54" Type="http://schemas.openxmlformats.org/officeDocument/2006/relationships/image" Target="../media/image2.wmf"/><Relationship Id="rId55" Type="http://schemas.openxmlformats.org/officeDocument/2006/relationships/image" Target="../media/image2.wmf"/><Relationship Id="rId56" Type="http://schemas.openxmlformats.org/officeDocument/2006/relationships/image" Target="../media/image2.wmf"/><Relationship Id="rId57" Type="http://schemas.openxmlformats.org/officeDocument/2006/relationships/image" Target="../media/image2.wmf"/><Relationship Id="rId58" Type="http://schemas.openxmlformats.org/officeDocument/2006/relationships/image" Target="../media/image3.jpeg"/><Relationship Id="rId59" Type="http://schemas.openxmlformats.org/officeDocument/2006/relationships/image" Target="../media/image3.jpeg"/><Relationship Id="rId60" Type="http://schemas.openxmlformats.org/officeDocument/2006/relationships/image" Target="../media/image4.png"/><Relationship Id="rId61" Type="http://schemas.openxmlformats.org/officeDocument/2006/relationships/image" Target="../media/image5.png"/><Relationship Id="rId62" Type="http://schemas.openxmlformats.org/officeDocument/2006/relationships/image" Target="../media/image6.png"/><Relationship Id="rId63" Type="http://schemas.openxmlformats.org/officeDocument/2006/relationships/slideLayout" Target="../slideLayouts/slideLayout145.xml"/><Relationship Id="rId64" Type="http://schemas.openxmlformats.org/officeDocument/2006/relationships/slideLayout" Target="../slideLayouts/slideLayout146.xml"/><Relationship Id="rId65" Type="http://schemas.openxmlformats.org/officeDocument/2006/relationships/slideLayout" Target="../slideLayouts/slideLayout147.xml"/><Relationship Id="rId66" Type="http://schemas.openxmlformats.org/officeDocument/2006/relationships/slideLayout" Target="../slideLayouts/slideLayout148.xml"/><Relationship Id="rId67" Type="http://schemas.openxmlformats.org/officeDocument/2006/relationships/slideLayout" Target="../slideLayouts/slideLayout149.xml"/><Relationship Id="rId68" Type="http://schemas.openxmlformats.org/officeDocument/2006/relationships/slideLayout" Target="../slideLayouts/slideLayout150.xml"/><Relationship Id="rId69" Type="http://schemas.openxmlformats.org/officeDocument/2006/relationships/slideLayout" Target="../slideLayouts/slideLayout151.xml"/><Relationship Id="rId70" Type="http://schemas.openxmlformats.org/officeDocument/2006/relationships/slideLayout" Target="../slideLayouts/slideLayout152.xml"/><Relationship Id="rId71" Type="http://schemas.openxmlformats.org/officeDocument/2006/relationships/slideLayout" Target="../slideLayouts/slideLayout153.xml"/><Relationship Id="rId72" Type="http://schemas.openxmlformats.org/officeDocument/2006/relationships/slideLayout" Target="../slideLayouts/slideLayout154.xml"/><Relationship Id="rId73" Type="http://schemas.openxmlformats.org/officeDocument/2006/relationships/slideLayout" Target="../slideLayouts/slideLayout155.xml"/><Relationship Id="rId7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58C7-C59A-469D-AB35-BACD94BBB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0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2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D89A-C3A9-4487-9476-F3F03360D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8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91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82FE-2BEF-4C02-9EF8-CB19EBF0680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3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3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6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7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7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0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B3DE-6409-4B01-8A6F-42C7F93EAD3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5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5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5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5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57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9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6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7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7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93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0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0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1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1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12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4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20" name="Picture 18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1" name="Picture 19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2" name="Picture 20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3" name="Picture 21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4" name="Picture 22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5" name="Picture 23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6" name="Picture 24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7" name="Picture 25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2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29" name="Picture 27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0" name="Picture 28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1" name="Picture 29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2" name="Picture 30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3" name="Picture 31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4" name="Picture 32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5" name="Picture 33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6" name="Picture 34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7" name="Picture 35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8" name="Picture 36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9" name="Picture 37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0" name="Picture 38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1" name="Picture 39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2" name="Picture 40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3" name="Picture 41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4" name="Picture 42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5" name="Picture 43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6" name="Picture 44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7" name="Picture 45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4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293E-D25E-4416-8AF8-3E24C67CB1D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3"/>
    <p:sldLayoutId id="2147483806" r:id="rId64"/>
    <p:sldLayoutId id="2147483807" r:id="rId65"/>
    <p:sldLayoutId id="2147483808" r:id="rId66"/>
    <p:sldLayoutId id="2147483809" r:id="rId67"/>
    <p:sldLayoutId id="2147483810" r:id="rId68"/>
    <p:sldLayoutId id="2147483811" r:id="rId69"/>
    <p:sldLayoutId id="2147483812" r:id="rId70"/>
    <p:sldLayoutId id="2147483813" r:id="rId71"/>
    <p:sldLayoutId id="2147483814" r:id="rId72"/>
    <p:sldLayoutId id="2147483815" r:id="rId73"/>
    <p:sldLayoutId id="2147483816" r:id="rId7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E5F9-ED15-473D-95AB-00A3A9924A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BEDC-B04C-4B07-81FD-E9B9C42C46E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137F-7458-4439-B76F-30944B933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9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F4B5-C9B5-489F-8816-E870C364321D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37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41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66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4737-40E7-4BA2-BCE3-227BE8102E7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1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1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2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2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22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4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3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3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97C8-6955-4F1A-ACAF-E8CB75ED5E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2F3B-8BDF-4921-9E3A-C6E7487414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5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5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5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6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31FA-E2CE-4715-995A-0216C88CB67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4" descr="200642017132495024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901" name="WordArt 5"/>
          <p:cNvSpPr txBox="1"/>
          <p:nvPr/>
        </p:nvSpPr>
        <p:spPr>
          <a:xfrm>
            <a:off x="1981080" y="1066680"/>
            <a:ext cx="5105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鲁智深倒拔垂杨柳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02" name="Rectangle 7"/>
          <p:cNvSpPr/>
          <p:nvPr/>
        </p:nvSpPr>
        <p:spPr>
          <a:xfrm>
            <a:off x="6705720" y="5867280"/>
            <a:ext cx="2133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施耐庵   罗贯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2" descr=""/>
          <p:cNvPicPr/>
          <p:nvPr/>
        </p:nvPicPr>
        <p:blipFill>
          <a:blip r:embed="rId1"/>
          <a:stretch/>
        </p:blipFill>
        <p:spPr>
          <a:xfrm>
            <a:off x="-228600" y="-25560"/>
            <a:ext cx="9169560" cy="6883560"/>
          </a:xfrm>
          <a:prstGeom prst="rect">
            <a:avLst/>
          </a:prstGeom>
          <a:ln w="0">
            <a:noFill/>
          </a:ln>
        </p:spPr>
      </p:pic>
      <p:sp>
        <p:nvSpPr>
          <p:cNvPr id="926" name="TextBox 2"/>
          <p:cNvSpPr/>
          <p:nvPr/>
        </p:nvSpPr>
        <p:spPr>
          <a:xfrm>
            <a:off x="2133720" y="838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</a:t>
            </a:r>
            <a:r>
              <a:rPr b="1" lang="zh-CN" sz="4800" spc="-1" strike="noStrike">
                <a:solidFill>
                  <a:srgbClr val="0000ff"/>
                </a:solidFill>
                <a:latin typeface="华文隶书"/>
                <a:ea typeface="华文隶书"/>
              </a:rPr>
              <a:t>细读课文，找出有关鲁智深的描写，并分析其性格特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WordArt 5" descr=""/>
          <p:cNvPicPr/>
          <p:nvPr/>
        </p:nvPicPr>
        <p:blipFill>
          <a:blip r:embed="rId2"/>
          <a:stretch/>
        </p:blipFill>
        <p:spPr>
          <a:xfrm>
            <a:off x="2200320" y="609480"/>
            <a:ext cx="1993680" cy="1231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有关鲁智深的描写，及其性格特点。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 </a:t>
            </a:r>
            <a:br>
              <a:rPr sz="36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鲁智深见了，心里早疑忌道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这伙人不三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，又不肯前来，莫不要攧洒家？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”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智深不等他占身，右脚早起，腾的把李四先踢下粪窖里去。张三恰待走，智深左脚早起，两个泼皮都踢在粪窖里挣侧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智深相了一相，走到树前，把直裰脱了，用右手向下，把身倒缴着，却把左手拔住下截，把腰一趁，将那株绿杨树带根拔起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智深先居中坐了，指着众人道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你那伙鸟人，休要瞒洒家，你等都是什么鸟人，来这里戏弄洒家？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” 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     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638320" y="1523880"/>
            <a:ext cx="3505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心理描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粗中有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富有心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动作描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嫉恶如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武艺高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动作描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力大无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语言描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粗鲁直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Calibri"/>
              </a:rPr>
              <a:t>                   </a:t>
            </a: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76312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Cambria"/>
              </a:rPr>
              <a:t>本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通过鲁智深制服大相国寺菜园外二三十个泼皮破落户的故事，表现了鲁智深不惧邪恶、武艺高强、身手不凡、胆大心细的性格特征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33" name="Picture 5" descr="5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934" name="WordArt 13"/>
          <p:cNvSpPr txBox="1"/>
          <p:nvPr/>
        </p:nvSpPr>
        <p:spPr>
          <a:xfrm>
            <a:off x="3962520" y="228600"/>
            <a:ext cx="1523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结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in" orient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Calibri"/>
              </a:rPr>
              <a:t>   </a:t>
            </a:r>
            <a:r>
              <a:rPr b="0" lang="zh-CN" sz="4400" spc="-1" strike="noStrike">
                <a:solidFill>
                  <a:srgbClr val="ffffcc"/>
                </a:solidFill>
                <a:latin typeface="Calibri"/>
              </a:rPr>
              <a:t>鲁智深的其他故事：</a:t>
            </a: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第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  <a:ea typeface="Arial"/>
              </a:rPr>
              <a:t>003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回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  鲁提辖拳打镇关西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第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  <a:ea typeface="Arial"/>
              </a:rPr>
              <a:t>004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回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 鲁智深大闹五台山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第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  <a:ea typeface="Arial"/>
              </a:rPr>
              <a:t>005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回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 花和尚大闹桃花村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第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  <a:ea typeface="Arial"/>
              </a:rPr>
              <a:t>006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回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 鲁智深火烧瓦罐寺</a:t>
            </a:r>
            <a:r>
              <a:rPr b="0" lang="zh-CN" sz="24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952520" y="1752480"/>
            <a:ext cx="4038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第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  <a:ea typeface="Arial"/>
              </a:rPr>
              <a:t>007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回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花和尚倒拔垂杨柳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第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  <a:ea typeface="Arial"/>
              </a:rPr>
              <a:t>008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回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  鲁智深大闹野猪林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第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  <a:ea typeface="Arial"/>
              </a:rPr>
              <a:t>017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回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  花和尚单打二龙山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第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  <a:ea typeface="Arial"/>
              </a:rPr>
              <a:t>099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回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Cambria"/>
                <a:ea typeface="Arial"/>
              </a:rPr>
              <a:t>  鲁智深浙江坐化</a:t>
            </a:r>
            <a:r>
              <a:rPr b="0" lang="zh-CN" sz="24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Cambria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Line 5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WordArt 7"/>
          <p:cNvSpPr txBox="1"/>
          <p:nvPr/>
        </p:nvSpPr>
        <p:spPr>
          <a:xfrm>
            <a:off x="533520" y="0"/>
            <a:ext cx="1371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链接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Calibri"/>
              </a:rPr>
              <a:t>梁山好汉</a:t>
            </a:r>
            <a:r>
              <a:rPr b="0" lang="en-US" sz="4400" spc="-1" strike="noStrike">
                <a:solidFill>
                  <a:srgbClr val="ffffcc"/>
                </a:solidFill>
                <a:latin typeface="Calibri"/>
              </a:rPr>
              <a:t>108</a:t>
            </a:r>
            <a:r>
              <a:rPr b="0" lang="zh-CN" sz="4400" spc="-1" strike="noStrike">
                <a:solidFill>
                  <a:srgbClr val="ffffcc"/>
                </a:solidFill>
                <a:latin typeface="Calibri"/>
              </a:rPr>
              <a:t>将</a:t>
            </a:r>
            <a:endParaRPr b="0" lang="en-US" sz="4400" spc="-1" strike="noStrike">
              <a:solidFill>
                <a:srgbClr val="ffffcc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呼保义－宋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江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玉麒麟－卢俊义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智多星－吴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用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入云龙－公孙胜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豹子头－林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冲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小李广－花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荣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小旋风－柴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进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行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者－武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松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鼓上蚤－时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迁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57440" y="16002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青面兽 － 杨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志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神行太保－戴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宗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黑旋风 － 李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逵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九纹龙 － 史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进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浪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子 －  燕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青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一丈青 － 扈三娘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母大虫 － 顾大嫂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母夜叉 － 孙二娘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花和尚 － 鲁智深</a:t>
            </a:r>
            <a:r>
              <a:rPr b="0" lang="zh-CN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   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      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了解作者及其作品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水浒传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；掌握本课出现的生字词。     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概括本文故事情节。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       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从个性化的语言和传神的动作描写  </a:t>
            </a:r>
            <a:br>
              <a:rPr sz="3200"/>
            </a:b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体会鲁智深的性格特征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  。     </a:t>
            </a:r>
            <a:br>
              <a:rPr sz="3200"/>
            </a:b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  </a:t>
            </a:r>
            <a:br>
              <a:rPr sz="2800"/>
            </a:b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      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4" name="WordArt 3"/>
          <p:cNvSpPr txBox="1"/>
          <p:nvPr/>
        </p:nvSpPr>
        <p:spPr>
          <a:xfrm>
            <a:off x="990720" y="533520"/>
            <a:ext cx="28954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学习目标：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2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7" name="Text Box 4"/>
          <p:cNvSpPr/>
          <p:nvPr/>
        </p:nvSpPr>
        <p:spPr>
          <a:xfrm>
            <a:off x="914400" y="17524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Arial"/>
                <a:ea typeface="华文隶书"/>
              </a:rPr>
              <a:t>写出</a:t>
            </a:r>
            <a:r>
              <a:rPr b="1" lang="en-US" sz="4800" spc="-1" strike="noStrike">
                <a:solidFill>
                  <a:srgbClr val="33cc33"/>
                </a:solidFill>
                <a:latin typeface="Arial"/>
                <a:ea typeface="华文隶书"/>
              </a:rPr>
              <a:t>《</a:t>
            </a:r>
            <a:r>
              <a:rPr b="1" lang="zh-CN" sz="4800" spc="-1" strike="noStrike">
                <a:solidFill>
                  <a:srgbClr val="33cc33"/>
                </a:solidFill>
                <a:latin typeface="Arial"/>
                <a:ea typeface="华文隶书"/>
              </a:rPr>
              <a:t>水浒传</a:t>
            </a:r>
            <a:r>
              <a:rPr b="1" lang="en-US" sz="4800" spc="-1" strike="noStrike">
                <a:solidFill>
                  <a:srgbClr val="33cc33"/>
                </a:solidFill>
                <a:latin typeface="Arial"/>
                <a:ea typeface="华文隶书"/>
              </a:rPr>
              <a:t>》</a:t>
            </a:r>
            <a:r>
              <a:rPr b="1" lang="zh-CN" sz="4800" spc="-1" strike="noStrike">
                <a:solidFill>
                  <a:srgbClr val="33cc33"/>
                </a:solidFill>
                <a:latin typeface="Arial"/>
                <a:ea typeface="华文隶书"/>
              </a:rPr>
              <a:t>中的几位英雄人物及其事迹，并体会其性格特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Picture 2" descr=""/>
          <p:cNvPicPr/>
          <p:nvPr/>
        </p:nvPicPr>
        <p:blipFill>
          <a:blip r:embed="rId1"/>
          <a:stretch/>
        </p:blipFill>
        <p:spPr>
          <a:xfrm>
            <a:off x="25560" y="0"/>
            <a:ext cx="9118440" cy="6891480"/>
          </a:xfrm>
          <a:prstGeom prst="rect">
            <a:avLst/>
          </a:prstGeom>
          <a:ln w="0">
            <a:noFill/>
          </a:ln>
        </p:spPr>
      </p:pic>
      <p:sp>
        <p:nvSpPr>
          <p:cNvPr id="949" name="TextBox 1"/>
          <p:cNvSpPr/>
          <p:nvPr/>
        </p:nvSpPr>
        <p:spPr>
          <a:xfrm>
            <a:off x="2451240" y="2286000"/>
            <a:ext cx="426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2e2e00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2e2e00"/>
                </a:solidFill>
                <a:latin typeface="Arial"/>
              </a:rPr>
              <a:t>结   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2e2e00"/>
                </a:solidFill>
                <a:latin typeface="Arial"/>
              </a:rPr>
              <a:t>谢谢观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1" name="WordArt 7" descr=""/>
          <p:cNvPicPr/>
          <p:nvPr/>
        </p:nvPicPr>
        <p:blipFill>
          <a:blip r:embed="rId3"/>
          <a:stretch/>
        </p:blipFill>
        <p:spPr>
          <a:xfrm>
            <a:off x="2590920" y="2182680"/>
            <a:ext cx="4114800" cy="477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2" descr=""/>
          <p:cNvPicPr/>
          <p:nvPr/>
        </p:nvPicPr>
        <p:blipFill>
          <a:blip r:embed="rId1"/>
          <a:stretch/>
        </p:blipFill>
        <p:spPr>
          <a:xfrm>
            <a:off x="25560" y="0"/>
            <a:ext cx="9118440" cy="6891480"/>
          </a:xfrm>
          <a:prstGeom prst="rect">
            <a:avLst/>
          </a:prstGeom>
          <a:ln w="0">
            <a:noFill/>
          </a:ln>
        </p:spPr>
      </p:pic>
      <p:sp>
        <p:nvSpPr>
          <p:cNvPr id="953" name="TextBox 1"/>
          <p:cNvSpPr/>
          <p:nvPr/>
        </p:nvSpPr>
        <p:spPr>
          <a:xfrm>
            <a:off x="2451240" y="2286000"/>
            <a:ext cx="426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2e2e00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2e2e00"/>
                </a:solidFill>
                <a:latin typeface="Arial"/>
              </a:rPr>
              <a:t>结   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2e2e00"/>
                </a:solidFill>
                <a:latin typeface="Arial"/>
              </a:rPr>
              <a:t>谢谢观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5" name="WordArt 7"/>
          <p:cNvSpPr txBox="1"/>
          <p:nvPr/>
        </p:nvSpPr>
        <p:spPr>
          <a:xfrm>
            <a:off x="2590920" y="2209680"/>
            <a:ext cx="4114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观赏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   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      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了解作者及其作品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水浒传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；掌握本课出现的生字词。     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概括本文故事情节。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       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从个性化的语言和传神的动作描写  </a:t>
            </a:r>
            <a:br>
              <a:rPr sz="3200"/>
            </a:b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体会鲁智深的性格特征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  。     </a:t>
            </a:r>
            <a:br>
              <a:rPr sz="3200"/>
            </a:b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  </a:t>
            </a:r>
            <a:br>
              <a:rPr sz="2800"/>
            </a:b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      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4" name="WordArt 5"/>
          <p:cNvSpPr txBox="1"/>
          <p:nvPr/>
        </p:nvSpPr>
        <p:spPr>
          <a:xfrm>
            <a:off x="990720" y="533520"/>
            <a:ext cx="28954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学习目标：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6" name="TextBox 2"/>
          <p:cNvSpPr/>
          <p:nvPr/>
        </p:nvSpPr>
        <p:spPr>
          <a:xfrm>
            <a:off x="1217520" y="1397160"/>
            <a:ext cx="727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施耐庵，生平事迹不详，一般认为是元末明初人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纪以来，江苏兴化地区陆续出现一些有关资料，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施耐庵墓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施耐庵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墓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他生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9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死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7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曾中进士，在钱塘做过两年官，与当道不合，弃官回乡，从事著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贯中，名本，别号湖海散人。生卒年不详。太原清源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今太原市清徐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其祖籍四川成都府。后因原籍水灾且路远途遥，落籍太原清源，迁居城西白马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今白石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寺沟村。其父罗锦生有六子，贯中行居第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WordArt 6"/>
          <p:cNvSpPr txBox="1"/>
          <p:nvPr/>
        </p:nvSpPr>
        <p:spPr>
          <a:xfrm>
            <a:off x="3429000" y="533520"/>
            <a:ext cx="2438280" cy="76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作者简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9" name="TextBox 2"/>
          <p:cNvSpPr/>
          <p:nvPr/>
        </p:nvSpPr>
        <p:spPr>
          <a:xfrm>
            <a:off x="1219320" y="1793880"/>
            <a:ext cx="701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我国第一部描写农民起义的长篇章回小说，作者施耐庵、罗贯中。全书围绕“官逼民反”这一线索展开情节，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。表现了一群不堪暴政欺压的“好汉”揭杆而起，聚义水泊梁山，直至接受招安致使起义失败的全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其高度的艺术表现力，生动丰富的文学语言，叙述了许多引人入胜的故事，塑造了众多可爱的个性鲜明的英雄形象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WordArt 7" descr=""/>
          <p:cNvPicPr/>
          <p:nvPr/>
        </p:nvPicPr>
        <p:blipFill>
          <a:blip r:embed="rId2"/>
          <a:stretch/>
        </p:blipFill>
        <p:spPr>
          <a:xfrm>
            <a:off x="2505240" y="189000"/>
            <a:ext cx="4292280" cy="1274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2" descr=""/>
          <p:cNvPicPr/>
          <p:nvPr/>
        </p:nvPicPr>
        <p:blipFill>
          <a:blip r:embed="rId1"/>
          <a:stretch/>
        </p:blipFill>
        <p:spPr>
          <a:xfrm>
            <a:off x="-12600" y="-7920"/>
            <a:ext cx="9169200" cy="6883560"/>
          </a:xfrm>
          <a:prstGeom prst="rect">
            <a:avLst/>
          </a:prstGeom>
          <a:ln w="0">
            <a:noFill/>
          </a:ln>
        </p:spPr>
      </p:pic>
      <p:sp>
        <p:nvSpPr>
          <p:cNvPr id="912" name="WordArt 5"/>
          <p:cNvSpPr txBox="1"/>
          <p:nvPr/>
        </p:nvSpPr>
        <p:spPr>
          <a:xfrm>
            <a:off x="3276720" y="1752480"/>
            <a:ext cx="31240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本文背景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4" name="TextBox 2"/>
          <p:cNvSpPr/>
          <p:nvPr/>
        </p:nvSpPr>
        <p:spPr>
          <a:xfrm>
            <a:off x="1219320" y="1738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"/>
          <p:cNvSpPr/>
          <p:nvPr/>
        </p:nvSpPr>
        <p:spPr>
          <a:xfrm>
            <a:off x="1028880" y="36360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话说鲁达到五台山落发为僧，智真长老赐 法号智深。后由于鲁智 深两次酒后大闹僧堂，长老又把他推荐到东京相 国寺，投奔智清禅师，为其讨个职事僧做。大相国寺酸枣门外，廨宇后有片菜园，经常被营内军健及门外二十来个破落户侵害 ，纵放羊马。一个老和尚在那里住持，难以管制。于是就让鲁智深 去管这片菜园子。那天，菜园附近的几个破落户泼皮又来偷菜，看见廨门上新挂一道库司榜文，上说：“大相国寺仰委管菜园僧人鲁智深前来住持，自明日为始掌管，并不许闲杂人等入园搅扰。”那几个泼皮看了便去与众破落户商议并设下计策，要寻衅打鲁智深以使鲁智深服输，再任由他们胡作非为。结果会怎样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读课文，掌握字词：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6775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Verdana"/>
              </a:rPr>
              <a:t>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宇  </a:t>
            </a:r>
            <a:r>
              <a:rPr b="1" lang="zh-CN" sz="3200" spc="-1" strike="noStrike">
                <a:solidFill>
                  <a:srgbClr val="66ff33"/>
                </a:solidFill>
                <a:latin typeface="Verdana"/>
              </a:rPr>
              <a:t>兀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直</a:t>
            </a:r>
            <a:r>
              <a:rPr b="1" lang="zh-CN" sz="3200" spc="-1" strike="noStrike">
                <a:solidFill>
                  <a:srgbClr val="66ff33"/>
                </a:solidFill>
                <a:latin typeface="Verdana"/>
              </a:rPr>
              <a:t>裰  </a:t>
            </a:r>
            <a:r>
              <a:rPr b="1" lang="en-US" sz="32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66ff33"/>
                </a:solidFill>
                <a:latin typeface="Verdana"/>
              </a:rPr>
              <a:t>恁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地    </a:t>
            </a:r>
            <a:r>
              <a:rPr b="1" lang="zh-CN" sz="3200" spc="-1" strike="noStrike">
                <a:solidFill>
                  <a:srgbClr val="66ff33"/>
                </a:solidFill>
                <a:latin typeface="Verdana"/>
              </a:rPr>
              <a:t>秽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Verdana"/>
              </a:rPr>
              <a:t>攧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姓</a:t>
            </a:r>
            <a:r>
              <a:rPr b="1" lang="zh-CN" sz="3200" spc="-1" strike="noStrike">
                <a:solidFill>
                  <a:srgbClr val="66ff33"/>
                </a:solidFill>
                <a:latin typeface="Verdana"/>
              </a:rPr>
              <a:t>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x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 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ù 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uō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è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   hu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ì  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ā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 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    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8" name="Picture 5" descr="图片1"/>
          <p:cNvPicPr/>
          <p:nvPr/>
        </p:nvPicPr>
        <p:blipFill>
          <a:blip r:embed="rId1"/>
          <a:stretch/>
        </p:blipFill>
        <p:spPr>
          <a:xfrm>
            <a:off x="0" y="3578400"/>
            <a:ext cx="9144000" cy="3279600"/>
          </a:xfrm>
          <a:prstGeom prst="rect">
            <a:avLst/>
          </a:prstGeom>
          <a:ln w="0">
            <a:noFill/>
          </a:ln>
        </p:spPr>
      </p:pic>
      <p:sp>
        <p:nvSpPr>
          <p:cNvPr id="919" name="WordArt 21"/>
          <p:cNvSpPr txBox="1"/>
          <p:nvPr/>
        </p:nvSpPr>
        <p:spPr>
          <a:xfrm>
            <a:off x="457200" y="-228600"/>
            <a:ext cx="3200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一读：   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strips dir="l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彩云"/>
              </a:rPr>
              <a:t>用自己的话概括本文写了哪几件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21" name="Picture 5" descr="图片1"/>
          <p:cNvPicPr/>
          <p:nvPr/>
        </p:nvPicPr>
        <p:blipFill>
          <a:blip r:embed="rId1"/>
          <a:stretch/>
        </p:blipFill>
        <p:spPr>
          <a:xfrm>
            <a:off x="0" y="2697120"/>
            <a:ext cx="9144000" cy="4160880"/>
          </a:xfrm>
          <a:prstGeom prst="rect">
            <a:avLst/>
          </a:prstGeom>
          <a:ln w="0">
            <a:noFill/>
          </a:ln>
        </p:spPr>
      </p:pic>
      <p:sp>
        <p:nvSpPr>
          <p:cNvPr id="922" name="WordArt 5"/>
          <p:cNvSpPr txBox="1"/>
          <p:nvPr/>
        </p:nvSpPr>
        <p:spPr>
          <a:xfrm>
            <a:off x="380880" y="0"/>
            <a:ext cx="228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二读：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</a:rPr>
              <a:t>本文写了两件事</a:t>
            </a: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:</a:t>
            </a:r>
            <a:br>
              <a:rPr sz="1900"/>
            </a:b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  <a:ea typeface="叶根友神工体"/>
              </a:rPr>
              <a:t>①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叶根友神工体"/>
              </a:rPr>
              <a:t>鲁智深打败众泼皮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叶根友神工体"/>
              </a:rPr>
              <a:t>②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叶根友神工体"/>
              </a:rPr>
              <a:t>鲁智深倒拔垂杨柳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叶根友神工体"/>
              </a:rPr>
              <a:t> 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hn</cp:lastModifiedBy>
  <dcterms:modified xsi:type="dcterms:W3CDTF">2011-06-19T02:48:5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