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radarChart>
        <c:radarStyle val="fill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dab02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12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b3e43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axId val="7404797"/>
        <c:axId val="80316862"/>
      </c:radarChart>
      <c:catAx>
        <c:axId val="7404797"/>
        <c:scaling>
          <c:orientation val="maxMin"/>
        </c:scaling>
        <c:delete val="1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[$-409]mm/dd/yyyy" sourceLinked="1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80316862"/>
        <c:auto val="1"/>
        <c:lblAlgn val="ctr"/>
        <c:lblOffset val="100"/>
        <c:noMultiLvlLbl val="0"/>
      </c:catAx>
      <c:valAx>
        <c:axId val="8031686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cross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b3e43d"/>
                </a:solidFill>
                <a:latin typeface="Calibri"/>
                <a:ea typeface="微软雅黑"/>
              </a:defRPr>
            </a:pPr>
          </a:p>
        </c:txPr>
        <c:crossAx val="7404797"/>
        <c:crosses val="autoZero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17A-2CDE-4426-9134-E7257373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3EE-ABAA-40AF-ADD9-5746D0A6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BB8-166C-4BD8-8305-39D8E01B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F7F-D71F-4F75-B935-34CF6DD7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6B4-0CCB-4A87-8AD4-552242EE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86CF-00AE-4BB5-BE15-9D12214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F7D0-7EDA-4729-8663-9873B48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A33-E7DA-4597-95AF-D5297354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E5A4-0E17-4C95-B139-80E68A3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BF85-6B0C-47FF-8C97-3DC69413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C60E-8DD2-47D8-A4A4-F424CDD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585-D5A3-44A7-A792-D7929ED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7086-78FD-40F4-B826-FFB9B5E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8F5F-B464-4F1E-BE4F-B89A9CD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D5B-D3EA-4F5F-865A-043FFCE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80C-ECA0-464F-9185-D0D0B4A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43A-7B7B-463F-8B89-33CA26BD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C717-577C-406B-8C8B-DF469C9A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6692-DFFB-4423-949A-CDCD34C5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90CD-7285-4CB9-B967-C73FF5CC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24A7-62EC-4630-82FD-36A042D7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3090-A002-45D0-959C-B88EF004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DE2-233E-4E7C-B90D-F6F9AEE7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8E06-3039-4151-B6E7-CBAE26CC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225C-EDE3-4805-9A70-4F9FA18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7E96-06B4-4190-A371-C194BBC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B794-4A99-45A9-BD92-4566D20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A060-21BC-4C3C-B07A-27311859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10DC-B074-4C18-B132-D5829619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0A30-EE12-4A8D-8236-2D65BADD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B8C-742B-4A08-B70B-7E7B4FF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E15-6C71-4400-A892-8121030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E06-107A-40F2-BEDC-E557DF2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5EC-BB45-44A4-B8E2-030DBB51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BC2-7027-478D-AC34-9E2ED7E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2CA-6907-4BFF-8E13-A48219A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3640" cy="170028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1700640"/>
            <a:ext cx="9143640" cy="314964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375B2-AF8C-46FA-A5A9-7EA8DB71D92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流程图: 数据 8"/>
          <p:cNvSpPr/>
          <p:nvPr/>
        </p:nvSpPr>
        <p:spPr>
          <a:xfrm rot="845400">
            <a:off x="8291520" y="2004120"/>
            <a:ext cx="578160" cy="295344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704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" name="流程图: 数据 12"/>
          <p:cNvSpPr/>
          <p:nvPr/>
        </p:nvSpPr>
        <p:spPr>
          <a:xfrm rot="19689600">
            <a:off x="5262480" y="1689480"/>
            <a:ext cx="503640" cy="367020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428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" name="流程图: 数据 13"/>
          <p:cNvSpPr/>
          <p:nvPr/>
        </p:nvSpPr>
        <p:spPr>
          <a:xfrm rot="20375400">
            <a:off x="6221880" y="1783440"/>
            <a:ext cx="503640" cy="329472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497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" name="流程图: 数据 14"/>
          <p:cNvSpPr/>
          <p:nvPr/>
        </p:nvSpPr>
        <p:spPr>
          <a:xfrm rot="505200">
            <a:off x="7491240" y="1785960"/>
            <a:ext cx="503640" cy="329472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670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" name="矩形 10"/>
          <p:cNvSpPr/>
          <p:nvPr/>
        </p:nvSpPr>
        <p:spPr>
          <a:xfrm rot="10800000">
            <a:off x="360" y="4714560"/>
            <a:ext cx="9143640" cy="214308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10" name="Picture 5" descr="C:\Users\Administrator\Desktop\4.png"/>
          <p:cNvPicPr/>
          <p:nvPr/>
        </p:nvPicPr>
        <p:blipFill>
          <a:blip r:embed="rId2"/>
          <a:stretch/>
        </p:blipFill>
        <p:spPr>
          <a:xfrm>
            <a:off x="5004000" y="1339200"/>
            <a:ext cx="3959640" cy="39596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A1E14F-C89E-44A4-B502-FCEDA992012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0" y="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" name="矩形 7"/>
          <p:cNvSpPr/>
          <p:nvPr/>
        </p:nvSpPr>
        <p:spPr>
          <a:xfrm rot="10800000">
            <a:off x="360" y="1182240"/>
            <a:ext cx="9143640" cy="567540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51640" y="836640"/>
            <a:ext cx="8640720" cy="58755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12708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Administrator\Desktop\2.png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61139-202C-4F9C-B204-A113FCFAAC3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0" y="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0" name="矩形 7"/>
          <p:cNvSpPr/>
          <p:nvPr/>
        </p:nvSpPr>
        <p:spPr>
          <a:xfrm rot="10800000">
            <a:off x="360" y="1182240"/>
            <a:ext cx="9143640" cy="567540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1" name="矩形 8"/>
          <p:cNvSpPr/>
          <p:nvPr/>
        </p:nvSpPr>
        <p:spPr>
          <a:xfrm rot="10800000">
            <a:off x="-1800" y="567576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51640" y="836640"/>
            <a:ext cx="8640720" cy="50979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12708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3" name="矩形 12"/>
          <p:cNvSpPr/>
          <p:nvPr/>
        </p:nvSpPr>
        <p:spPr>
          <a:xfrm rot="10800000">
            <a:off x="251640" y="5675760"/>
            <a:ext cx="8640720" cy="258840"/>
          </a:xfrm>
          <a:prstGeom prst="rect">
            <a:avLst/>
          </a:prstGeom>
          <a:gradFill rotWithShape="0">
            <a:gsLst>
              <a:gs pos="35000">
                <a:srgbClr val="ffffff"/>
              </a:gs>
              <a:gs pos="100000">
                <a:srgbClr val="f1f1f1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直角三角形 13"/>
          <p:cNvSpPr/>
          <p:nvPr/>
        </p:nvSpPr>
        <p:spPr>
          <a:xfrm rot="16200000">
            <a:off x="8399880" y="5391720"/>
            <a:ext cx="258840" cy="215640"/>
          </a:xfrm>
          <a:prstGeom prst="rtTriangle">
            <a:avLst/>
          </a:prstGeom>
          <a:gradFill rotWithShape="0">
            <a:gsLst>
              <a:gs pos="1000">
                <a:srgbClr val="67a502"/>
              </a:gs>
              <a:gs pos="100000">
                <a:srgbClr val="b3e43d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5" name="斜纹 15"/>
          <p:cNvSpPr/>
          <p:nvPr/>
        </p:nvSpPr>
        <p:spPr>
          <a:xfrm rot="10800000">
            <a:off x="8284320" y="5218560"/>
            <a:ext cx="596880" cy="716400"/>
          </a:xfrm>
          <a:prstGeom prst="diagStripe">
            <a:avLst>
              <a:gd name="adj" fmla="val 65063"/>
            </a:avLst>
          </a:prstGeom>
          <a:gradFill rotWithShape="0">
            <a:gsLst>
              <a:gs pos="0">
                <a:srgbClr val="3d6100"/>
              </a:gs>
              <a:gs pos="100000">
                <a:srgbClr val="66a5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pic>
        <p:nvPicPr>
          <p:cNvPr id="106" name="Picture 2" descr="C:\Users\Administrator\Desktop\未标题-1.png"/>
          <p:cNvPicPr/>
          <p:nvPr/>
        </p:nvPicPr>
        <p:blipFill>
          <a:blip r:embed="rId2"/>
          <a:stretch/>
        </p:blipFill>
        <p:spPr>
          <a:xfrm>
            <a:off x="2123640" y="2391120"/>
            <a:ext cx="1986840" cy="198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7640" y="22194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39640" y="3515400"/>
            <a:ext cx="6400440" cy="60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611640" y="1873800"/>
            <a:ext cx="172440" cy="172440"/>
          </a:xfrm>
          <a:prstGeom prst="ellipse">
            <a:avLst/>
          </a:prstGeom>
          <a:solidFill>
            <a:srgbClr val="b3e4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6" name="椭圆 4"/>
          <p:cNvSpPr/>
          <p:nvPr/>
        </p:nvSpPr>
        <p:spPr>
          <a:xfrm>
            <a:off x="907920" y="1873800"/>
            <a:ext cx="172440" cy="172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6840720" y="0"/>
            <a:ext cx="2181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模板下载：</a:t>
            </a:r>
            <a:r>
              <a:rPr b="0" lang="en-US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www.1ppt.com/moban/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圆角矩形标注 3"/>
          <p:cNvSpPr/>
          <p:nvPr/>
        </p:nvSpPr>
        <p:spPr>
          <a:xfrm>
            <a:off x="3275640" y="211644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555640" y="211644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799800" y="219060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标注 7"/>
          <p:cNvSpPr/>
          <p:nvPr/>
        </p:nvSpPr>
        <p:spPr>
          <a:xfrm>
            <a:off x="3275640" y="30834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555640" y="308340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3799800" y="315756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标注 10"/>
          <p:cNvSpPr/>
          <p:nvPr/>
        </p:nvSpPr>
        <p:spPr>
          <a:xfrm>
            <a:off x="3275640" y="39474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555640" y="394740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3799800" y="402192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标注 13"/>
          <p:cNvSpPr/>
          <p:nvPr/>
        </p:nvSpPr>
        <p:spPr>
          <a:xfrm>
            <a:off x="3284280" y="48978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2555640" y="4897800"/>
            <a:ext cx="58428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808440" y="497232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8000" y="3246480"/>
            <a:ext cx="1656000" cy="6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 cap="all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7800" y="3754800"/>
            <a:ext cx="244620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148000" y="3358440"/>
            <a:ext cx="122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7"/>
          <p:cNvCxnSpPr/>
          <p:nvPr/>
        </p:nvCxnSpPr>
        <p:spPr>
          <a:xfrm>
            <a:off x="3995640" y="3246120"/>
            <a:ext cx="360" cy="518760"/>
          </a:xfrm>
          <a:prstGeom prst="straightConnector1">
            <a:avLst/>
          </a:prstGeom>
          <a:ln w="38100">
            <a:solidFill>
              <a:srgbClr val="6dab02"/>
            </a:solidFill>
            <a:round/>
          </a:ln>
        </p:spPr>
      </p:cxnSp>
      <p:cxnSp>
        <p:nvCxnSpPr>
          <p:cNvPr id="165" name="直接连接符 11"/>
          <p:cNvCxnSpPr/>
          <p:nvPr/>
        </p:nvCxnSpPr>
        <p:spPr>
          <a:xfrm>
            <a:off x="3995640" y="3764520"/>
            <a:ext cx="3168720" cy="360"/>
          </a:xfrm>
          <a:prstGeom prst="straightConnector1">
            <a:avLst/>
          </a:prstGeom>
          <a:ln>
            <a:solidFill>
              <a:srgbClr val="67a502"/>
            </a:solidFill>
            <a:round/>
          </a:ln>
        </p:spPr>
      </p:cxnSp>
      <p:sp>
        <p:nvSpPr>
          <p:cNvPr id="166" name="椭圆 12"/>
          <p:cNvSpPr/>
          <p:nvPr/>
        </p:nvSpPr>
        <p:spPr>
          <a:xfrm>
            <a:off x="3736800" y="2737800"/>
            <a:ext cx="518040" cy="518040"/>
          </a:xfrm>
          <a:prstGeom prst="ellipse">
            <a:avLst/>
          </a:prstGeom>
          <a:solidFill>
            <a:srgbClr val="67a5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第一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图表 3"/>
          <p:cNvGraphicFramePr/>
          <p:nvPr/>
        </p:nvGraphicFramePr>
        <p:xfrm>
          <a:off x="1883880" y="1758240"/>
          <a:ext cx="5135760" cy="410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" name="椭圆 8"/>
          <p:cNvSpPr/>
          <p:nvPr/>
        </p:nvSpPr>
        <p:spPr>
          <a:xfrm>
            <a:off x="4280760" y="174744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70" name="直接连接符 10"/>
          <p:cNvCxnSpPr/>
          <p:nvPr/>
        </p:nvCxnSpPr>
        <p:spPr>
          <a:xfrm>
            <a:off x="4770720" y="209988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1" name="直接连接符 11"/>
          <p:cNvCxnSpPr/>
          <p:nvPr/>
        </p:nvCxnSpPr>
        <p:spPr>
          <a:xfrm>
            <a:off x="6228000" y="342900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2" name="直接连接符 12"/>
          <p:cNvCxnSpPr/>
          <p:nvPr/>
        </p:nvCxnSpPr>
        <p:spPr>
          <a:xfrm>
            <a:off x="5634720" y="547848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3" name="直接连接符 13"/>
          <p:cNvCxnSpPr/>
          <p:nvPr/>
        </p:nvCxnSpPr>
        <p:spPr>
          <a:xfrm>
            <a:off x="1043280" y="340164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4" name="直接连接符 14"/>
          <p:cNvCxnSpPr/>
          <p:nvPr/>
        </p:nvCxnSpPr>
        <p:spPr>
          <a:xfrm>
            <a:off x="1691640" y="5476680"/>
            <a:ext cx="17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75" name="标题 3"/>
          <p:cNvSpPr/>
          <p:nvPr/>
        </p:nvSpPr>
        <p:spPr>
          <a:xfrm>
            <a:off x="4843080" y="174744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标题 3"/>
          <p:cNvSpPr/>
          <p:nvPr/>
        </p:nvSpPr>
        <p:spPr>
          <a:xfrm>
            <a:off x="6499080" y="307044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标题 3"/>
          <p:cNvSpPr/>
          <p:nvPr/>
        </p:nvSpPr>
        <p:spPr>
          <a:xfrm>
            <a:off x="5868000" y="513108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标题 3"/>
          <p:cNvSpPr/>
          <p:nvPr/>
        </p:nvSpPr>
        <p:spPr>
          <a:xfrm>
            <a:off x="1482120" y="513108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标题 3"/>
          <p:cNvSpPr/>
          <p:nvPr/>
        </p:nvSpPr>
        <p:spPr>
          <a:xfrm>
            <a:off x="683640" y="304596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0"/>
          <p:cNvSpPr/>
          <p:nvPr/>
        </p:nvSpPr>
        <p:spPr>
          <a:xfrm>
            <a:off x="6084360" y="310356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1" name="椭圆 21"/>
          <p:cNvSpPr/>
          <p:nvPr/>
        </p:nvSpPr>
        <p:spPr>
          <a:xfrm>
            <a:off x="5403240" y="520848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2" name="椭圆 22"/>
          <p:cNvSpPr/>
          <p:nvPr/>
        </p:nvSpPr>
        <p:spPr>
          <a:xfrm>
            <a:off x="3222000" y="519048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3" name="椭圆 23"/>
          <p:cNvSpPr/>
          <p:nvPr/>
        </p:nvSpPr>
        <p:spPr>
          <a:xfrm>
            <a:off x="2484000" y="305604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7640" y="22194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大家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9640" y="3515400"/>
            <a:ext cx="6400440" cy="60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sp>
        <p:nvSpPr>
          <p:cNvPr id="186" name="椭圆 3"/>
          <p:cNvSpPr/>
          <p:nvPr/>
        </p:nvSpPr>
        <p:spPr>
          <a:xfrm>
            <a:off x="611640" y="1873800"/>
            <a:ext cx="172440" cy="172440"/>
          </a:xfrm>
          <a:prstGeom prst="ellipse">
            <a:avLst/>
          </a:prstGeom>
          <a:solidFill>
            <a:srgbClr val="b3e4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7" name="椭圆 4"/>
          <p:cNvSpPr/>
          <p:nvPr/>
        </p:nvSpPr>
        <p:spPr>
          <a:xfrm>
            <a:off x="907920" y="1873800"/>
            <a:ext cx="172440" cy="172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  <Words>60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9:27Z</dcterms:created>
  <dc:creator>王琳</dc:creator>
  <dc:description/>
  <dc:language>en-US</dc:language>
  <cp:lastModifiedBy>Sky123.Org</cp:lastModifiedBy>
  <dcterms:modified xsi:type="dcterms:W3CDTF">2015-07-30T07:34:56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