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DCB-2876-439C-A507-F9E2084E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CEB2-5F5F-453F-AFB5-FBCE6283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0C5D-2CAD-4366-A42C-8228DEEB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470-E2C8-4115-B76C-07D4477A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77EB-5D16-41EF-9698-BEF6E59F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6A9A-0986-4605-84A0-76E17151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7179-FA1F-413B-9DE5-67F13518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8D43-3B5B-4D46-8D54-BC028D43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E8A0-8F34-4B8F-A240-486E139F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8676-5695-4039-B90C-CEF1BD7F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0358-C45A-4007-8FEB-1853BCCC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AAC-2715-4AE8-9C0D-8251B38B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4E9B-88CB-4EB2-B320-9CE74EFE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B80F-AD36-47F0-B170-E01D294F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C7B6-8693-4CCF-B3CF-817934BB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0ECE-00E1-43DA-85D4-ABCADB17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7729-17AB-40D1-BE8F-058965AE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33CB8-AEC2-4762-8435-ED029D0E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423D5-7ABF-4CB6-838B-5C2E3CEF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9125D-99B8-48A6-BC93-06BDA7F2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8DDB3-2F3A-4D69-8F36-4CBA70C9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2EDD7-7D42-4B1C-9C36-53DD1A46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F009-FE76-4DF4-89E5-E623BDC3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139A8-9997-409D-A5BB-9CB07B4D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892C3-8D97-4F5E-BA51-1817C713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0BB3D-19EF-4FC6-B299-DD5DE835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5FC29-974F-4C86-AA72-2151401E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F4B53-9603-4B11-B2D8-AA1FCECD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653EC-655C-4842-B4F9-21620F0F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FD5E1-F4C7-4B0F-9421-F75E5DC2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EBAB-C9E1-4FFC-9944-A84A7161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FB9C-1641-4068-82DA-5B9209FF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1DB9-975D-43F2-990F-10069EA8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66C5-ABA6-49CF-BBBC-6A7F5087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9B4C-9A01-4E26-A1C9-F84804D1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4DE2-B33B-40E6-8E15-3600FCBC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C5E9-C235-416D-B5CB-91DD647048F4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A277-6BEC-47D8-94C6-F5E9101EAF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CAFB-D556-4A8B-A87A-1CA43BD593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6.jpeg"/><Relationship Id="rId7" Type="http://schemas.openxmlformats.org/officeDocument/2006/relationships/image" Target="../media/image14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14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b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/>
          <p:cNvSpPr/>
          <p:nvPr/>
        </p:nvSpPr>
        <p:spPr>
          <a:xfrm rot="21480000">
            <a:off x="2457360" y="-21960"/>
            <a:ext cx="4765680" cy="656136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 rot="20940000">
            <a:off x="2902320" y="1089000"/>
            <a:ext cx="3530160" cy="3020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ffff"/>
                </a:solidFill>
                <a:latin typeface="Arial"/>
                <a:ea typeface="微软雅黑"/>
              </a:rPr>
              <a:t>够范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ffff"/>
                </a:solidFill>
                <a:latin typeface="Arial"/>
                <a:ea typeface="微软雅黑"/>
              </a:rPr>
              <a:t>你就来</a:t>
            </a:r>
            <a:r>
              <a:rPr b="1" i="1" lang="zh-CN" sz="9600" spc="-1" strike="noStrike">
                <a:solidFill>
                  <a:srgbClr val="ffffff"/>
                </a:solidFill>
                <a:latin typeface="Arial"/>
                <a:ea typeface="微软雅黑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5813280"/>
            <a:ext cx="3672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作品名称：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作者姓名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kazek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 rot="20880000">
            <a:off x="3862800" y="4189320"/>
            <a:ext cx="296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首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设计大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52428" t="23605" r="16667" b="32405"/>
          <a:stretch/>
        </p:blipFill>
        <p:spPr>
          <a:xfrm>
            <a:off x="6791400" y="1665360"/>
            <a:ext cx="2388960" cy="1776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-31680" y="1741320"/>
            <a:ext cx="2711520" cy="2365560"/>
          </a:xfrm>
          <a:prstGeom prst="rect">
            <a:avLst/>
          </a:prstGeom>
          <a:ln w="0">
            <a:noFill/>
          </a:ln>
        </p:spPr>
      </p:pic>
      <p:pic>
        <p:nvPicPr>
          <p:cNvPr id="129" name="E:\临时文件\WPS主题PPT大赛 宣传策划\图\2.png2" descr=""/>
          <p:cNvPicPr/>
          <p:nvPr/>
        </p:nvPicPr>
        <p:blipFill>
          <a:blip r:embed="rId4"/>
          <a:stretch/>
        </p:blipFill>
        <p:spPr>
          <a:xfrm>
            <a:off x="7748640" y="6450120"/>
            <a:ext cx="1295280" cy="322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7672320" y="6033960"/>
            <a:ext cx="1586160" cy="341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86440" y="609120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主办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86440" y="642780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协办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20820000">
            <a:off x="4094640" y="3987720"/>
            <a:ext cx="179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wps.cn/zt/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64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写作品信息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此页非设计模板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"/>
                            </p:stCondLst>
                            <p:childTnLst>
                              <p:par>
                                <p:cTn id="12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900"/>
                            </p:stCondLst>
                            <p:childTnLst>
                              <p:par>
                                <p:cTn id="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78 0.010361 L 0.009787 0.045146 L -0.013744 0.045146 L -0.001978 0.010361 Z">
                                      <p:cBhvr>
                                        <p:cTn id="19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b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 rot="21480000">
            <a:off x="7165800" y="4530240"/>
            <a:ext cx="1498680" cy="217800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</a:rPr>
              <a:t>请在此页阐述作品设计理念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（此页非设计模板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34880" y="1601640"/>
            <a:ext cx="82058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设计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选用了小清新的颜色以及花朵的形象，给人以美丽、轻松自在的感觉，有助于放松紧张的的心情，缓解压力。该模板简洁明了、实用，板块安排合理。在采用该模板制作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的时候能给人一个轻松愉快的心情。充分体现了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轻松办公、快乐办公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的主题思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图片来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</a:rPr>
              <a:t>所用图片均为原创，未采用任何网络素材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 rot="20940000">
            <a:off x="7071840" y="4982760"/>
            <a:ext cx="1602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够范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你就来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 rot="20940000">
            <a:off x="7392240" y="5954760"/>
            <a:ext cx="156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首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设计大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" dur="2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"/>
                            </p:stCondLst>
                            <p:childTnLst>
                              <p:par>
                                <p:cTn id="40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83073 0.16213 E">
                                      <p:cBhvr>
                                        <p:cTn id="402" dur="2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1" dur="2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2" nodeType="with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78 0.010361 L 0.009787 0.045146 L -0.013744 0.045146 L -0.001978 0.010361 Z">
                                      <p:cBhvr>
                                        <p:cTn id="413" dur="3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101520" y="-76320"/>
            <a:ext cx="9283680" cy="6961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37402" t="38709" r="35835" b="21386"/>
          <a:stretch/>
        </p:blipFill>
        <p:spPr>
          <a:xfrm>
            <a:off x="3060720" y="2298600"/>
            <a:ext cx="2685960" cy="3002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0" t="73942" r="80252" b="0"/>
          <a:stretch/>
        </p:blipFill>
        <p:spPr>
          <a:xfrm>
            <a:off x="-103320" y="5045040"/>
            <a:ext cx="1974960" cy="1959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rcRect l="15764" t="54593" r="59031" b="0"/>
          <a:stretch/>
        </p:blipFill>
        <p:spPr>
          <a:xfrm>
            <a:off x="1476360" y="3862440"/>
            <a:ext cx="2270160" cy="3068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rcRect l="57472" t="47832" r="17331" b="2142"/>
          <a:stretch/>
        </p:blipFill>
        <p:spPr>
          <a:xfrm>
            <a:off x="5627520" y="3139920"/>
            <a:ext cx="2544840" cy="3791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rcRect l="79591" t="60241" r="0" b="0"/>
          <a:stretch/>
        </p:blipFill>
        <p:spPr>
          <a:xfrm>
            <a:off x="7254720" y="4222800"/>
            <a:ext cx="1854360" cy="2709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rcRect l="34764" t="46457" r="32283" b="0"/>
          <a:stretch/>
        </p:blipFill>
        <p:spPr>
          <a:xfrm>
            <a:off x="2844720" y="2997360"/>
            <a:ext cx="3167280" cy="3862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rcRect l="22228" t="22509" r="20976" b="13837"/>
          <a:stretch/>
        </p:blipFill>
        <p:spPr>
          <a:xfrm>
            <a:off x="1692360" y="1254240"/>
            <a:ext cx="5327640" cy="44798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rcRect l="37402" t="38709" r="35835" b="21386"/>
          <a:stretch/>
        </p:blipFill>
        <p:spPr>
          <a:xfrm>
            <a:off x="3276720" y="2227320"/>
            <a:ext cx="2685960" cy="3002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rcRect l="34764" t="46457" r="32283" b="0"/>
          <a:stretch/>
        </p:blipFill>
        <p:spPr>
          <a:xfrm>
            <a:off x="3060720" y="2997360"/>
            <a:ext cx="3166920" cy="3862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rcRect l="22228" t="22509" r="20976" b="13837"/>
          <a:stretch/>
        </p:blipFill>
        <p:spPr>
          <a:xfrm>
            <a:off x="1908000" y="1197000"/>
            <a:ext cx="5328000" cy="4479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469320" y="20750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b05"/>
                </a:solidFill>
                <a:latin typeface="Arial"/>
              </a:rPr>
              <a:t>par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93120" y="20750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b05"/>
                </a:solidFill>
                <a:latin typeface="Arial"/>
              </a:rPr>
              <a:t>par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98000" y="34225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b05"/>
                </a:solidFill>
                <a:latin typeface="Arial"/>
              </a:rPr>
              <a:t>par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61120" y="34225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b05"/>
                </a:solidFill>
                <a:latin typeface="Arial"/>
              </a:rPr>
              <a:t>part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24600" y="46465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b05"/>
                </a:solidFill>
                <a:latin typeface="Arial"/>
              </a:rPr>
              <a:t>part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93120" y="46465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b05"/>
                </a:solidFill>
                <a:latin typeface="Arial"/>
              </a:rPr>
              <a:t>par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4167 -0.005556 L 0.004167 -0.007407 L 0.008333 -0.007407 L 0.009722 -0.009259 L 0.011111 -0.009259 L 0.0125 -0.011111 L 0.013889 -0.011111 L 0.015278 -0.014815 L 0.020833 -0.014815 L 0.022222 -0.016667 L 0.033333 -0.016667 L 0.034722 -0.014815 L 0.038889 -0.014815 L 0.040278 -0.011111 L 0.041667 -0.011111 L 0.043056 -0.009259 L 0.045833 -0.009259 L 0.048611 -0.005556 L 0.05 -0.005556 L 0.058333 0.005556 L 0.058333 0.007407 L 0.061111 0.011111 L 0.061111 0.012963 L 0.0625 0.014815 L 0.0625 0.018519 L 0.063889 0.022222 L 0.063889 0.025926 L 0.065278 0.027778 L 0.065278 0.040741 L 0.066667 0.042593 L 0.066667 0.046296 L 0.065278 0.048148 L 0.065278 0.061111 L 0.063889 0.062963 L 0.063889 0.064815 L 0.0625 0.066667 L 0.0625 0.068519 L 0.061111 0.072222 L 0.061111 0.075926 L 0.058333 0.07963 L 0.058333 0.081481 L 0.048611 0.094444 L 0.047222 0.094444 L 0.045833 0.096296 L 0.043056 0.096296 L 0.041667 0.098148 L 0.040278 0.098148 L 0.038889 0.1 L 0.036111 0.1 L 0.034722 0.101852 L 0.020833 0.101852 L 0.018056 0.1 L 0.015278 0.1 L 0.013889 0.098148 L 0.011111 0.098148 L 0.009722 0.096296 L 0.008333 0.096296 L -0.004167 0.07963 L -0.004167 0.077778 L -0.008333 0.074074 L -0.008333 0.072222 L -0.009722 0.068519 L -0.009722 0.064815 L -0.011111 0.062963 L -0.011111 0.057407 L -0.0125 0.055556 L -0.0125 0.031481 L -0.011111 0.02963 L -0.011111 0.024074 L -0.009722 0.022222 L -0.009722 0.018519 L -0.008333 0.016667 L -0.008333 0.012963 L -0.004167 0.009259 L -0.004167 0.007407 L -0.001389 0.001852 L 0 0 Z">
                                      <p:cBhvr>
                                        <p:cTn id="9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4167 -0.005556 L 0.004167 -0.007407 L 0.008333 -0.007407 L 0.009722 -0.009259 L 0.011111 -0.009259 L 0.0125 -0.011111 L 0.013889 -0.011111 L 0.015278 -0.014815 L 0.020833 -0.014815 L 0.022222 -0.016667 L 0.033333 -0.016667 L 0.034722 -0.014815 L 0.038889 -0.014815 L 0.040278 -0.011111 L 0.041667 -0.011111 L 0.043056 -0.009259 L 0.045833 -0.009259 L 0.048611 -0.005556 L 0.05 -0.005556 L 0.058333 0.005556 L 0.058333 0.007407 L 0.061111 0.011111 L 0.061111 0.012963 L 0.0625 0.014815 L 0.0625 0.018519 L 0.063889 0.022222 L 0.063889 0.025926 L 0.065278 0.027778 L 0.065278 0.040741 L 0.066667 0.042593 L 0.066667 0.046296 L 0.065278 0.048148 L 0.065278 0.061111 L 0.063889 0.062963 L 0.063889 0.064815 L 0.0625 0.066667 L 0.0625 0.068519 L 0.061111 0.072222 L 0.061111 0.075926 L 0.058333 0.07963 L 0.058333 0.081481 L 0.048611 0.094444 L 0.047222 0.094444 L 0.045833 0.096296 L 0.043056 0.096296 L 0.041667 0.098148 L 0.040278 0.098148 L 0.038889 0.1 L 0.036111 0.1 L 0.034722 0.101852 L 0.020833 0.101852 L 0.018056 0.1 L 0.015278 0.1 L 0.013889 0.098148 L 0.011111 0.098148 L 0.009722 0.096296 L 0.008333 0.096296 L -0.004167 0.07963 L -0.004167 0.077778 L -0.008333 0.074074 L -0.008333 0.072222 L -0.009722 0.068519 L -0.009722 0.064815 L -0.011111 0.062963 L -0.011111 0.057407 L -0.0125 0.055556 L -0.0125 0.031481 L -0.011111 0.02963 L -0.011111 0.024074 L -0.009722 0.022222 L -0.009722 0.018519 L -0.008333 0.016667 L -0.008333 0.012963 L -0.004167 0.009259 L -0.004167 0.007407 L -0.001389 0.001852 L 0 0 Z">
                                      <p:cBhvr>
                                        <p:cTn id="96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4167 -0.005556 L 0.004167 -0.007407 L 0.008333 -0.007407 L 0.009722 -0.009259 L 0.011111 -0.009259 L 0.0125 -0.011111 L 0.013889 -0.011111 L 0.015278 -0.014815 L 0.020833 -0.014815 L 0.022222 -0.016667 L 0.033333 -0.016667 L 0.034722 -0.014815 L 0.038889 -0.014815 L 0.040278 -0.011111 L 0.041667 -0.011111 L 0.043056 -0.009259 L 0.045833 -0.009259 L 0.048611 -0.005556 L 0.05 -0.005556 L 0.058333 0.005556 L 0.058333 0.007407 L 0.061111 0.011111 L 0.061111 0.012963 L 0.0625 0.014815 L 0.0625 0.018519 L 0.063889 0.022222 L 0.063889 0.025926 L 0.065278 0.027778 L 0.065278 0.040741 L 0.066667 0.042593 L 0.066667 0.046296 L 0.065278 0.048148 L 0.065278 0.061111 L 0.063889 0.062963 L 0.063889 0.064815 L 0.0625 0.066667 L 0.0625 0.068519 L 0.061111 0.072222 L 0.061111 0.075926 L 0.058333 0.07963 L 0.058333 0.081481 L 0.048611 0.094444 L 0.047222 0.094444 L 0.045833 0.096296 L 0.043056 0.096296 L 0.041667 0.098148 L 0.040278 0.098148 L 0.038889 0.1 L 0.036111 0.1 L 0.034722 0.101852 L 0.020833 0.101852 L 0.018056 0.1 L 0.015278 0.1 L 0.013889 0.098148 L 0.011111 0.098148 L 0.009722 0.096296 L 0.008333 0.096296 L -0.004167 0.07963 L -0.004167 0.077778 L -0.008333 0.074074 L -0.008333 0.072222 L -0.009722 0.068519 L -0.009722 0.064815 L -0.011111 0.062963 L -0.011111 0.057407 L -0.0125 0.055556 L -0.0125 0.031481 L -0.011111 0.02963 L -0.011111 0.024074 L -0.009722 0.022222 L -0.009722 0.018519 L -0.008333 0.016667 L -0.008333 0.012963 L -0.004167 0.009259 L -0.004167 0.007407 L -0.001389 0.001852 L 0 0 Z">
                                      <p:cBhvr>
                                        <p:cTn id="102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4167 -0.005556 L 0.004167 -0.007407 L 0.008333 -0.007407 L 0.009722 -0.009259 L 0.011111 -0.009259 L 0.0125 -0.011111 L 0.013889 -0.011111 L 0.015278 -0.014815 L 0.020833 -0.014815 L 0.022222 -0.016667 L 0.033333 -0.016667 L 0.034722 -0.014815 L 0.038889 -0.014815 L 0.040278 -0.011111 L 0.041667 -0.011111 L 0.043056 -0.009259 L 0.045833 -0.009259 L 0.048611 -0.005556 L 0.05 -0.005556 L 0.058333 0.005556 L 0.058333 0.007407 L 0.061111 0.011111 L 0.061111 0.012963 L 0.0625 0.014815 L 0.0625 0.018519 L 0.063889 0.022222 L 0.063889 0.025926 L 0.065278 0.027778 L 0.065278 0.040741 L 0.066667 0.042593 L 0.066667 0.046296 L 0.065278 0.048148 L 0.065278 0.061111 L 0.063889 0.062963 L 0.063889 0.064815 L 0.0625 0.066667 L 0.0625 0.068519 L 0.061111 0.072222 L 0.061111 0.075926 L 0.058333 0.07963 L 0.058333 0.081481 L 0.048611 0.094444 L 0.047222 0.094444 L 0.045833 0.096296 L 0.043056 0.096296 L 0.041667 0.098148 L 0.040278 0.098148 L 0.038889 0.1 L 0.036111 0.1 L 0.034722 0.101852 L 0.020833 0.101852 L 0.018056 0.1 L 0.015278 0.1 L 0.013889 0.098148 L 0.011111 0.098148 L 0.009722 0.096296 L 0.008333 0.096296 L -0.004167 0.07963 L -0.004167 0.077778 L -0.008333 0.074074 L -0.008333 0.072222 L -0.009722 0.068519 L -0.009722 0.064815 L -0.011111 0.062963 L -0.011111 0.057407 L -0.0125 0.055556 L -0.0125 0.031481 L -0.011111 0.02963 L -0.011111 0.024074 L -0.009722 0.022222 L -0.009722 0.018519 L -0.008333 0.016667 L -0.008333 0.012963 L -0.004167 0.009259 L -0.004167 0.007407 L -0.001389 0.001852 L 0 0 Z">
                                      <p:cBhvr>
                                        <p:cTn id="108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4167 -0.005556 L 0.004167 -0.007407 L 0.008333 -0.007407 L 0.009722 -0.009259 L 0.011111 -0.009259 L 0.0125 -0.011111 L 0.013889 -0.011111 L 0.015278 -0.014815 L 0.020833 -0.014815 L 0.022222 -0.016667 L 0.033333 -0.016667 L 0.034722 -0.014815 L 0.038889 -0.014815 L 0.040278 -0.011111 L 0.041667 -0.011111 L 0.043056 -0.009259 L 0.045833 -0.009259 L 0.048611 -0.005556 L 0.05 -0.005556 L 0.058333 0.005556 L 0.058333 0.007407 L 0.061111 0.011111 L 0.061111 0.012963 L 0.0625 0.014815 L 0.0625 0.018519 L 0.063889 0.022222 L 0.063889 0.025926 L 0.065278 0.027778 L 0.065278 0.040741 L 0.066667 0.042593 L 0.066667 0.046296 L 0.065278 0.048148 L 0.065278 0.061111 L 0.063889 0.062963 L 0.063889 0.064815 L 0.0625 0.066667 L 0.0625 0.068519 L 0.061111 0.072222 L 0.061111 0.075926 L 0.058333 0.07963 L 0.058333 0.081481 L 0.048611 0.094444 L 0.047222 0.094444 L 0.045833 0.096296 L 0.043056 0.096296 L 0.041667 0.098148 L 0.040278 0.098148 L 0.038889 0.1 L 0.036111 0.1 L 0.034722 0.101852 L 0.020833 0.101852 L 0.018056 0.1 L 0.015278 0.1 L 0.013889 0.098148 L 0.011111 0.098148 L 0.009722 0.096296 L 0.008333 0.096296 L -0.004167 0.07963 L -0.004167 0.077778 L -0.008333 0.074074 L -0.008333 0.072222 L -0.009722 0.068519 L -0.009722 0.064815 L -0.011111 0.062963 L -0.011111 0.057407 L -0.0125 0.055556 L -0.0125 0.031481 L -0.011111 0.02963 L -0.011111 0.024074 L -0.009722 0.022222 L -0.009722 0.018519 L -0.008333 0.016667 L -0.008333 0.012963 L -0.004167 0.009259 L -0.004167 0.007407 L -0.001389 0.001852 L 0 0 Z">
                                      <p:cBhvr>
                                        <p:cTn id="114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4167 -0.005556 L 0.004167 -0.007407 L 0.008333 -0.007407 L 0.009722 -0.009259 L 0.011111 -0.009259 L 0.0125 -0.011111 L 0.013889 -0.011111 L 0.015278 -0.014815 L 0.020833 -0.014815 L 0.022222 -0.016667 L 0.033333 -0.016667 L 0.034722 -0.014815 L 0.038889 -0.014815 L 0.040278 -0.011111 L 0.041667 -0.011111 L 0.043056 -0.009259 L 0.045833 -0.009259 L 0.048611 -0.005556 L 0.05 -0.005556 L 0.058333 0.005556 L 0.058333 0.007407 L 0.061111 0.011111 L 0.061111 0.012963 L 0.0625 0.014815 L 0.0625 0.018519 L 0.063889 0.022222 L 0.063889 0.025926 L 0.065278 0.027778 L 0.065278 0.040741 L 0.066667 0.042593 L 0.066667 0.046296 L 0.065278 0.048148 L 0.065278 0.061111 L 0.063889 0.062963 L 0.063889 0.064815 L 0.0625 0.066667 L 0.0625 0.068519 L 0.061111 0.072222 L 0.061111 0.075926 L 0.058333 0.07963 L 0.058333 0.081481 L 0.048611 0.094444 L 0.047222 0.094444 L 0.045833 0.096296 L 0.043056 0.096296 L 0.041667 0.098148 L 0.040278 0.098148 L 0.038889 0.1 L 0.036111 0.1 L 0.034722 0.101852 L 0.020833 0.101852 L 0.018056 0.1 L 0.015278 0.1 L 0.013889 0.098148 L 0.011111 0.098148 L 0.009722 0.096296 L 0.008333 0.096296 L -0.004167 0.07963 L -0.004167 0.077778 L -0.008333 0.074074 L -0.008333 0.072222 L -0.009722 0.068519 L -0.009722 0.064815 L -0.011111 0.062963 L -0.011111 0.057407 L -0.0125 0.055556 L -0.0125 0.031481 L -0.011111 0.02963 L -0.011111 0.024074 L -0.009722 0.022222 L -0.009722 0.018519 L -0.008333 0.016667 L -0.008333 0.012963 L -0.004167 0.009259 L -0.004167 0.007407 L -0.001389 0.001852 L 0 0 Z">
                                      <p:cBhvr>
                                        <p:cTn id="120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28440" y="0"/>
            <a:ext cx="9172440" cy="6881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rcRect l="74488" t="25753" r="0" b="0"/>
          <a:stretch/>
        </p:blipFill>
        <p:spPr>
          <a:xfrm>
            <a:off x="8353440" y="4294080"/>
            <a:ext cx="790560" cy="1727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rcRect l="74488" t="25753" r="0" b="0"/>
          <a:stretch/>
        </p:blipFill>
        <p:spPr>
          <a:xfrm>
            <a:off x="7759800" y="4726080"/>
            <a:ext cx="593640" cy="1295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rcRect l="74488" t="25753" r="0" b="0"/>
          <a:stretch/>
        </p:blipFill>
        <p:spPr>
          <a:xfrm>
            <a:off x="444600" y="4726080"/>
            <a:ext cx="593640" cy="1295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rcRect l="74488" t="25753" r="0" b="0"/>
          <a:stretch/>
        </p:blipFill>
        <p:spPr>
          <a:xfrm>
            <a:off x="49320" y="4510080"/>
            <a:ext cx="691920" cy="1511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327480" y="409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6"/>
          <a:srcRect l="0" t="50931" r="0" b="38339"/>
          <a:stretch/>
        </p:blipFill>
        <p:spPr>
          <a:xfrm>
            <a:off x="-28440" y="6045120"/>
            <a:ext cx="91724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-28440" y="0"/>
            <a:ext cx="9172440" cy="6881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rcRect l="74488" t="25753" r="0" b="0"/>
          <a:stretch/>
        </p:blipFill>
        <p:spPr>
          <a:xfrm>
            <a:off x="8353440" y="4294080"/>
            <a:ext cx="790560" cy="1727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rcRect l="74488" t="25753" r="0" b="0"/>
          <a:stretch/>
        </p:blipFill>
        <p:spPr>
          <a:xfrm>
            <a:off x="7759800" y="4726080"/>
            <a:ext cx="593640" cy="1295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rcRect l="74488" t="25753" r="0" b="0"/>
          <a:stretch/>
        </p:blipFill>
        <p:spPr>
          <a:xfrm>
            <a:off x="444600" y="4726080"/>
            <a:ext cx="593640" cy="1295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rcRect l="74488" t="25753" r="0" b="0"/>
          <a:stretch/>
        </p:blipFill>
        <p:spPr>
          <a:xfrm>
            <a:off x="49320" y="4510080"/>
            <a:ext cx="691920" cy="1511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327480" y="409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6"/>
          <a:srcRect l="40945" t="45795" r="38583" b="31118"/>
          <a:stretch/>
        </p:blipFill>
        <p:spPr>
          <a:xfrm>
            <a:off x="444600" y="1808280"/>
            <a:ext cx="468360" cy="396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rcRect l="40945" t="45795" r="38583" b="31118"/>
          <a:stretch/>
        </p:blipFill>
        <p:spPr>
          <a:xfrm>
            <a:off x="444600" y="2852640"/>
            <a:ext cx="468360" cy="397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rcRect l="40945" t="45795" r="38583" b="31118"/>
          <a:stretch/>
        </p:blipFill>
        <p:spPr>
          <a:xfrm>
            <a:off x="457200" y="3860640"/>
            <a:ext cx="468360" cy="397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rcRect l="0" t="50931" r="0" b="38339"/>
          <a:stretch/>
        </p:blipFill>
        <p:spPr>
          <a:xfrm>
            <a:off x="912960" y="1736640"/>
            <a:ext cx="7559640" cy="468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0"/>
          <a:srcRect l="0" t="50931" r="0" b="38339"/>
          <a:stretch/>
        </p:blipFill>
        <p:spPr>
          <a:xfrm>
            <a:off x="-28440" y="6045120"/>
            <a:ext cx="9172440" cy="836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67320" y="183816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要点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1"/>
          <a:srcRect l="0" t="50931" r="0" b="38339"/>
          <a:stretch/>
        </p:blipFill>
        <p:spPr>
          <a:xfrm>
            <a:off x="925560" y="2781360"/>
            <a:ext cx="7559640" cy="468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2"/>
          <a:srcRect l="0" t="50931" r="0" b="38339"/>
          <a:stretch/>
        </p:blipFill>
        <p:spPr>
          <a:xfrm>
            <a:off x="912960" y="3860640"/>
            <a:ext cx="7559640" cy="468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67320" y="285264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要点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67320" y="386064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要点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458640"/>
            <a:ext cx="9144000" cy="1241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79280" y="208080"/>
            <a:ext cx="244800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rcRect l="74488" t="25753" r="0" b="0"/>
          <a:stretch/>
        </p:blipFill>
        <p:spPr>
          <a:xfrm>
            <a:off x="8353440" y="4294080"/>
            <a:ext cx="790560" cy="1727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rcRect l="74488" t="25753" r="0" b="0"/>
          <a:stretch/>
        </p:blipFill>
        <p:spPr>
          <a:xfrm>
            <a:off x="7759800" y="4726080"/>
            <a:ext cx="593640" cy="1295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rcRect l="74488" t="25753" r="0" b="0"/>
          <a:stretch/>
        </p:blipFill>
        <p:spPr>
          <a:xfrm>
            <a:off x="444600" y="4726080"/>
            <a:ext cx="593640" cy="1295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rcRect l="74488" t="25753" r="0" b="0"/>
          <a:stretch/>
        </p:blipFill>
        <p:spPr>
          <a:xfrm>
            <a:off x="49320" y="4510080"/>
            <a:ext cx="691920" cy="1511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1038240" y="1700280"/>
            <a:ext cx="4470480" cy="468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rcRect l="0" t="50931" r="0" b="38339"/>
          <a:stretch/>
        </p:blipFill>
        <p:spPr>
          <a:xfrm>
            <a:off x="2627280" y="2781360"/>
            <a:ext cx="4321080" cy="468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8"/>
          <a:stretch/>
        </p:blipFill>
        <p:spPr>
          <a:xfrm>
            <a:off x="4356000" y="3825720"/>
            <a:ext cx="4498920" cy="468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9"/>
          <a:srcRect l="0" t="0" r="90630" b="0"/>
          <a:stretch/>
        </p:blipFill>
        <p:spPr>
          <a:xfrm>
            <a:off x="444600" y="1700280"/>
            <a:ext cx="419040" cy="468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0"/>
          <a:srcRect l="0" t="50931" r="96504" b="38339"/>
          <a:stretch/>
        </p:blipFill>
        <p:spPr>
          <a:xfrm>
            <a:off x="2089080" y="2781360"/>
            <a:ext cx="395280" cy="468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1"/>
          <a:srcRect l="0" t="0" r="90630" b="0"/>
          <a:stretch/>
        </p:blipFill>
        <p:spPr>
          <a:xfrm>
            <a:off x="3780000" y="3825720"/>
            <a:ext cx="419040" cy="468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771480" y="54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rcRect l="74488" t="25753" r="0" b="0"/>
          <a:stretch/>
        </p:blipFill>
        <p:spPr>
          <a:xfrm>
            <a:off x="8353440" y="4294080"/>
            <a:ext cx="790560" cy="1727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rcRect l="74488" t="25753" r="0" b="0"/>
          <a:stretch/>
        </p:blipFill>
        <p:spPr>
          <a:xfrm>
            <a:off x="7759800" y="4726080"/>
            <a:ext cx="593640" cy="1295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rcRect l="74488" t="25753" r="0" b="0"/>
          <a:stretch/>
        </p:blipFill>
        <p:spPr>
          <a:xfrm>
            <a:off x="444600" y="4726080"/>
            <a:ext cx="593640" cy="1295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rcRect l="74488" t="25753" r="0" b="0"/>
          <a:stretch/>
        </p:blipFill>
        <p:spPr>
          <a:xfrm>
            <a:off x="49320" y="4510080"/>
            <a:ext cx="691920" cy="1511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327480" y="409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5"/>
          <a:srcRect l="40945" t="45795" r="38583" b="31118"/>
          <a:stretch/>
        </p:blipFill>
        <p:spPr>
          <a:xfrm>
            <a:off x="444600" y="1808280"/>
            <a:ext cx="468360" cy="3967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rcRect l="40945" t="45795" r="38583" b="31118"/>
          <a:stretch/>
        </p:blipFill>
        <p:spPr>
          <a:xfrm>
            <a:off x="444600" y="2852640"/>
            <a:ext cx="468360" cy="397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rcRect l="40945" t="45795" r="38583" b="31118"/>
          <a:stretch/>
        </p:blipFill>
        <p:spPr>
          <a:xfrm>
            <a:off x="457200" y="3860640"/>
            <a:ext cx="468360" cy="397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rcRect l="0" t="50931" r="0" b="38339"/>
          <a:stretch/>
        </p:blipFill>
        <p:spPr>
          <a:xfrm>
            <a:off x="912960" y="1736640"/>
            <a:ext cx="7559640" cy="468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rcRect l="0" t="50931" r="0" b="38339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967320" y="183816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要点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0"/>
          <a:srcRect l="0" t="50931" r="0" b="38339"/>
          <a:stretch/>
        </p:blipFill>
        <p:spPr>
          <a:xfrm>
            <a:off x="925560" y="2781360"/>
            <a:ext cx="7559640" cy="468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1"/>
          <a:srcRect l="0" t="50931" r="0" b="38339"/>
          <a:stretch/>
        </p:blipFill>
        <p:spPr>
          <a:xfrm>
            <a:off x="912960" y="3860640"/>
            <a:ext cx="7559640" cy="468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967320" y="285264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要点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67320" y="386064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要点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011480" y="17701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b05"/>
                </a:solidFill>
                <a:latin typeface="Arial"/>
                <a:ea typeface="经典综艺体简"/>
              </a:rPr>
              <a:t>谢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32920" y="2570040"/>
            <a:ext cx="157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ANKS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Dell</cp:lastModifiedBy>
  <dcterms:modified xsi:type="dcterms:W3CDTF">2015-08-11T03:07:07Z</dcterms:modified>
  <cp:revision>10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