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282D-EA77-42C1-99EA-A3A96C63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C595-DF9A-4DB9-A31A-BF104B3C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081-2465-48D9-836B-35A456E3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3AD7-EF55-4F55-8D63-FD340A1D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46A1-05E5-4FA1-A934-0B06E06E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764-11E7-45EE-9B39-726D4126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537-D909-4923-B7C7-6D4E87CC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6A21-DDD4-4F22-8D28-BF4575D4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29BD-C571-47FB-A4D0-07118145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299-0477-4C00-8A0F-8EF520DA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77D-7390-458E-8C52-B739EE24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569F-FBA5-4E9F-A3A9-F9CC356F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99E2-65D4-4A8B-B8B6-2898A9D8E9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4286160" y="2533680"/>
            <a:ext cx="485784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环保绿化及相关类别演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4357800" y="2928960"/>
            <a:ext cx="235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9"/>
          <p:cNvSpPr/>
          <p:nvPr/>
        </p:nvSpPr>
        <p:spPr>
          <a:xfrm>
            <a:off x="2314440" y="3954600"/>
            <a:ext cx="835200" cy="847440"/>
          </a:xfrm>
          <a:prstGeom prst="rect">
            <a:avLst/>
          </a:prstGeom>
          <a:solidFill>
            <a:srgbClr val="c8d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0"/>
          <p:cNvSpPr/>
          <p:nvPr/>
        </p:nvSpPr>
        <p:spPr>
          <a:xfrm>
            <a:off x="2314440" y="3105000"/>
            <a:ext cx="812880" cy="858960"/>
          </a:xfrm>
          <a:prstGeom prst="rect">
            <a:avLst/>
          </a:prstGeom>
          <a:solidFill>
            <a:srgbClr val="5899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1"/>
          <p:cNvSpPr/>
          <p:nvPr/>
        </p:nvSpPr>
        <p:spPr>
          <a:xfrm>
            <a:off x="2314440" y="2271600"/>
            <a:ext cx="812880" cy="844560"/>
          </a:xfrm>
          <a:prstGeom prst="rect">
            <a:avLst/>
          </a:prstGeom>
          <a:solidFill>
            <a:srgbClr val="c8d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2"/>
          <p:cNvSpPr/>
          <p:nvPr/>
        </p:nvSpPr>
        <p:spPr>
          <a:xfrm>
            <a:off x="2314440" y="1428840"/>
            <a:ext cx="812880" cy="847800"/>
          </a:xfrm>
          <a:prstGeom prst="rect">
            <a:avLst/>
          </a:prstGeom>
          <a:solidFill>
            <a:srgbClr val="5899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8"/>
          <p:cNvSpPr/>
          <p:nvPr/>
        </p:nvSpPr>
        <p:spPr>
          <a:xfrm>
            <a:off x="3127320" y="1428840"/>
            <a:ext cx="690480" cy="1074600"/>
          </a:xfrm>
          <a:custGeom>
            <a:avLst/>
            <a:gdLst/>
            <a:ahLst/>
            <a:rect l="l" t="t" r="r" b="b"/>
            <a:pathLst>
              <a:path w="1826712" h="1280593">
                <a:moveTo>
                  <a:pt x="0" y="0"/>
                </a:moveTo>
                <a:lnTo>
                  <a:pt x="1826712" y="555625"/>
                </a:lnTo>
                <a:lnTo>
                  <a:pt x="1826712" y="1280593"/>
                </a:lnTo>
                <a:lnTo>
                  <a:pt x="0" y="1007543"/>
                </a:lnTo>
                <a:lnTo>
                  <a:pt x="0" y="0"/>
                </a:lnTo>
                <a:close/>
              </a:path>
            </a:pathLst>
          </a:custGeom>
          <a:solidFill>
            <a:srgbClr val="5899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8"/>
          <p:cNvSpPr/>
          <p:nvPr/>
        </p:nvSpPr>
        <p:spPr>
          <a:xfrm>
            <a:off x="3127320" y="2273400"/>
            <a:ext cx="690480" cy="844560"/>
          </a:xfrm>
          <a:custGeom>
            <a:avLst/>
            <a:gdLst/>
            <a:ahLst/>
            <a:rect l="l" t="t" r="r" b="b"/>
            <a:pathLst>
              <a:path w="1829887" h="1007543">
                <a:moveTo>
                  <a:pt x="0" y="0"/>
                </a:moveTo>
                <a:lnTo>
                  <a:pt x="1829887" y="273050"/>
                </a:lnTo>
                <a:cubicBezTo>
                  <a:pt x="1828829" y="608898"/>
                  <a:pt x="1830151" y="667727"/>
                  <a:pt x="1829093" y="1003575"/>
                </a:cubicBezTo>
                <a:lnTo>
                  <a:pt x="0" y="1007543"/>
                </a:lnTo>
                <a:lnTo>
                  <a:pt x="0" y="0"/>
                </a:lnTo>
                <a:close/>
              </a:path>
            </a:pathLst>
          </a:custGeom>
          <a:solidFill>
            <a:srgbClr val="c8d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8"/>
          <p:cNvSpPr/>
          <p:nvPr/>
        </p:nvSpPr>
        <p:spPr>
          <a:xfrm>
            <a:off x="3127320" y="3111480"/>
            <a:ext cx="690480" cy="852480"/>
          </a:xfrm>
          <a:custGeom>
            <a:avLst/>
            <a:gdLst/>
            <a:ahLst/>
            <a:rect l="l" t="t" r="r" b="b"/>
            <a:pathLst>
              <a:path w="1834048" h="1003574">
                <a:moveTo>
                  <a:pt x="0" y="5556"/>
                </a:moveTo>
                <a:lnTo>
                  <a:pt x="1832268" y="0"/>
                </a:lnTo>
                <a:cubicBezTo>
                  <a:pt x="1831210" y="335848"/>
                  <a:pt x="1834914" y="385151"/>
                  <a:pt x="1833856" y="720999"/>
                </a:cubicBezTo>
                <a:lnTo>
                  <a:pt x="0" y="1003574"/>
                </a:lnTo>
                <a:lnTo>
                  <a:pt x="0" y="5556"/>
                </a:lnTo>
                <a:close/>
              </a:path>
            </a:pathLst>
          </a:custGeom>
          <a:solidFill>
            <a:srgbClr val="5899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8"/>
          <p:cNvSpPr/>
          <p:nvPr/>
        </p:nvSpPr>
        <p:spPr>
          <a:xfrm>
            <a:off x="3127320" y="3720960"/>
            <a:ext cx="690480" cy="1087560"/>
          </a:xfrm>
          <a:custGeom>
            <a:avLst/>
            <a:gdLst/>
            <a:ahLst/>
            <a:rect l="l" t="t" r="r" b="b"/>
            <a:pathLst>
              <a:path w="1837135" h="1296468">
                <a:moveTo>
                  <a:pt x="2486" y="284162"/>
                </a:moveTo>
                <a:lnTo>
                  <a:pt x="1837135" y="0"/>
                </a:lnTo>
                <a:cubicBezTo>
                  <a:pt x="1836077" y="335848"/>
                  <a:pt x="1837400" y="392296"/>
                  <a:pt x="1836342" y="728144"/>
                </a:cubicBezTo>
                <a:lnTo>
                  <a:pt x="105" y="1296468"/>
                </a:lnTo>
                <a:cubicBezTo>
                  <a:pt x="-689" y="962208"/>
                  <a:pt x="3280" y="618422"/>
                  <a:pt x="2486" y="284162"/>
                </a:cubicBezTo>
                <a:close/>
              </a:path>
            </a:pathLst>
          </a:custGeom>
          <a:solidFill>
            <a:srgbClr val="c8d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组合 17" descr=""/>
          <p:cNvPicPr/>
          <p:nvPr/>
        </p:nvPicPr>
        <p:blipFill>
          <a:blip r:embed="rId2"/>
          <a:stretch/>
        </p:blipFill>
        <p:spPr>
          <a:xfrm>
            <a:off x="3809880" y="3706920"/>
            <a:ext cx="3340080" cy="639720"/>
          </a:xfrm>
          <a:prstGeom prst="rect">
            <a:avLst/>
          </a:prstGeom>
          <a:ln w="0">
            <a:noFill/>
          </a:ln>
        </p:spPr>
      </p:pic>
      <p:pic>
        <p:nvPicPr>
          <p:cNvPr id="53" name="组合 20" descr=""/>
          <p:cNvPicPr/>
          <p:nvPr/>
        </p:nvPicPr>
        <p:blipFill>
          <a:blip r:embed="rId3"/>
          <a:stretch/>
        </p:blipFill>
        <p:spPr>
          <a:xfrm>
            <a:off x="3809880" y="3097080"/>
            <a:ext cx="3340080" cy="621000"/>
          </a:xfrm>
          <a:prstGeom prst="rect">
            <a:avLst/>
          </a:prstGeom>
          <a:ln w="0">
            <a:noFill/>
          </a:ln>
        </p:spPr>
      </p:pic>
      <p:pic>
        <p:nvPicPr>
          <p:cNvPr id="54" name="组合 23" descr=""/>
          <p:cNvPicPr/>
          <p:nvPr/>
        </p:nvPicPr>
        <p:blipFill>
          <a:blip r:embed="rId4"/>
          <a:stretch/>
        </p:blipFill>
        <p:spPr>
          <a:xfrm>
            <a:off x="3809880" y="2494080"/>
            <a:ext cx="3340080" cy="620640"/>
          </a:xfrm>
          <a:prstGeom prst="rect">
            <a:avLst/>
          </a:prstGeom>
          <a:ln w="0">
            <a:noFill/>
          </a:ln>
        </p:spPr>
      </p:pic>
      <p:pic>
        <p:nvPicPr>
          <p:cNvPr id="55" name="组合 26" descr=""/>
          <p:cNvPicPr/>
          <p:nvPr/>
        </p:nvPicPr>
        <p:blipFill>
          <a:blip r:embed="rId5"/>
          <a:stretch/>
        </p:blipFill>
        <p:spPr>
          <a:xfrm>
            <a:off x="3809880" y="1889280"/>
            <a:ext cx="3340080" cy="622080"/>
          </a:xfrm>
          <a:prstGeom prst="rect">
            <a:avLst/>
          </a:prstGeom>
          <a:ln w="0">
            <a:noFill/>
          </a:ln>
        </p:spPr>
      </p:pic>
      <p:sp>
        <p:nvSpPr>
          <p:cNvPr id="56" name="直接连接符 29"/>
          <p:cNvSpPr/>
          <p:nvPr/>
        </p:nvSpPr>
        <p:spPr>
          <a:xfrm>
            <a:off x="3127320" y="1428840"/>
            <a:ext cx="0" cy="337320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30"/>
          <p:cNvSpPr/>
          <p:nvPr/>
        </p:nvSpPr>
        <p:spPr>
          <a:xfrm>
            <a:off x="3817800" y="1893960"/>
            <a:ext cx="0" cy="244476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0"/>
          <p:cNvSpPr/>
          <p:nvPr/>
        </p:nvSpPr>
        <p:spPr>
          <a:xfrm>
            <a:off x="4856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1"/>
          <p:cNvSpPr/>
          <p:nvPr/>
        </p:nvSpPr>
        <p:spPr>
          <a:xfrm>
            <a:off x="4856760" y="2630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2"/>
          <p:cNvSpPr/>
          <p:nvPr/>
        </p:nvSpPr>
        <p:spPr>
          <a:xfrm>
            <a:off x="4856760" y="384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1"/>
          <p:cNvSpPr/>
          <p:nvPr/>
        </p:nvSpPr>
        <p:spPr>
          <a:xfrm>
            <a:off x="48549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5"/>
          <p:cNvSpPr/>
          <p:nvPr/>
        </p:nvSpPr>
        <p:spPr>
          <a:xfrm>
            <a:off x="4373640" y="3164040"/>
            <a:ext cx="1366920" cy="116028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1160280"/>
              <a:gd name="textAreaBottom" fmla="*/ 1160640 h 1160280"/>
            </a:gdLst>
            <a:ahLst/>
            <a:rect l="textAreaLeft" t="textAreaTop" r="textAreaRight" b="textAreaBottom"/>
            <a:pathLst>
              <a:path w="2539" h="2160">
                <a:moveTo>
                  <a:pt x="1993" y="0"/>
                </a:moveTo>
                <a:lnTo>
                  <a:pt x="1993" y="0"/>
                </a:lnTo>
                <a:lnTo>
                  <a:pt x="1962" y="5"/>
                </a:lnTo>
                <a:lnTo>
                  <a:pt x="1935" y="13"/>
                </a:lnTo>
                <a:lnTo>
                  <a:pt x="1910" y="23"/>
                </a:lnTo>
                <a:lnTo>
                  <a:pt x="1888" y="38"/>
                </a:lnTo>
                <a:lnTo>
                  <a:pt x="1879" y="45"/>
                </a:lnTo>
                <a:lnTo>
                  <a:pt x="1870" y="52"/>
                </a:lnTo>
                <a:lnTo>
                  <a:pt x="1863" y="61"/>
                </a:lnTo>
                <a:lnTo>
                  <a:pt x="1857" y="70"/>
                </a:lnTo>
                <a:lnTo>
                  <a:pt x="1852" y="79"/>
                </a:lnTo>
                <a:lnTo>
                  <a:pt x="1848" y="90"/>
                </a:lnTo>
                <a:lnTo>
                  <a:pt x="1847" y="99"/>
                </a:lnTo>
                <a:lnTo>
                  <a:pt x="1847" y="110"/>
                </a:lnTo>
                <a:lnTo>
                  <a:pt x="1847" y="110"/>
                </a:lnTo>
                <a:lnTo>
                  <a:pt x="1847" y="123"/>
                </a:lnTo>
                <a:lnTo>
                  <a:pt x="1850" y="133"/>
                </a:lnTo>
                <a:lnTo>
                  <a:pt x="1856" y="144"/>
                </a:lnTo>
                <a:lnTo>
                  <a:pt x="1861" y="153"/>
                </a:lnTo>
                <a:lnTo>
                  <a:pt x="1877" y="173"/>
                </a:lnTo>
                <a:lnTo>
                  <a:pt x="1895" y="189"/>
                </a:lnTo>
                <a:lnTo>
                  <a:pt x="1912" y="207"/>
                </a:lnTo>
                <a:lnTo>
                  <a:pt x="1928" y="225"/>
                </a:lnTo>
                <a:lnTo>
                  <a:pt x="1933" y="236"/>
                </a:lnTo>
                <a:lnTo>
                  <a:pt x="1939" y="245"/>
                </a:lnTo>
                <a:lnTo>
                  <a:pt x="1942" y="258"/>
                </a:lnTo>
                <a:lnTo>
                  <a:pt x="1942" y="269"/>
                </a:lnTo>
                <a:lnTo>
                  <a:pt x="1942" y="269"/>
                </a:lnTo>
                <a:lnTo>
                  <a:pt x="1942" y="281"/>
                </a:lnTo>
                <a:lnTo>
                  <a:pt x="1939" y="292"/>
                </a:lnTo>
                <a:lnTo>
                  <a:pt x="1935" y="303"/>
                </a:lnTo>
                <a:lnTo>
                  <a:pt x="1930" y="312"/>
                </a:lnTo>
                <a:lnTo>
                  <a:pt x="1922" y="323"/>
                </a:lnTo>
                <a:lnTo>
                  <a:pt x="1913" y="332"/>
                </a:lnTo>
                <a:lnTo>
                  <a:pt x="1904" y="339"/>
                </a:lnTo>
                <a:lnTo>
                  <a:pt x="1894" y="348"/>
                </a:lnTo>
                <a:lnTo>
                  <a:pt x="1881" y="355"/>
                </a:lnTo>
                <a:lnTo>
                  <a:pt x="1868" y="361"/>
                </a:lnTo>
                <a:lnTo>
                  <a:pt x="1854" y="366"/>
                </a:lnTo>
                <a:lnTo>
                  <a:pt x="1839" y="371"/>
                </a:lnTo>
                <a:lnTo>
                  <a:pt x="1823" y="375"/>
                </a:lnTo>
                <a:lnTo>
                  <a:pt x="1807" y="379"/>
                </a:lnTo>
                <a:lnTo>
                  <a:pt x="1791" y="380"/>
                </a:lnTo>
                <a:lnTo>
                  <a:pt x="1773" y="380"/>
                </a:lnTo>
                <a:lnTo>
                  <a:pt x="1773" y="380"/>
                </a:lnTo>
                <a:lnTo>
                  <a:pt x="1756" y="380"/>
                </a:lnTo>
                <a:lnTo>
                  <a:pt x="1740" y="379"/>
                </a:lnTo>
                <a:lnTo>
                  <a:pt x="1724" y="375"/>
                </a:lnTo>
                <a:lnTo>
                  <a:pt x="1708" y="371"/>
                </a:lnTo>
                <a:lnTo>
                  <a:pt x="1693" y="366"/>
                </a:lnTo>
                <a:lnTo>
                  <a:pt x="1679" y="361"/>
                </a:lnTo>
                <a:lnTo>
                  <a:pt x="1666" y="355"/>
                </a:lnTo>
                <a:lnTo>
                  <a:pt x="1654" y="348"/>
                </a:lnTo>
                <a:lnTo>
                  <a:pt x="1643" y="339"/>
                </a:lnTo>
                <a:lnTo>
                  <a:pt x="1634" y="332"/>
                </a:lnTo>
                <a:lnTo>
                  <a:pt x="1625" y="323"/>
                </a:lnTo>
                <a:lnTo>
                  <a:pt x="1618" y="312"/>
                </a:lnTo>
                <a:lnTo>
                  <a:pt x="1612" y="303"/>
                </a:lnTo>
                <a:lnTo>
                  <a:pt x="1607" y="292"/>
                </a:lnTo>
                <a:lnTo>
                  <a:pt x="1605" y="281"/>
                </a:lnTo>
                <a:lnTo>
                  <a:pt x="1605" y="269"/>
                </a:lnTo>
                <a:lnTo>
                  <a:pt x="1605" y="269"/>
                </a:lnTo>
                <a:lnTo>
                  <a:pt x="1605" y="258"/>
                </a:lnTo>
                <a:lnTo>
                  <a:pt x="1609" y="245"/>
                </a:lnTo>
                <a:lnTo>
                  <a:pt x="1614" y="236"/>
                </a:lnTo>
                <a:lnTo>
                  <a:pt x="1619" y="225"/>
                </a:lnTo>
                <a:lnTo>
                  <a:pt x="1636" y="207"/>
                </a:lnTo>
                <a:lnTo>
                  <a:pt x="1652" y="189"/>
                </a:lnTo>
                <a:lnTo>
                  <a:pt x="1670" y="173"/>
                </a:lnTo>
                <a:lnTo>
                  <a:pt x="1686" y="153"/>
                </a:lnTo>
                <a:lnTo>
                  <a:pt x="1692" y="144"/>
                </a:lnTo>
                <a:lnTo>
                  <a:pt x="1697" y="133"/>
                </a:lnTo>
                <a:lnTo>
                  <a:pt x="1701" y="123"/>
                </a:lnTo>
                <a:lnTo>
                  <a:pt x="1701" y="110"/>
                </a:lnTo>
                <a:lnTo>
                  <a:pt x="1701" y="110"/>
                </a:lnTo>
                <a:lnTo>
                  <a:pt x="1701" y="99"/>
                </a:lnTo>
                <a:lnTo>
                  <a:pt x="1699" y="90"/>
                </a:lnTo>
                <a:lnTo>
                  <a:pt x="1695" y="79"/>
                </a:lnTo>
                <a:lnTo>
                  <a:pt x="1690" y="70"/>
                </a:lnTo>
                <a:lnTo>
                  <a:pt x="1684" y="61"/>
                </a:lnTo>
                <a:lnTo>
                  <a:pt x="1677" y="52"/>
                </a:lnTo>
                <a:lnTo>
                  <a:pt x="1668" y="45"/>
                </a:lnTo>
                <a:lnTo>
                  <a:pt x="1659" y="38"/>
                </a:lnTo>
                <a:lnTo>
                  <a:pt x="1637" y="23"/>
                </a:lnTo>
                <a:lnTo>
                  <a:pt x="1612" y="13"/>
                </a:lnTo>
                <a:lnTo>
                  <a:pt x="1585" y="5"/>
                </a:lnTo>
                <a:lnTo>
                  <a:pt x="1555" y="0"/>
                </a:lnTo>
                <a:lnTo>
                  <a:pt x="379" y="0"/>
                </a:lnTo>
                <a:lnTo>
                  <a:pt x="379" y="1185"/>
                </a:lnTo>
                <a:lnTo>
                  <a:pt x="379" y="1185"/>
                </a:lnTo>
                <a:lnTo>
                  <a:pt x="374" y="1213"/>
                </a:lnTo>
                <a:lnTo>
                  <a:pt x="366" y="1240"/>
                </a:lnTo>
                <a:lnTo>
                  <a:pt x="356" y="1264"/>
                </a:lnTo>
                <a:lnTo>
                  <a:pt x="341" y="1284"/>
                </a:lnTo>
                <a:lnTo>
                  <a:pt x="325" y="1302"/>
                </a:lnTo>
                <a:lnTo>
                  <a:pt x="318" y="1307"/>
                </a:lnTo>
                <a:lnTo>
                  <a:pt x="309" y="1314"/>
                </a:lnTo>
                <a:lnTo>
                  <a:pt x="300" y="1318"/>
                </a:lnTo>
                <a:lnTo>
                  <a:pt x="289" y="1322"/>
                </a:lnTo>
                <a:lnTo>
                  <a:pt x="280" y="1323"/>
                </a:lnTo>
                <a:lnTo>
                  <a:pt x="269" y="1323"/>
                </a:lnTo>
                <a:lnTo>
                  <a:pt x="269" y="1323"/>
                </a:lnTo>
                <a:lnTo>
                  <a:pt x="258" y="1323"/>
                </a:lnTo>
                <a:lnTo>
                  <a:pt x="246" y="1320"/>
                </a:lnTo>
                <a:lnTo>
                  <a:pt x="237" y="1316"/>
                </a:lnTo>
                <a:lnTo>
                  <a:pt x="226" y="1309"/>
                </a:lnTo>
                <a:lnTo>
                  <a:pt x="208" y="1295"/>
                </a:lnTo>
                <a:lnTo>
                  <a:pt x="190" y="1277"/>
                </a:lnTo>
                <a:lnTo>
                  <a:pt x="173" y="1258"/>
                </a:lnTo>
                <a:lnTo>
                  <a:pt x="154" y="1242"/>
                </a:lnTo>
                <a:lnTo>
                  <a:pt x="145" y="1237"/>
                </a:lnTo>
                <a:lnTo>
                  <a:pt x="134" y="1231"/>
                </a:lnTo>
                <a:lnTo>
                  <a:pt x="123" y="1228"/>
                </a:lnTo>
                <a:lnTo>
                  <a:pt x="110" y="1228"/>
                </a:lnTo>
                <a:lnTo>
                  <a:pt x="110" y="1228"/>
                </a:lnTo>
                <a:lnTo>
                  <a:pt x="100" y="1228"/>
                </a:lnTo>
                <a:lnTo>
                  <a:pt x="89" y="1231"/>
                </a:lnTo>
                <a:lnTo>
                  <a:pt x="78" y="1235"/>
                </a:lnTo>
                <a:lnTo>
                  <a:pt x="67" y="1240"/>
                </a:lnTo>
                <a:lnTo>
                  <a:pt x="58" y="1248"/>
                </a:lnTo>
                <a:lnTo>
                  <a:pt x="49" y="1257"/>
                </a:lnTo>
                <a:lnTo>
                  <a:pt x="40" y="1266"/>
                </a:lnTo>
                <a:lnTo>
                  <a:pt x="33" y="1277"/>
                </a:lnTo>
                <a:lnTo>
                  <a:pt x="26" y="1289"/>
                </a:lnTo>
                <a:lnTo>
                  <a:pt x="18" y="1302"/>
                </a:lnTo>
                <a:lnTo>
                  <a:pt x="13" y="1316"/>
                </a:lnTo>
                <a:lnTo>
                  <a:pt x="8" y="1331"/>
                </a:lnTo>
                <a:lnTo>
                  <a:pt x="4" y="1347"/>
                </a:lnTo>
                <a:lnTo>
                  <a:pt x="2" y="1363"/>
                </a:lnTo>
                <a:lnTo>
                  <a:pt x="0" y="1379"/>
                </a:lnTo>
                <a:lnTo>
                  <a:pt x="0" y="1397"/>
                </a:lnTo>
                <a:lnTo>
                  <a:pt x="0" y="1397"/>
                </a:lnTo>
                <a:lnTo>
                  <a:pt x="0" y="1414"/>
                </a:lnTo>
                <a:lnTo>
                  <a:pt x="2" y="1432"/>
                </a:lnTo>
                <a:lnTo>
                  <a:pt x="4" y="1448"/>
                </a:lnTo>
                <a:lnTo>
                  <a:pt x="8" y="1462"/>
                </a:lnTo>
                <a:lnTo>
                  <a:pt x="13" y="1478"/>
                </a:lnTo>
                <a:lnTo>
                  <a:pt x="18" y="1491"/>
                </a:lnTo>
                <a:lnTo>
                  <a:pt x="26" y="1504"/>
                </a:lnTo>
                <a:lnTo>
                  <a:pt x="33" y="1516"/>
                </a:lnTo>
                <a:lnTo>
                  <a:pt x="40" y="1527"/>
                </a:lnTo>
                <a:lnTo>
                  <a:pt x="49" y="1538"/>
                </a:lnTo>
                <a:lnTo>
                  <a:pt x="58" y="1545"/>
                </a:lnTo>
                <a:lnTo>
                  <a:pt x="67" y="1552"/>
                </a:lnTo>
                <a:lnTo>
                  <a:pt x="78" y="1558"/>
                </a:lnTo>
                <a:lnTo>
                  <a:pt x="89" y="1563"/>
                </a:lnTo>
                <a:lnTo>
                  <a:pt x="100" y="1565"/>
                </a:lnTo>
                <a:lnTo>
                  <a:pt x="110" y="1567"/>
                </a:lnTo>
                <a:lnTo>
                  <a:pt x="110" y="1567"/>
                </a:lnTo>
                <a:lnTo>
                  <a:pt x="123" y="1565"/>
                </a:lnTo>
                <a:lnTo>
                  <a:pt x="134" y="1561"/>
                </a:lnTo>
                <a:lnTo>
                  <a:pt x="145" y="1558"/>
                </a:lnTo>
                <a:lnTo>
                  <a:pt x="154" y="1551"/>
                </a:lnTo>
                <a:lnTo>
                  <a:pt x="173" y="1536"/>
                </a:lnTo>
                <a:lnTo>
                  <a:pt x="190" y="1518"/>
                </a:lnTo>
                <a:lnTo>
                  <a:pt x="208" y="1500"/>
                </a:lnTo>
                <a:lnTo>
                  <a:pt x="226" y="1484"/>
                </a:lnTo>
                <a:lnTo>
                  <a:pt x="237" y="1478"/>
                </a:lnTo>
                <a:lnTo>
                  <a:pt x="247" y="1473"/>
                </a:lnTo>
                <a:lnTo>
                  <a:pt x="258" y="1471"/>
                </a:lnTo>
                <a:lnTo>
                  <a:pt x="269" y="1469"/>
                </a:lnTo>
                <a:lnTo>
                  <a:pt x="269" y="1469"/>
                </a:lnTo>
                <a:lnTo>
                  <a:pt x="280" y="1469"/>
                </a:lnTo>
                <a:lnTo>
                  <a:pt x="289" y="1473"/>
                </a:lnTo>
                <a:lnTo>
                  <a:pt x="300" y="1475"/>
                </a:lnTo>
                <a:lnTo>
                  <a:pt x="309" y="1480"/>
                </a:lnTo>
                <a:lnTo>
                  <a:pt x="318" y="1486"/>
                </a:lnTo>
                <a:lnTo>
                  <a:pt x="325" y="1493"/>
                </a:lnTo>
                <a:lnTo>
                  <a:pt x="341" y="1509"/>
                </a:lnTo>
                <a:lnTo>
                  <a:pt x="354" y="1531"/>
                </a:lnTo>
                <a:lnTo>
                  <a:pt x="366" y="1554"/>
                </a:lnTo>
                <a:lnTo>
                  <a:pt x="374" y="1579"/>
                </a:lnTo>
                <a:lnTo>
                  <a:pt x="379" y="1608"/>
                </a:lnTo>
                <a:lnTo>
                  <a:pt x="379" y="2160"/>
                </a:lnTo>
                <a:lnTo>
                  <a:pt x="379" y="2160"/>
                </a:lnTo>
                <a:lnTo>
                  <a:pt x="435" y="2160"/>
                </a:lnTo>
                <a:lnTo>
                  <a:pt x="491" y="2158"/>
                </a:lnTo>
                <a:lnTo>
                  <a:pt x="545" y="2155"/>
                </a:lnTo>
                <a:lnTo>
                  <a:pt x="599" y="2149"/>
                </a:lnTo>
                <a:lnTo>
                  <a:pt x="655" y="2144"/>
                </a:lnTo>
                <a:lnTo>
                  <a:pt x="707" y="2137"/>
                </a:lnTo>
                <a:lnTo>
                  <a:pt x="761" y="2128"/>
                </a:lnTo>
                <a:lnTo>
                  <a:pt x="814" y="2117"/>
                </a:lnTo>
                <a:lnTo>
                  <a:pt x="868" y="2106"/>
                </a:lnTo>
                <a:lnTo>
                  <a:pt x="918" y="2093"/>
                </a:lnTo>
                <a:lnTo>
                  <a:pt x="970" y="2079"/>
                </a:lnTo>
                <a:lnTo>
                  <a:pt x="1021" y="2064"/>
                </a:lnTo>
                <a:lnTo>
                  <a:pt x="1071" y="2046"/>
                </a:lnTo>
                <a:lnTo>
                  <a:pt x="1122" y="2030"/>
                </a:lnTo>
                <a:lnTo>
                  <a:pt x="1171" y="2010"/>
                </a:lnTo>
                <a:lnTo>
                  <a:pt x="1219" y="1991"/>
                </a:lnTo>
                <a:lnTo>
                  <a:pt x="1268" y="1971"/>
                </a:lnTo>
                <a:lnTo>
                  <a:pt x="1315" y="1947"/>
                </a:lnTo>
                <a:lnTo>
                  <a:pt x="1362" y="1924"/>
                </a:lnTo>
                <a:lnTo>
                  <a:pt x="1409" y="1900"/>
                </a:lnTo>
                <a:lnTo>
                  <a:pt x="1454" y="1875"/>
                </a:lnTo>
                <a:lnTo>
                  <a:pt x="1499" y="1848"/>
                </a:lnTo>
                <a:lnTo>
                  <a:pt x="1544" y="1821"/>
                </a:lnTo>
                <a:lnTo>
                  <a:pt x="1587" y="1792"/>
                </a:lnTo>
                <a:lnTo>
                  <a:pt x="1630" y="1762"/>
                </a:lnTo>
                <a:lnTo>
                  <a:pt x="1672" y="1731"/>
                </a:lnTo>
                <a:lnTo>
                  <a:pt x="1713" y="1700"/>
                </a:lnTo>
                <a:lnTo>
                  <a:pt x="1753" y="1668"/>
                </a:lnTo>
                <a:lnTo>
                  <a:pt x="1793" y="1634"/>
                </a:lnTo>
                <a:lnTo>
                  <a:pt x="1832" y="1599"/>
                </a:lnTo>
                <a:lnTo>
                  <a:pt x="1870" y="1565"/>
                </a:lnTo>
                <a:lnTo>
                  <a:pt x="1906" y="1529"/>
                </a:lnTo>
                <a:lnTo>
                  <a:pt x="1942" y="1491"/>
                </a:lnTo>
                <a:lnTo>
                  <a:pt x="1978" y="1453"/>
                </a:lnTo>
                <a:lnTo>
                  <a:pt x="2013" y="1414"/>
                </a:lnTo>
                <a:lnTo>
                  <a:pt x="2045" y="1374"/>
                </a:lnTo>
                <a:lnTo>
                  <a:pt x="2079" y="1334"/>
                </a:lnTo>
                <a:lnTo>
                  <a:pt x="2110" y="1293"/>
                </a:lnTo>
                <a:lnTo>
                  <a:pt x="2141" y="1251"/>
                </a:lnTo>
                <a:lnTo>
                  <a:pt x="2169" y="1208"/>
                </a:lnTo>
                <a:lnTo>
                  <a:pt x="2198" y="1165"/>
                </a:lnTo>
                <a:lnTo>
                  <a:pt x="2227" y="1121"/>
                </a:lnTo>
                <a:lnTo>
                  <a:pt x="2252" y="1076"/>
                </a:lnTo>
                <a:lnTo>
                  <a:pt x="2278" y="1030"/>
                </a:lnTo>
                <a:lnTo>
                  <a:pt x="2303" y="984"/>
                </a:lnTo>
                <a:lnTo>
                  <a:pt x="2326" y="938"/>
                </a:lnTo>
                <a:lnTo>
                  <a:pt x="2348" y="889"/>
                </a:lnTo>
                <a:lnTo>
                  <a:pt x="2370" y="842"/>
                </a:lnTo>
                <a:lnTo>
                  <a:pt x="2389" y="793"/>
                </a:lnTo>
                <a:lnTo>
                  <a:pt x="2407" y="743"/>
                </a:lnTo>
                <a:lnTo>
                  <a:pt x="2425" y="694"/>
                </a:lnTo>
                <a:lnTo>
                  <a:pt x="2442" y="644"/>
                </a:lnTo>
                <a:lnTo>
                  <a:pt x="2458" y="591"/>
                </a:lnTo>
                <a:lnTo>
                  <a:pt x="2470" y="541"/>
                </a:lnTo>
                <a:lnTo>
                  <a:pt x="2483" y="489"/>
                </a:lnTo>
                <a:lnTo>
                  <a:pt x="2496" y="436"/>
                </a:lnTo>
                <a:lnTo>
                  <a:pt x="2505" y="382"/>
                </a:lnTo>
                <a:lnTo>
                  <a:pt x="2514" y="330"/>
                </a:lnTo>
                <a:lnTo>
                  <a:pt x="2521" y="276"/>
                </a:lnTo>
                <a:lnTo>
                  <a:pt x="2528" y="222"/>
                </a:lnTo>
                <a:lnTo>
                  <a:pt x="2534" y="166"/>
                </a:lnTo>
                <a:lnTo>
                  <a:pt x="2537" y="112"/>
                </a:lnTo>
                <a:lnTo>
                  <a:pt x="2539" y="56"/>
                </a:lnTo>
                <a:lnTo>
                  <a:pt x="2539" y="0"/>
                </a:lnTo>
                <a:lnTo>
                  <a:pt x="1993" y="0"/>
                </a:lnTo>
                <a:close/>
              </a:path>
            </a:pathLst>
          </a:custGeom>
          <a:solidFill>
            <a:srgbClr val="c8d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6"/>
          <p:cNvSpPr/>
          <p:nvPr/>
        </p:nvSpPr>
        <p:spPr>
          <a:xfrm>
            <a:off x="4568760" y="2000160"/>
            <a:ext cx="1162080" cy="136548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365480"/>
              <a:gd name="textAreaBottom" fmla="*/ 1365840 h 1365480"/>
            </a:gdLst>
            <a:ahLst/>
            <a:rect l="textAreaLeft" t="textAreaTop" r="textAreaRight" b="textAreaBottom"/>
            <a:pathLst>
              <a:path w="2160" h="2540">
                <a:moveTo>
                  <a:pt x="1614" y="2160"/>
                </a:moveTo>
                <a:lnTo>
                  <a:pt x="2160" y="2160"/>
                </a:lnTo>
                <a:lnTo>
                  <a:pt x="2160" y="2160"/>
                </a:lnTo>
                <a:lnTo>
                  <a:pt x="2160" y="2104"/>
                </a:lnTo>
                <a:lnTo>
                  <a:pt x="2158" y="2050"/>
                </a:lnTo>
                <a:lnTo>
                  <a:pt x="2155" y="1994"/>
                </a:lnTo>
                <a:lnTo>
                  <a:pt x="2149" y="1940"/>
                </a:lnTo>
                <a:lnTo>
                  <a:pt x="2142" y="1886"/>
                </a:lnTo>
                <a:lnTo>
                  <a:pt x="2135" y="1832"/>
                </a:lnTo>
                <a:lnTo>
                  <a:pt x="2126" y="1778"/>
                </a:lnTo>
                <a:lnTo>
                  <a:pt x="2117" y="1725"/>
                </a:lnTo>
                <a:lnTo>
                  <a:pt x="2104" y="1673"/>
                </a:lnTo>
                <a:lnTo>
                  <a:pt x="2091" y="1621"/>
                </a:lnTo>
                <a:lnTo>
                  <a:pt x="2079" y="1569"/>
                </a:lnTo>
                <a:lnTo>
                  <a:pt x="2063" y="1518"/>
                </a:lnTo>
                <a:lnTo>
                  <a:pt x="2046" y="1468"/>
                </a:lnTo>
                <a:lnTo>
                  <a:pt x="2028" y="1417"/>
                </a:lnTo>
                <a:lnTo>
                  <a:pt x="2010" y="1368"/>
                </a:lnTo>
                <a:lnTo>
                  <a:pt x="1991" y="1320"/>
                </a:lnTo>
                <a:lnTo>
                  <a:pt x="1969" y="1271"/>
                </a:lnTo>
                <a:lnTo>
                  <a:pt x="1947" y="1224"/>
                </a:lnTo>
                <a:lnTo>
                  <a:pt x="1924" y="1177"/>
                </a:lnTo>
                <a:lnTo>
                  <a:pt x="1899" y="1130"/>
                </a:lnTo>
                <a:lnTo>
                  <a:pt x="1873" y="1085"/>
                </a:lnTo>
                <a:lnTo>
                  <a:pt x="1848" y="1040"/>
                </a:lnTo>
                <a:lnTo>
                  <a:pt x="1819" y="995"/>
                </a:lnTo>
                <a:lnTo>
                  <a:pt x="1790" y="952"/>
                </a:lnTo>
                <a:lnTo>
                  <a:pt x="1762" y="911"/>
                </a:lnTo>
                <a:lnTo>
                  <a:pt x="1731" y="867"/>
                </a:lnTo>
                <a:lnTo>
                  <a:pt x="1700" y="828"/>
                </a:lnTo>
                <a:lnTo>
                  <a:pt x="1666" y="786"/>
                </a:lnTo>
                <a:lnTo>
                  <a:pt x="1634" y="746"/>
                </a:lnTo>
                <a:lnTo>
                  <a:pt x="1599" y="709"/>
                </a:lnTo>
                <a:lnTo>
                  <a:pt x="1563" y="671"/>
                </a:lnTo>
                <a:lnTo>
                  <a:pt x="1527" y="633"/>
                </a:lnTo>
                <a:lnTo>
                  <a:pt x="1491" y="597"/>
                </a:lnTo>
                <a:lnTo>
                  <a:pt x="1453" y="561"/>
                </a:lnTo>
                <a:lnTo>
                  <a:pt x="1414" y="526"/>
                </a:lnTo>
                <a:lnTo>
                  <a:pt x="1374" y="494"/>
                </a:lnTo>
                <a:lnTo>
                  <a:pt x="1334" y="462"/>
                </a:lnTo>
                <a:lnTo>
                  <a:pt x="1293" y="429"/>
                </a:lnTo>
                <a:lnTo>
                  <a:pt x="1251" y="398"/>
                </a:lnTo>
                <a:lnTo>
                  <a:pt x="1208" y="370"/>
                </a:lnTo>
                <a:lnTo>
                  <a:pt x="1165" y="341"/>
                </a:lnTo>
                <a:lnTo>
                  <a:pt x="1120" y="314"/>
                </a:lnTo>
                <a:lnTo>
                  <a:pt x="1075" y="287"/>
                </a:lnTo>
                <a:lnTo>
                  <a:pt x="1030" y="261"/>
                </a:lnTo>
                <a:lnTo>
                  <a:pt x="983" y="236"/>
                </a:lnTo>
                <a:lnTo>
                  <a:pt x="936" y="213"/>
                </a:lnTo>
                <a:lnTo>
                  <a:pt x="889" y="191"/>
                </a:lnTo>
                <a:lnTo>
                  <a:pt x="840" y="169"/>
                </a:lnTo>
                <a:lnTo>
                  <a:pt x="792" y="150"/>
                </a:lnTo>
                <a:lnTo>
                  <a:pt x="743" y="132"/>
                </a:lnTo>
                <a:lnTo>
                  <a:pt x="692" y="114"/>
                </a:lnTo>
                <a:lnTo>
                  <a:pt x="642" y="97"/>
                </a:lnTo>
                <a:lnTo>
                  <a:pt x="591" y="83"/>
                </a:lnTo>
                <a:lnTo>
                  <a:pt x="539" y="69"/>
                </a:lnTo>
                <a:lnTo>
                  <a:pt x="489" y="56"/>
                </a:lnTo>
                <a:lnTo>
                  <a:pt x="435" y="43"/>
                </a:lnTo>
                <a:lnTo>
                  <a:pt x="382" y="34"/>
                </a:lnTo>
                <a:lnTo>
                  <a:pt x="328" y="25"/>
                </a:lnTo>
                <a:lnTo>
                  <a:pt x="276" y="18"/>
                </a:lnTo>
                <a:lnTo>
                  <a:pt x="220" y="11"/>
                </a:lnTo>
                <a:lnTo>
                  <a:pt x="166" y="7"/>
                </a:lnTo>
                <a:lnTo>
                  <a:pt x="112" y="4"/>
                </a:lnTo>
                <a:lnTo>
                  <a:pt x="56" y="0"/>
                </a:lnTo>
                <a:lnTo>
                  <a:pt x="0" y="0"/>
                </a:lnTo>
                <a:lnTo>
                  <a:pt x="0" y="546"/>
                </a:lnTo>
                <a:lnTo>
                  <a:pt x="0" y="546"/>
                </a:lnTo>
                <a:lnTo>
                  <a:pt x="4" y="577"/>
                </a:lnTo>
                <a:lnTo>
                  <a:pt x="13" y="604"/>
                </a:lnTo>
                <a:lnTo>
                  <a:pt x="23" y="629"/>
                </a:lnTo>
                <a:lnTo>
                  <a:pt x="36" y="651"/>
                </a:lnTo>
                <a:lnTo>
                  <a:pt x="43" y="660"/>
                </a:lnTo>
                <a:lnTo>
                  <a:pt x="52" y="669"/>
                </a:lnTo>
                <a:lnTo>
                  <a:pt x="61" y="676"/>
                </a:lnTo>
                <a:lnTo>
                  <a:pt x="70" y="682"/>
                </a:lnTo>
                <a:lnTo>
                  <a:pt x="79" y="687"/>
                </a:lnTo>
                <a:lnTo>
                  <a:pt x="90" y="691"/>
                </a:lnTo>
                <a:lnTo>
                  <a:pt x="99" y="692"/>
                </a:lnTo>
                <a:lnTo>
                  <a:pt x="110" y="694"/>
                </a:lnTo>
                <a:lnTo>
                  <a:pt x="110" y="694"/>
                </a:lnTo>
                <a:lnTo>
                  <a:pt x="123" y="692"/>
                </a:lnTo>
                <a:lnTo>
                  <a:pt x="133" y="689"/>
                </a:lnTo>
                <a:lnTo>
                  <a:pt x="144" y="685"/>
                </a:lnTo>
                <a:lnTo>
                  <a:pt x="153" y="678"/>
                </a:lnTo>
                <a:lnTo>
                  <a:pt x="171" y="664"/>
                </a:lnTo>
                <a:lnTo>
                  <a:pt x="189" y="645"/>
                </a:lnTo>
                <a:lnTo>
                  <a:pt x="207" y="627"/>
                </a:lnTo>
                <a:lnTo>
                  <a:pt x="225" y="611"/>
                </a:lnTo>
                <a:lnTo>
                  <a:pt x="234" y="606"/>
                </a:lnTo>
                <a:lnTo>
                  <a:pt x="245" y="600"/>
                </a:lnTo>
                <a:lnTo>
                  <a:pt x="256" y="597"/>
                </a:lnTo>
                <a:lnTo>
                  <a:pt x="269" y="597"/>
                </a:lnTo>
                <a:lnTo>
                  <a:pt x="269" y="597"/>
                </a:lnTo>
                <a:lnTo>
                  <a:pt x="279" y="597"/>
                </a:lnTo>
                <a:lnTo>
                  <a:pt x="290" y="600"/>
                </a:lnTo>
                <a:lnTo>
                  <a:pt x="301" y="604"/>
                </a:lnTo>
                <a:lnTo>
                  <a:pt x="312" y="609"/>
                </a:lnTo>
                <a:lnTo>
                  <a:pt x="321" y="617"/>
                </a:lnTo>
                <a:lnTo>
                  <a:pt x="330" y="626"/>
                </a:lnTo>
                <a:lnTo>
                  <a:pt x="339" y="635"/>
                </a:lnTo>
                <a:lnTo>
                  <a:pt x="348" y="645"/>
                </a:lnTo>
                <a:lnTo>
                  <a:pt x="355" y="658"/>
                </a:lnTo>
                <a:lnTo>
                  <a:pt x="361" y="671"/>
                </a:lnTo>
                <a:lnTo>
                  <a:pt x="366" y="685"/>
                </a:lnTo>
                <a:lnTo>
                  <a:pt x="371" y="700"/>
                </a:lnTo>
                <a:lnTo>
                  <a:pt x="375" y="716"/>
                </a:lnTo>
                <a:lnTo>
                  <a:pt x="377" y="732"/>
                </a:lnTo>
                <a:lnTo>
                  <a:pt x="379" y="748"/>
                </a:lnTo>
                <a:lnTo>
                  <a:pt x="380" y="766"/>
                </a:lnTo>
                <a:lnTo>
                  <a:pt x="380" y="766"/>
                </a:lnTo>
                <a:lnTo>
                  <a:pt x="379" y="783"/>
                </a:lnTo>
                <a:lnTo>
                  <a:pt x="377" y="801"/>
                </a:lnTo>
                <a:lnTo>
                  <a:pt x="375" y="817"/>
                </a:lnTo>
                <a:lnTo>
                  <a:pt x="371" y="831"/>
                </a:lnTo>
                <a:lnTo>
                  <a:pt x="366" y="847"/>
                </a:lnTo>
                <a:lnTo>
                  <a:pt x="361" y="860"/>
                </a:lnTo>
                <a:lnTo>
                  <a:pt x="355" y="874"/>
                </a:lnTo>
                <a:lnTo>
                  <a:pt x="348" y="885"/>
                </a:lnTo>
                <a:lnTo>
                  <a:pt x="339" y="896"/>
                </a:lnTo>
                <a:lnTo>
                  <a:pt x="330" y="907"/>
                </a:lnTo>
                <a:lnTo>
                  <a:pt x="321" y="914"/>
                </a:lnTo>
                <a:lnTo>
                  <a:pt x="312" y="921"/>
                </a:lnTo>
                <a:lnTo>
                  <a:pt x="301" y="929"/>
                </a:lnTo>
                <a:lnTo>
                  <a:pt x="290" y="932"/>
                </a:lnTo>
                <a:lnTo>
                  <a:pt x="279" y="934"/>
                </a:lnTo>
                <a:lnTo>
                  <a:pt x="269" y="936"/>
                </a:lnTo>
                <a:lnTo>
                  <a:pt x="269" y="936"/>
                </a:lnTo>
                <a:lnTo>
                  <a:pt x="256" y="934"/>
                </a:lnTo>
                <a:lnTo>
                  <a:pt x="245" y="930"/>
                </a:lnTo>
                <a:lnTo>
                  <a:pt x="234" y="927"/>
                </a:lnTo>
                <a:lnTo>
                  <a:pt x="225" y="920"/>
                </a:lnTo>
                <a:lnTo>
                  <a:pt x="207" y="905"/>
                </a:lnTo>
                <a:lnTo>
                  <a:pt x="189" y="887"/>
                </a:lnTo>
                <a:lnTo>
                  <a:pt x="171" y="869"/>
                </a:lnTo>
                <a:lnTo>
                  <a:pt x="153" y="853"/>
                </a:lnTo>
                <a:lnTo>
                  <a:pt x="144" y="847"/>
                </a:lnTo>
                <a:lnTo>
                  <a:pt x="133" y="842"/>
                </a:lnTo>
                <a:lnTo>
                  <a:pt x="123" y="840"/>
                </a:lnTo>
                <a:lnTo>
                  <a:pt x="110" y="838"/>
                </a:lnTo>
                <a:lnTo>
                  <a:pt x="110" y="838"/>
                </a:lnTo>
                <a:lnTo>
                  <a:pt x="99" y="838"/>
                </a:lnTo>
                <a:lnTo>
                  <a:pt x="90" y="842"/>
                </a:lnTo>
                <a:lnTo>
                  <a:pt x="79" y="846"/>
                </a:lnTo>
                <a:lnTo>
                  <a:pt x="70" y="849"/>
                </a:lnTo>
                <a:lnTo>
                  <a:pt x="61" y="856"/>
                </a:lnTo>
                <a:lnTo>
                  <a:pt x="52" y="864"/>
                </a:lnTo>
                <a:lnTo>
                  <a:pt x="43" y="871"/>
                </a:lnTo>
                <a:lnTo>
                  <a:pt x="36" y="882"/>
                </a:lnTo>
                <a:lnTo>
                  <a:pt x="23" y="903"/>
                </a:lnTo>
                <a:lnTo>
                  <a:pt x="13" y="929"/>
                </a:lnTo>
                <a:lnTo>
                  <a:pt x="4" y="956"/>
                </a:lnTo>
                <a:lnTo>
                  <a:pt x="0" y="986"/>
                </a:lnTo>
                <a:lnTo>
                  <a:pt x="0" y="2160"/>
                </a:lnTo>
                <a:lnTo>
                  <a:pt x="1176" y="2160"/>
                </a:lnTo>
                <a:lnTo>
                  <a:pt x="1176" y="2160"/>
                </a:lnTo>
                <a:lnTo>
                  <a:pt x="1206" y="2165"/>
                </a:lnTo>
                <a:lnTo>
                  <a:pt x="1233" y="2173"/>
                </a:lnTo>
                <a:lnTo>
                  <a:pt x="1258" y="2183"/>
                </a:lnTo>
                <a:lnTo>
                  <a:pt x="1280" y="2198"/>
                </a:lnTo>
                <a:lnTo>
                  <a:pt x="1289" y="2205"/>
                </a:lnTo>
                <a:lnTo>
                  <a:pt x="1298" y="2212"/>
                </a:lnTo>
                <a:lnTo>
                  <a:pt x="1305" y="2221"/>
                </a:lnTo>
                <a:lnTo>
                  <a:pt x="1311" y="2230"/>
                </a:lnTo>
                <a:lnTo>
                  <a:pt x="1316" y="2239"/>
                </a:lnTo>
                <a:lnTo>
                  <a:pt x="1320" y="2250"/>
                </a:lnTo>
                <a:lnTo>
                  <a:pt x="1322" y="2259"/>
                </a:lnTo>
                <a:lnTo>
                  <a:pt x="1322" y="2270"/>
                </a:lnTo>
                <a:lnTo>
                  <a:pt x="1322" y="2270"/>
                </a:lnTo>
                <a:lnTo>
                  <a:pt x="1322" y="2283"/>
                </a:lnTo>
                <a:lnTo>
                  <a:pt x="1318" y="2293"/>
                </a:lnTo>
                <a:lnTo>
                  <a:pt x="1313" y="2304"/>
                </a:lnTo>
                <a:lnTo>
                  <a:pt x="1307" y="2313"/>
                </a:lnTo>
                <a:lnTo>
                  <a:pt x="1291" y="2333"/>
                </a:lnTo>
                <a:lnTo>
                  <a:pt x="1273" y="2349"/>
                </a:lnTo>
                <a:lnTo>
                  <a:pt x="1257" y="2367"/>
                </a:lnTo>
                <a:lnTo>
                  <a:pt x="1240" y="2385"/>
                </a:lnTo>
                <a:lnTo>
                  <a:pt x="1235" y="2396"/>
                </a:lnTo>
                <a:lnTo>
                  <a:pt x="1230" y="2405"/>
                </a:lnTo>
                <a:lnTo>
                  <a:pt x="1226" y="2418"/>
                </a:lnTo>
                <a:lnTo>
                  <a:pt x="1226" y="2429"/>
                </a:lnTo>
                <a:lnTo>
                  <a:pt x="1226" y="2429"/>
                </a:lnTo>
                <a:lnTo>
                  <a:pt x="1226" y="2441"/>
                </a:lnTo>
                <a:lnTo>
                  <a:pt x="1228" y="2452"/>
                </a:lnTo>
                <a:lnTo>
                  <a:pt x="1233" y="2463"/>
                </a:lnTo>
                <a:lnTo>
                  <a:pt x="1239" y="2472"/>
                </a:lnTo>
                <a:lnTo>
                  <a:pt x="1246" y="2483"/>
                </a:lnTo>
                <a:lnTo>
                  <a:pt x="1255" y="2492"/>
                </a:lnTo>
                <a:lnTo>
                  <a:pt x="1264" y="2499"/>
                </a:lnTo>
                <a:lnTo>
                  <a:pt x="1275" y="2508"/>
                </a:lnTo>
                <a:lnTo>
                  <a:pt x="1287" y="2515"/>
                </a:lnTo>
                <a:lnTo>
                  <a:pt x="1300" y="2521"/>
                </a:lnTo>
                <a:lnTo>
                  <a:pt x="1314" y="2526"/>
                </a:lnTo>
                <a:lnTo>
                  <a:pt x="1329" y="2531"/>
                </a:lnTo>
                <a:lnTo>
                  <a:pt x="1345" y="2535"/>
                </a:lnTo>
                <a:lnTo>
                  <a:pt x="1361" y="2539"/>
                </a:lnTo>
                <a:lnTo>
                  <a:pt x="1377" y="2540"/>
                </a:lnTo>
                <a:lnTo>
                  <a:pt x="1394" y="2540"/>
                </a:lnTo>
                <a:lnTo>
                  <a:pt x="1394" y="2540"/>
                </a:lnTo>
                <a:lnTo>
                  <a:pt x="1412" y="2540"/>
                </a:lnTo>
                <a:lnTo>
                  <a:pt x="1428" y="2539"/>
                </a:lnTo>
                <a:lnTo>
                  <a:pt x="1444" y="2535"/>
                </a:lnTo>
                <a:lnTo>
                  <a:pt x="1460" y="2531"/>
                </a:lnTo>
                <a:lnTo>
                  <a:pt x="1475" y="2526"/>
                </a:lnTo>
                <a:lnTo>
                  <a:pt x="1489" y="2521"/>
                </a:lnTo>
                <a:lnTo>
                  <a:pt x="1502" y="2515"/>
                </a:lnTo>
                <a:lnTo>
                  <a:pt x="1515" y="2508"/>
                </a:lnTo>
                <a:lnTo>
                  <a:pt x="1525" y="2499"/>
                </a:lnTo>
                <a:lnTo>
                  <a:pt x="1534" y="2492"/>
                </a:lnTo>
                <a:lnTo>
                  <a:pt x="1543" y="2483"/>
                </a:lnTo>
                <a:lnTo>
                  <a:pt x="1551" y="2472"/>
                </a:lnTo>
                <a:lnTo>
                  <a:pt x="1556" y="2463"/>
                </a:lnTo>
                <a:lnTo>
                  <a:pt x="1560" y="2452"/>
                </a:lnTo>
                <a:lnTo>
                  <a:pt x="1563" y="2441"/>
                </a:lnTo>
                <a:lnTo>
                  <a:pt x="1563" y="2429"/>
                </a:lnTo>
                <a:lnTo>
                  <a:pt x="1563" y="2429"/>
                </a:lnTo>
                <a:lnTo>
                  <a:pt x="1563" y="2418"/>
                </a:lnTo>
                <a:lnTo>
                  <a:pt x="1560" y="2405"/>
                </a:lnTo>
                <a:lnTo>
                  <a:pt x="1554" y="2396"/>
                </a:lnTo>
                <a:lnTo>
                  <a:pt x="1549" y="2385"/>
                </a:lnTo>
                <a:lnTo>
                  <a:pt x="1533" y="2367"/>
                </a:lnTo>
                <a:lnTo>
                  <a:pt x="1516" y="2349"/>
                </a:lnTo>
                <a:lnTo>
                  <a:pt x="1498" y="2333"/>
                </a:lnTo>
                <a:lnTo>
                  <a:pt x="1482" y="2313"/>
                </a:lnTo>
                <a:lnTo>
                  <a:pt x="1477" y="2304"/>
                </a:lnTo>
                <a:lnTo>
                  <a:pt x="1471" y="2293"/>
                </a:lnTo>
                <a:lnTo>
                  <a:pt x="1468" y="2283"/>
                </a:lnTo>
                <a:lnTo>
                  <a:pt x="1468" y="2270"/>
                </a:lnTo>
                <a:lnTo>
                  <a:pt x="1468" y="2270"/>
                </a:lnTo>
                <a:lnTo>
                  <a:pt x="1468" y="2259"/>
                </a:lnTo>
                <a:lnTo>
                  <a:pt x="1469" y="2250"/>
                </a:lnTo>
                <a:lnTo>
                  <a:pt x="1473" y="2239"/>
                </a:lnTo>
                <a:lnTo>
                  <a:pt x="1478" y="2230"/>
                </a:lnTo>
                <a:lnTo>
                  <a:pt x="1484" y="2221"/>
                </a:lnTo>
                <a:lnTo>
                  <a:pt x="1491" y="2212"/>
                </a:lnTo>
                <a:lnTo>
                  <a:pt x="1500" y="2205"/>
                </a:lnTo>
                <a:lnTo>
                  <a:pt x="1509" y="2198"/>
                </a:lnTo>
                <a:lnTo>
                  <a:pt x="1531" y="2183"/>
                </a:lnTo>
                <a:lnTo>
                  <a:pt x="1556" y="2173"/>
                </a:lnTo>
                <a:lnTo>
                  <a:pt x="1583" y="2165"/>
                </a:lnTo>
                <a:lnTo>
                  <a:pt x="1614" y="2160"/>
                </a:lnTo>
                <a:lnTo>
                  <a:pt x="1614" y="2160"/>
                </a:lnTo>
                <a:close/>
              </a:path>
            </a:pathLst>
          </a:custGeom>
          <a:solidFill>
            <a:srgbClr val="5899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7"/>
          <p:cNvSpPr/>
          <p:nvPr/>
        </p:nvSpPr>
        <p:spPr>
          <a:xfrm>
            <a:off x="3441600" y="2960640"/>
            <a:ext cx="1162080" cy="136368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1363680"/>
              <a:gd name="textAreaBottom" fmla="*/ 1364040 h 1363680"/>
            </a:gdLst>
            <a:ahLst/>
            <a:rect l="textAreaLeft" t="textAreaTop" r="textAreaRight" b="textAreaBottom"/>
            <a:pathLst>
              <a:path w="2160" h="2537">
                <a:moveTo>
                  <a:pt x="2050" y="1846"/>
                </a:moveTo>
                <a:lnTo>
                  <a:pt x="2050" y="1846"/>
                </a:lnTo>
                <a:lnTo>
                  <a:pt x="2039" y="1848"/>
                </a:lnTo>
                <a:lnTo>
                  <a:pt x="2028" y="1850"/>
                </a:lnTo>
                <a:lnTo>
                  <a:pt x="2018" y="1855"/>
                </a:lnTo>
                <a:lnTo>
                  <a:pt x="2007" y="1861"/>
                </a:lnTo>
                <a:lnTo>
                  <a:pt x="1989" y="1877"/>
                </a:lnTo>
                <a:lnTo>
                  <a:pt x="1971" y="1895"/>
                </a:lnTo>
                <a:lnTo>
                  <a:pt x="1954" y="1913"/>
                </a:lnTo>
                <a:lnTo>
                  <a:pt x="1935" y="1928"/>
                </a:lnTo>
                <a:lnTo>
                  <a:pt x="1926" y="1935"/>
                </a:lnTo>
                <a:lnTo>
                  <a:pt x="1915" y="1938"/>
                </a:lnTo>
                <a:lnTo>
                  <a:pt x="1904" y="1942"/>
                </a:lnTo>
                <a:lnTo>
                  <a:pt x="1891" y="1944"/>
                </a:lnTo>
                <a:lnTo>
                  <a:pt x="1891" y="1944"/>
                </a:lnTo>
                <a:lnTo>
                  <a:pt x="1881" y="1942"/>
                </a:lnTo>
                <a:lnTo>
                  <a:pt x="1870" y="1940"/>
                </a:lnTo>
                <a:lnTo>
                  <a:pt x="1859" y="1935"/>
                </a:lnTo>
                <a:lnTo>
                  <a:pt x="1848" y="1929"/>
                </a:lnTo>
                <a:lnTo>
                  <a:pt x="1839" y="1922"/>
                </a:lnTo>
                <a:lnTo>
                  <a:pt x="1830" y="1915"/>
                </a:lnTo>
                <a:lnTo>
                  <a:pt x="1821" y="1904"/>
                </a:lnTo>
                <a:lnTo>
                  <a:pt x="1814" y="1893"/>
                </a:lnTo>
                <a:lnTo>
                  <a:pt x="1807" y="1881"/>
                </a:lnTo>
                <a:lnTo>
                  <a:pt x="1799" y="1868"/>
                </a:lnTo>
                <a:lnTo>
                  <a:pt x="1794" y="1855"/>
                </a:lnTo>
                <a:lnTo>
                  <a:pt x="1789" y="1839"/>
                </a:lnTo>
                <a:lnTo>
                  <a:pt x="1785" y="1825"/>
                </a:lnTo>
                <a:lnTo>
                  <a:pt x="1783" y="1809"/>
                </a:lnTo>
                <a:lnTo>
                  <a:pt x="1781" y="1791"/>
                </a:lnTo>
                <a:lnTo>
                  <a:pt x="1781" y="1774"/>
                </a:lnTo>
                <a:lnTo>
                  <a:pt x="1781" y="1774"/>
                </a:lnTo>
                <a:lnTo>
                  <a:pt x="1781" y="1756"/>
                </a:lnTo>
                <a:lnTo>
                  <a:pt x="1783" y="1740"/>
                </a:lnTo>
                <a:lnTo>
                  <a:pt x="1785" y="1724"/>
                </a:lnTo>
                <a:lnTo>
                  <a:pt x="1789" y="1708"/>
                </a:lnTo>
                <a:lnTo>
                  <a:pt x="1794" y="1693"/>
                </a:lnTo>
                <a:lnTo>
                  <a:pt x="1799" y="1679"/>
                </a:lnTo>
                <a:lnTo>
                  <a:pt x="1807" y="1666"/>
                </a:lnTo>
                <a:lnTo>
                  <a:pt x="1814" y="1654"/>
                </a:lnTo>
                <a:lnTo>
                  <a:pt x="1821" y="1643"/>
                </a:lnTo>
                <a:lnTo>
                  <a:pt x="1830" y="1634"/>
                </a:lnTo>
                <a:lnTo>
                  <a:pt x="1839" y="1625"/>
                </a:lnTo>
                <a:lnTo>
                  <a:pt x="1848" y="1617"/>
                </a:lnTo>
                <a:lnTo>
                  <a:pt x="1859" y="1612"/>
                </a:lnTo>
                <a:lnTo>
                  <a:pt x="1870" y="1608"/>
                </a:lnTo>
                <a:lnTo>
                  <a:pt x="1881" y="1605"/>
                </a:lnTo>
                <a:lnTo>
                  <a:pt x="1891" y="1605"/>
                </a:lnTo>
                <a:lnTo>
                  <a:pt x="1891" y="1605"/>
                </a:lnTo>
                <a:lnTo>
                  <a:pt x="1904" y="1605"/>
                </a:lnTo>
                <a:lnTo>
                  <a:pt x="1915" y="1608"/>
                </a:lnTo>
                <a:lnTo>
                  <a:pt x="1926" y="1614"/>
                </a:lnTo>
                <a:lnTo>
                  <a:pt x="1935" y="1619"/>
                </a:lnTo>
                <a:lnTo>
                  <a:pt x="1954" y="1635"/>
                </a:lnTo>
                <a:lnTo>
                  <a:pt x="1971" y="1654"/>
                </a:lnTo>
                <a:lnTo>
                  <a:pt x="1989" y="1672"/>
                </a:lnTo>
                <a:lnTo>
                  <a:pt x="2007" y="1686"/>
                </a:lnTo>
                <a:lnTo>
                  <a:pt x="2018" y="1693"/>
                </a:lnTo>
                <a:lnTo>
                  <a:pt x="2027" y="1697"/>
                </a:lnTo>
                <a:lnTo>
                  <a:pt x="2039" y="1700"/>
                </a:lnTo>
                <a:lnTo>
                  <a:pt x="2050" y="1700"/>
                </a:lnTo>
                <a:lnTo>
                  <a:pt x="2050" y="1700"/>
                </a:lnTo>
                <a:lnTo>
                  <a:pt x="2061" y="1700"/>
                </a:lnTo>
                <a:lnTo>
                  <a:pt x="2070" y="1699"/>
                </a:lnTo>
                <a:lnTo>
                  <a:pt x="2081" y="1695"/>
                </a:lnTo>
                <a:lnTo>
                  <a:pt x="2090" y="1691"/>
                </a:lnTo>
                <a:lnTo>
                  <a:pt x="2099" y="1684"/>
                </a:lnTo>
                <a:lnTo>
                  <a:pt x="2106" y="1679"/>
                </a:lnTo>
                <a:lnTo>
                  <a:pt x="2122" y="1661"/>
                </a:lnTo>
                <a:lnTo>
                  <a:pt x="2137" y="1641"/>
                </a:lnTo>
                <a:lnTo>
                  <a:pt x="2147" y="1617"/>
                </a:lnTo>
                <a:lnTo>
                  <a:pt x="2155" y="1590"/>
                </a:lnTo>
                <a:lnTo>
                  <a:pt x="2160" y="1562"/>
                </a:lnTo>
                <a:lnTo>
                  <a:pt x="2160" y="377"/>
                </a:lnTo>
                <a:lnTo>
                  <a:pt x="968" y="377"/>
                </a:lnTo>
                <a:lnTo>
                  <a:pt x="968" y="377"/>
                </a:lnTo>
                <a:lnTo>
                  <a:pt x="941" y="372"/>
                </a:lnTo>
                <a:lnTo>
                  <a:pt x="916" y="363"/>
                </a:lnTo>
                <a:lnTo>
                  <a:pt x="894" y="352"/>
                </a:lnTo>
                <a:lnTo>
                  <a:pt x="874" y="339"/>
                </a:lnTo>
                <a:lnTo>
                  <a:pt x="858" y="323"/>
                </a:lnTo>
                <a:lnTo>
                  <a:pt x="847" y="307"/>
                </a:lnTo>
                <a:lnTo>
                  <a:pt x="844" y="298"/>
                </a:lnTo>
                <a:lnTo>
                  <a:pt x="840" y="289"/>
                </a:lnTo>
                <a:lnTo>
                  <a:pt x="838" y="280"/>
                </a:lnTo>
                <a:lnTo>
                  <a:pt x="837" y="269"/>
                </a:lnTo>
                <a:lnTo>
                  <a:pt x="837" y="269"/>
                </a:lnTo>
                <a:lnTo>
                  <a:pt x="838" y="258"/>
                </a:lnTo>
                <a:lnTo>
                  <a:pt x="842" y="247"/>
                </a:lnTo>
                <a:lnTo>
                  <a:pt x="846" y="236"/>
                </a:lnTo>
                <a:lnTo>
                  <a:pt x="853" y="226"/>
                </a:lnTo>
                <a:lnTo>
                  <a:pt x="867" y="208"/>
                </a:lnTo>
                <a:lnTo>
                  <a:pt x="885" y="189"/>
                </a:lnTo>
                <a:lnTo>
                  <a:pt x="903" y="173"/>
                </a:lnTo>
                <a:lnTo>
                  <a:pt x="920" y="153"/>
                </a:lnTo>
                <a:lnTo>
                  <a:pt x="925" y="144"/>
                </a:lnTo>
                <a:lnTo>
                  <a:pt x="930" y="134"/>
                </a:lnTo>
                <a:lnTo>
                  <a:pt x="934" y="123"/>
                </a:lnTo>
                <a:lnTo>
                  <a:pt x="934" y="110"/>
                </a:lnTo>
                <a:lnTo>
                  <a:pt x="934" y="110"/>
                </a:lnTo>
                <a:lnTo>
                  <a:pt x="934" y="99"/>
                </a:lnTo>
                <a:lnTo>
                  <a:pt x="930" y="89"/>
                </a:lnTo>
                <a:lnTo>
                  <a:pt x="927" y="78"/>
                </a:lnTo>
                <a:lnTo>
                  <a:pt x="921" y="67"/>
                </a:lnTo>
                <a:lnTo>
                  <a:pt x="914" y="58"/>
                </a:lnTo>
                <a:lnTo>
                  <a:pt x="905" y="49"/>
                </a:lnTo>
                <a:lnTo>
                  <a:pt x="896" y="40"/>
                </a:lnTo>
                <a:lnTo>
                  <a:pt x="885" y="33"/>
                </a:lnTo>
                <a:lnTo>
                  <a:pt x="873" y="25"/>
                </a:lnTo>
                <a:lnTo>
                  <a:pt x="860" y="18"/>
                </a:lnTo>
                <a:lnTo>
                  <a:pt x="846" y="13"/>
                </a:lnTo>
                <a:lnTo>
                  <a:pt x="831" y="9"/>
                </a:lnTo>
                <a:lnTo>
                  <a:pt x="815" y="4"/>
                </a:lnTo>
                <a:lnTo>
                  <a:pt x="799" y="2"/>
                </a:lnTo>
                <a:lnTo>
                  <a:pt x="783" y="0"/>
                </a:lnTo>
                <a:lnTo>
                  <a:pt x="764" y="0"/>
                </a:lnTo>
                <a:lnTo>
                  <a:pt x="764" y="0"/>
                </a:lnTo>
                <a:lnTo>
                  <a:pt x="748" y="0"/>
                </a:lnTo>
                <a:lnTo>
                  <a:pt x="730" y="2"/>
                </a:lnTo>
                <a:lnTo>
                  <a:pt x="714" y="4"/>
                </a:lnTo>
                <a:lnTo>
                  <a:pt x="700" y="9"/>
                </a:lnTo>
                <a:lnTo>
                  <a:pt x="683" y="13"/>
                </a:lnTo>
                <a:lnTo>
                  <a:pt x="671" y="18"/>
                </a:lnTo>
                <a:lnTo>
                  <a:pt x="656" y="25"/>
                </a:lnTo>
                <a:lnTo>
                  <a:pt x="645" y="33"/>
                </a:lnTo>
                <a:lnTo>
                  <a:pt x="635" y="40"/>
                </a:lnTo>
                <a:lnTo>
                  <a:pt x="624" y="49"/>
                </a:lnTo>
                <a:lnTo>
                  <a:pt x="617" y="58"/>
                </a:lnTo>
                <a:lnTo>
                  <a:pt x="609" y="67"/>
                </a:lnTo>
                <a:lnTo>
                  <a:pt x="604" y="78"/>
                </a:lnTo>
                <a:lnTo>
                  <a:pt x="599" y="89"/>
                </a:lnTo>
                <a:lnTo>
                  <a:pt x="597" y="99"/>
                </a:lnTo>
                <a:lnTo>
                  <a:pt x="595" y="110"/>
                </a:lnTo>
                <a:lnTo>
                  <a:pt x="595" y="110"/>
                </a:lnTo>
                <a:lnTo>
                  <a:pt x="597" y="123"/>
                </a:lnTo>
                <a:lnTo>
                  <a:pt x="600" y="134"/>
                </a:lnTo>
                <a:lnTo>
                  <a:pt x="604" y="144"/>
                </a:lnTo>
                <a:lnTo>
                  <a:pt x="611" y="153"/>
                </a:lnTo>
                <a:lnTo>
                  <a:pt x="626" y="173"/>
                </a:lnTo>
                <a:lnTo>
                  <a:pt x="644" y="189"/>
                </a:lnTo>
                <a:lnTo>
                  <a:pt x="662" y="208"/>
                </a:lnTo>
                <a:lnTo>
                  <a:pt x="678" y="226"/>
                </a:lnTo>
                <a:lnTo>
                  <a:pt x="683" y="236"/>
                </a:lnTo>
                <a:lnTo>
                  <a:pt x="689" y="247"/>
                </a:lnTo>
                <a:lnTo>
                  <a:pt x="691" y="258"/>
                </a:lnTo>
                <a:lnTo>
                  <a:pt x="692" y="269"/>
                </a:lnTo>
                <a:lnTo>
                  <a:pt x="692" y="269"/>
                </a:lnTo>
                <a:lnTo>
                  <a:pt x="692" y="280"/>
                </a:lnTo>
                <a:lnTo>
                  <a:pt x="691" y="289"/>
                </a:lnTo>
                <a:lnTo>
                  <a:pt x="687" y="298"/>
                </a:lnTo>
                <a:lnTo>
                  <a:pt x="682" y="307"/>
                </a:lnTo>
                <a:lnTo>
                  <a:pt x="671" y="323"/>
                </a:lnTo>
                <a:lnTo>
                  <a:pt x="654" y="339"/>
                </a:lnTo>
                <a:lnTo>
                  <a:pt x="636" y="352"/>
                </a:lnTo>
                <a:lnTo>
                  <a:pt x="613" y="363"/>
                </a:lnTo>
                <a:lnTo>
                  <a:pt x="590" y="372"/>
                </a:lnTo>
                <a:lnTo>
                  <a:pt x="563" y="377"/>
                </a:lnTo>
                <a:lnTo>
                  <a:pt x="0" y="377"/>
                </a:lnTo>
                <a:lnTo>
                  <a:pt x="0" y="377"/>
                </a:lnTo>
                <a:lnTo>
                  <a:pt x="0" y="433"/>
                </a:lnTo>
                <a:lnTo>
                  <a:pt x="2" y="489"/>
                </a:lnTo>
                <a:lnTo>
                  <a:pt x="5" y="543"/>
                </a:lnTo>
                <a:lnTo>
                  <a:pt x="11" y="599"/>
                </a:lnTo>
                <a:lnTo>
                  <a:pt x="16" y="653"/>
                </a:lnTo>
                <a:lnTo>
                  <a:pt x="25" y="707"/>
                </a:lnTo>
                <a:lnTo>
                  <a:pt x="32" y="759"/>
                </a:lnTo>
                <a:lnTo>
                  <a:pt x="43" y="813"/>
                </a:lnTo>
                <a:lnTo>
                  <a:pt x="54" y="866"/>
                </a:lnTo>
                <a:lnTo>
                  <a:pt x="67" y="918"/>
                </a:lnTo>
                <a:lnTo>
                  <a:pt x="81" y="968"/>
                </a:lnTo>
                <a:lnTo>
                  <a:pt x="97" y="1021"/>
                </a:lnTo>
                <a:lnTo>
                  <a:pt x="114" y="1071"/>
                </a:lnTo>
                <a:lnTo>
                  <a:pt x="130" y="1120"/>
                </a:lnTo>
                <a:lnTo>
                  <a:pt x="150" y="1170"/>
                </a:lnTo>
                <a:lnTo>
                  <a:pt x="169" y="1219"/>
                </a:lnTo>
                <a:lnTo>
                  <a:pt x="191" y="1266"/>
                </a:lnTo>
                <a:lnTo>
                  <a:pt x="213" y="1315"/>
                </a:lnTo>
                <a:lnTo>
                  <a:pt x="236" y="1361"/>
                </a:lnTo>
                <a:lnTo>
                  <a:pt x="260" y="1407"/>
                </a:lnTo>
                <a:lnTo>
                  <a:pt x="285" y="1453"/>
                </a:lnTo>
                <a:lnTo>
                  <a:pt x="312" y="1498"/>
                </a:lnTo>
                <a:lnTo>
                  <a:pt x="341" y="1542"/>
                </a:lnTo>
                <a:lnTo>
                  <a:pt x="368" y="1585"/>
                </a:lnTo>
                <a:lnTo>
                  <a:pt x="398" y="1628"/>
                </a:lnTo>
                <a:lnTo>
                  <a:pt x="429" y="1670"/>
                </a:lnTo>
                <a:lnTo>
                  <a:pt x="460" y="1711"/>
                </a:lnTo>
                <a:lnTo>
                  <a:pt x="492" y="1751"/>
                </a:lnTo>
                <a:lnTo>
                  <a:pt x="526" y="1791"/>
                </a:lnTo>
                <a:lnTo>
                  <a:pt x="561" y="1830"/>
                </a:lnTo>
                <a:lnTo>
                  <a:pt x="597" y="1868"/>
                </a:lnTo>
                <a:lnTo>
                  <a:pt x="633" y="1906"/>
                </a:lnTo>
                <a:lnTo>
                  <a:pt x="669" y="1942"/>
                </a:lnTo>
                <a:lnTo>
                  <a:pt x="707" y="1976"/>
                </a:lnTo>
                <a:lnTo>
                  <a:pt x="746" y="2011"/>
                </a:lnTo>
                <a:lnTo>
                  <a:pt x="786" y="2045"/>
                </a:lnTo>
                <a:lnTo>
                  <a:pt x="826" y="2077"/>
                </a:lnTo>
                <a:lnTo>
                  <a:pt x="867" y="2108"/>
                </a:lnTo>
                <a:lnTo>
                  <a:pt x="909" y="2139"/>
                </a:lnTo>
                <a:lnTo>
                  <a:pt x="952" y="2169"/>
                </a:lnTo>
                <a:lnTo>
                  <a:pt x="995" y="2198"/>
                </a:lnTo>
                <a:lnTo>
                  <a:pt x="1040" y="2225"/>
                </a:lnTo>
                <a:lnTo>
                  <a:pt x="1085" y="2252"/>
                </a:lnTo>
                <a:lnTo>
                  <a:pt x="1130" y="2277"/>
                </a:lnTo>
                <a:lnTo>
                  <a:pt x="1176" y="2301"/>
                </a:lnTo>
                <a:lnTo>
                  <a:pt x="1222" y="2324"/>
                </a:lnTo>
                <a:lnTo>
                  <a:pt x="1271" y="2348"/>
                </a:lnTo>
                <a:lnTo>
                  <a:pt x="1320" y="2368"/>
                </a:lnTo>
                <a:lnTo>
                  <a:pt x="1368" y="2387"/>
                </a:lnTo>
                <a:lnTo>
                  <a:pt x="1417" y="2407"/>
                </a:lnTo>
                <a:lnTo>
                  <a:pt x="1468" y="2423"/>
                </a:lnTo>
                <a:lnTo>
                  <a:pt x="1518" y="2441"/>
                </a:lnTo>
                <a:lnTo>
                  <a:pt x="1569" y="2456"/>
                </a:lnTo>
                <a:lnTo>
                  <a:pt x="1619" y="2470"/>
                </a:lnTo>
                <a:lnTo>
                  <a:pt x="1671" y="2483"/>
                </a:lnTo>
                <a:lnTo>
                  <a:pt x="1724" y="2494"/>
                </a:lnTo>
                <a:lnTo>
                  <a:pt x="1778" y="2505"/>
                </a:lnTo>
                <a:lnTo>
                  <a:pt x="1830" y="2514"/>
                </a:lnTo>
                <a:lnTo>
                  <a:pt x="1884" y="2521"/>
                </a:lnTo>
                <a:lnTo>
                  <a:pt x="1938" y="2526"/>
                </a:lnTo>
                <a:lnTo>
                  <a:pt x="1994" y="2532"/>
                </a:lnTo>
                <a:lnTo>
                  <a:pt x="2048" y="2535"/>
                </a:lnTo>
                <a:lnTo>
                  <a:pt x="2104" y="2537"/>
                </a:lnTo>
                <a:lnTo>
                  <a:pt x="2160" y="2537"/>
                </a:lnTo>
                <a:lnTo>
                  <a:pt x="2160" y="1985"/>
                </a:lnTo>
                <a:lnTo>
                  <a:pt x="2160" y="1985"/>
                </a:lnTo>
                <a:lnTo>
                  <a:pt x="2155" y="1956"/>
                </a:lnTo>
                <a:lnTo>
                  <a:pt x="2147" y="1931"/>
                </a:lnTo>
                <a:lnTo>
                  <a:pt x="2135" y="1908"/>
                </a:lnTo>
                <a:lnTo>
                  <a:pt x="2122" y="1886"/>
                </a:lnTo>
                <a:lnTo>
                  <a:pt x="2106" y="1870"/>
                </a:lnTo>
                <a:lnTo>
                  <a:pt x="2099" y="1863"/>
                </a:lnTo>
                <a:lnTo>
                  <a:pt x="2090" y="1857"/>
                </a:lnTo>
                <a:lnTo>
                  <a:pt x="2081" y="1852"/>
                </a:lnTo>
                <a:lnTo>
                  <a:pt x="2070" y="1850"/>
                </a:lnTo>
                <a:lnTo>
                  <a:pt x="2061" y="1846"/>
                </a:lnTo>
                <a:lnTo>
                  <a:pt x="2050" y="1846"/>
                </a:lnTo>
                <a:lnTo>
                  <a:pt x="2050" y="1846"/>
                </a:lnTo>
                <a:close/>
              </a:path>
            </a:pathLst>
          </a:custGeom>
          <a:solidFill>
            <a:srgbClr val="5899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8"/>
          <p:cNvSpPr/>
          <p:nvPr/>
        </p:nvSpPr>
        <p:spPr>
          <a:xfrm>
            <a:off x="3436920" y="2000160"/>
            <a:ext cx="1365120" cy="1163880"/>
          </a:xfrm>
          <a:custGeom>
            <a:avLst/>
            <a:gdLst>
              <a:gd name="textAreaLeft" fmla="*/ 0 w 1365120"/>
              <a:gd name="textAreaRight" fmla="*/ 1365480 w 136512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540" h="2160">
                <a:moveTo>
                  <a:pt x="2429" y="597"/>
                </a:moveTo>
                <a:lnTo>
                  <a:pt x="2429" y="597"/>
                </a:lnTo>
                <a:lnTo>
                  <a:pt x="2416" y="597"/>
                </a:lnTo>
                <a:lnTo>
                  <a:pt x="2405" y="600"/>
                </a:lnTo>
                <a:lnTo>
                  <a:pt x="2394" y="606"/>
                </a:lnTo>
                <a:lnTo>
                  <a:pt x="2385" y="611"/>
                </a:lnTo>
                <a:lnTo>
                  <a:pt x="2367" y="627"/>
                </a:lnTo>
                <a:lnTo>
                  <a:pt x="2349" y="645"/>
                </a:lnTo>
                <a:lnTo>
                  <a:pt x="2331" y="664"/>
                </a:lnTo>
                <a:lnTo>
                  <a:pt x="2313" y="678"/>
                </a:lnTo>
                <a:lnTo>
                  <a:pt x="2304" y="685"/>
                </a:lnTo>
                <a:lnTo>
                  <a:pt x="2293" y="689"/>
                </a:lnTo>
                <a:lnTo>
                  <a:pt x="2283" y="692"/>
                </a:lnTo>
                <a:lnTo>
                  <a:pt x="2270" y="694"/>
                </a:lnTo>
                <a:lnTo>
                  <a:pt x="2270" y="694"/>
                </a:lnTo>
                <a:lnTo>
                  <a:pt x="2259" y="692"/>
                </a:lnTo>
                <a:lnTo>
                  <a:pt x="2250" y="691"/>
                </a:lnTo>
                <a:lnTo>
                  <a:pt x="2239" y="687"/>
                </a:lnTo>
                <a:lnTo>
                  <a:pt x="2230" y="682"/>
                </a:lnTo>
                <a:lnTo>
                  <a:pt x="2221" y="676"/>
                </a:lnTo>
                <a:lnTo>
                  <a:pt x="2212" y="669"/>
                </a:lnTo>
                <a:lnTo>
                  <a:pt x="2203" y="660"/>
                </a:lnTo>
                <a:lnTo>
                  <a:pt x="2196" y="651"/>
                </a:lnTo>
                <a:lnTo>
                  <a:pt x="2183" y="629"/>
                </a:lnTo>
                <a:lnTo>
                  <a:pt x="2173" y="604"/>
                </a:lnTo>
                <a:lnTo>
                  <a:pt x="2164" y="577"/>
                </a:lnTo>
                <a:lnTo>
                  <a:pt x="2160" y="546"/>
                </a:lnTo>
                <a:lnTo>
                  <a:pt x="2160" y="0"/>
                </a:lnTo>
                <a:lnTo>
                  <a:pt x="2160" y="0"/>
                </a:lnTo>
                <a:lnTo>
                  <a:pt x="2104" y="0"/>
                </a:lnTo>
                <a:lnTo>
                  <a:pt x="2048" y="4"/>
                </a:lnTo>
                <a:lnTo>
                  <a:pt x="1994" y="7"/>
                </a:lnTo>
                <a:lnTo>
                  <a:pt x="1938" y="11"/>
                </a:lnTo>
                <a:lnTo>
                  <a:pt x="1884" y="18"/>
                </a:lnTo>
                <a:lnTo>
                  <a:pt x="1830" y="25"/>
                </a:lnTo>
                <a:lnTo>
                  <a:pt x="1778" y="34"/>
                </a:lnTo>
                <a:lnTo>
                  <a:pt x="1724" y="43"/>
                </a:lnTo>
                <a:lnTo>
                  <a:pt x="1671" y="56"/>
                </a:lnTo>
                <a:lnTo>
                  <a:pt x="1619" y="69"/>
                </a:lnTo>
                <a:lnTo>
                  <a:pt x="1569" y="83"/>
                </a:lnTo>
                <a:lnTo>
                  <a:pt x="1518" y="97"/>
                </a:lnTo>
                <a:lnTo>
                  <a:pt x="1468" y="114"/>
                </a:lnTo>
                <a:lnTo>
                  <a:pt x="1417" y="132"/>
                </a:lnTo>
                <a:lnTo>
                  <a:pt x="1368" y="150"/>
                </a:lnTo>
                <a:lnTo>
                  <a:pt x="1320" y="169"/>
                </a:lnTo>
                <a:lnTo>
                  <a:pt x="1271" y="191"/>
                </a:lnTo>
                <a:lnTo>
                  <a:pt x="1222" y="213"/>
                </a:lnTo>
                <a:lnTo>
                  <a:pt x="1176" y="236"/>
                </a:lnTo>
                <a:lnTo>
                  <a:pt x="1130" y="261"/>
                </a:lnTo>
                <a:lnTo>
                  <a:pt x="1085" y="287"/>
                </a:lnTo>
                <a:lnTo>
                  <a:pt x="1040" y="314"/>
                </a:lnTo>
                <a:lnTo>
                  <a:pt x="995" y="341"/>
                </a:lnTo>
                <a:lnTo>
                  <a:pt x="952" y="370"/>
                </a:lnTo>
                <a:lnTo>
                  <a:pt x="909" y="398"/>
                </a:lnTo>
                <a:lnTo>
                  <a:pt x="867" y="429"/>
                </a:lnTo>
                <a:lnTo>
                  <a:pt x="826" y="462"/>
                </a:lnTo>
                <a:lnTo>
                  <a:pt x="786" y="494"/>
                </a:lnTo>
                <a:lnTo>
                  <a:pt x="746" y="526"/>
                </a:lnTo>
                <a:lnTo>
                  <a:pt x="707" y="561"/>
                </a:lnTo>
                <a:lnTo>
                  <a:pt x="669" y="597"/>
                </a:lnTo>
                <a:lnTo>
                  <a:pt x="633" y="633"/>
                </a:lnTo>
                <a:lnTo>
                  <a:pt x="597" y="671"/>
                </a:lnTo>
                <a:lnTo>
                  <a:pt x="561" y="709"/>
                </a:lnTo>
                <a:lnTo>
                  <a:pt x="526" y="746"/>
                </a:lnTo>
                <a:lnTo>
                  <a:pt x="492" y="786"/>
                </a:lnTo>
                <a:lnTo>
                  <a:pt x="460" y="828"/>
                </a:lnTo>
                <a:lnTo>
                  <a:pt x="429" y="867"/>
                </a:lnTo>
                <a:lnTo>
                  <a:pt x="398" y="911"/>
                </a:lnTo>
                <a:lnTo>
                  <a:pt x="368" y="952"/>
                </a:lnTo>
                <a:lnTo>
                  <a:pt x="341" y="995"/>
                </a:lnTo>
                <a:lnTo>
                  <a:pt x="312" y="1040"/>
                </a:lnTo>
                <a:lnTo>
                  <a:pt x="285" y="1085"/>
                </a:lnTo>
                <a:lnTo>
                  <a:pt x="260" y="1130"/>
                </a:lnTo>
                <a:lnTo>
                  <a:pt x="236" y="1177"/>
                </a:lnTo>
                <a:lnTo>
                  <a:pt x="213" y="1224"/>
                </a:lnTo>
                <a:lnTo>
                  <a:pt x="191" y="1271"/>
                </a:lnTo>
                <a:lnTo>
                  <a:pt x="169" y="1320"/>
                </a:lnTo>
                <a:lnTo>
                  <a:pt x="150" y="1368"/>
                </a:lnTo>
                <a:lnTo>
                  <a:pt x="130" y="1417"/>
                </a:lnTo>
                <a:lnTo>
                  <a:pt x="114" y="1468"/>
                </a:lnTo>
                <a:lnTo>
                  <a:pt x="97" y="1518"/>
                </a:lnTo>
                <a:lnTo>
                  <a:pt x="81" y="1569"/>
                </a:lnTo>
                <a:lnTo>
                  <a:pt x="67" y="1621"/>
                </a:lnTo>
                <a:lnTo>
                  <a:pt x="54" y="1673"/>
                </a:lnTo>
                <a:lnTo>
                  <a:pt x="43" y="1725"/>
                </a:lnTo>
                <a:lnTo>
                  <a:pt x="32" y="1778"/>
                </a:lnTo>
                <a:lnTo>
                  <a:pt x="25" y="1832"/>
                </a:lnTo>
                <a:lnTo>
                  <a:pt x="16" y="1886"/>
                </a:lnTo>
                <a:lnTo>
                  <a:pt x="11" y="1940"/>
                </a:lnTo>
                <a:lnTo>
                  <a:pt x="5" y="1994"/>
                </a:lnTo>
                <a:lnTo>
                  <a:pt x="2" y="2050"/>
                </a:lnTo>
                <a:lnTo>
                  <a:pt x="0" y="2104"/>
                </a:lnTo>
                <a:lnTo>
                  <a:pt x="0" y="2160"/>
                </a:lnTo>
                <a:lnTo>
                  <a:pt x="563" y="2160"/>
                </a:lnTo>
                <a:lnTo>
                  <a:pt x="563" y="2160"/>
                </a:lnTo>
                <a:lnTo>
                  <a:pt x="590" y="2155"/>
                </a:lnTo>
                <a:lnTo>
                  <a:pt x="613" y="2146"/>
                </a:lnTo>
                <a:lnTo>
                  <a:pt x="636" y="2135"/>
                </a:lnTo>
                <a:lnTo>
                  <a:pt x="654" y="2122"/>
                </a:lnTo>
                <a:lnTo>
                  <a:pt x="671" y="2106"/>
                </a:lnTo>
                <a:lnTo>
                  <a:pt x="682" y="2090"/>
                </a:lnTo>
                <a:lnTo>
                  <a:pt x="687" y="2081"/>
                </a:lnTo>
                <a:lnTo>
                  <a:pt x="691" y="2072"/>
                </a:lnTo>
                <a:lnTo>
                  <a:pt x="692" y="2063"/>
                </a:lnTo>
                <a:lnTo>
                  <a:pt x="692" y="2052"/>
                </a:lnTo>
                <a:lnTo>
                  <a:pt x="692" y="2052"/>
                </a:lnTo>
                <a:lnTo>
                  <a:pt x="691" y="2041"/>
                </a:lnTo>
                <a:lnTo>
                  <a:pt x="689" y="2030"/>
                </a:lnTo>
                <a:lnTo>
                  <a:pt x="683" y="2019"/>
                </a:lnTo>
                <a:lnTo>
                  <a:pt x="678" y="2009"/>
                </a:lnTo>
                <a:lnTo>
                  <a:pt x="662" y="1991"/>
                </a:lnTo>
                <a:lnTo>
                  <a:pt x="644" y="1972"/>
                </a:lnTo>
                <a:lnTo>
                  <a:pt x="626" y="1956"/>
                </a:lnTo>
                <a:lnTo>
                  <a:pt x="611" y="1936"/>
                </a:lnTo>
                <a:lnTo>
                  <a:pt x="604" y="1927"/>
                </a:lnTo>
                <a:lnTo>
                  <a:pt x="600" y="1917"/>
                </a:lnTo>
                <a:lnTo>
                  <a:pt x="597" y="1906"/>
                </a:lnTo>
                <a:lnTo>
                  <a:pt x="595" y="1893"/>
                </a:lnTo>
                <a:lnTo>
                  <a:pt x="595" y="1893"/>
                </a:lnTo>
                <a:lnTo>
                  <a:pt x="597" y="1882"/>
                </a:lnTo>
                <a:lnTo>
                  <a:pt x="599" y="1872"/>
                </a:lnTo>
                <a:lnTo>
                  <a:pt x="604" y="1861"/>
                </a:lnTo>
                <a:lnTo>
                  <a:pt x="609" y="1850"/>
                </a:lnTo>
                <a:lnTo>
                  <a:pt x="617" y="1841"/>
                </a:lnTo>
                <a:lnTo>
                  <a:pt x="624" y="1832"/>
                </a:lnTo>
                <a:lnTo>
                  <a:pt x="635" y="1823"/>
                </a:lnTo>
                <a:lnTo>
                  <a:pt x="645" y="1816"/>
                </a:lnTo>
                <a:lnTo>
                  <a:pt x="656" y="1808"/>
                </a:lnTo>
                <a:lnTo>
                  <a:pt x="671" y="1801"/>
                </a:lnTo>
                <a:lnTo>
                  <a:pt x="683" y="1796"/>
                </a:lnTo>
                <a:lnTo>
                  <a:pt x="700" y="1792"/>
                </a:lnTo>
                <a:lnTo>
                  <a:pt x="714" y="1787"/>
                </a:lnTo>
                <a:lnTo>
                  <a:pt x="730" y="1785"/>
                </a:lnTo>
                <a:lnTo>
                  <a:pt x="748" y="1783"/>
                </a:lnTo>
                <a:lnTo>
                  <a:pt x="764" y="1783"/>
                </a:lnTo>
                <a:lnTo>
                  <a:pt x="764" y="1783"/>
                </a:lnTo>
                <a:lnTo>
                  <a:pt x="783" y="1783"/>
                </a:lnTo>
                <a:lnTo>
                  <a:pt x="799" y="1785"/>
                </a:lnTo>
                <a:lnTo>
                  <a:pt x="815" y="1787"/>
                </a:lnTo>
                <a:lnTo>
                  <a:pt x="831" y="1792"/>
                </a:lnTo>
                <a:lnTo>
                  <a:pt x="846" y="1796"/>
                </a:lnTo>
                <a:lnTo>
                  <a:pt x="860" y="1801"/>
                </a:lnTo>
                <a:lnTo>
                  <a:pt x="873" y="1808"/>
                </a:lnTo>
                <a:lnTo>
                  <a:pt x="885" y="1816"/>
                </a:lnTo>
                <a:lnTo>
                  <a:pt x="896" y="1823"/>
                </a:lnTo>
                <a:lnTo>
                  <a:pt x="905" y="1832"/>
                </a:lnTo>
                <a:lnTo>
                  <a:pt x="914" y="1841"/>
                </a:lnTo>
                <a:lnTo>
                  <a:pt x="921" y="1850"/>
                </a:lnTo>
                <a:lnTo>
                  <a:pt x="927" y="1861"/>
                </a:lnTo>
                <a:lnTo>
                  <a:pt x="930" y="1872"/>
                </a:lnTo>
                <a:lnTo>
                  <a:pt x="934" y="1882"/>
                </a:lnTo>
                <a:lnTo>
                  <a:pt x="934" y="1893"/>
                </a:lnTo>
                <a:lnTo>
                  <a:pt x="934" y="1893"/>
                </a:lnTo>
                <a:lnTo>
                  <a:pt x="934" y="1906"/>
                </a:lnTo>
                <a:lnTo>
                  <a:pt x="930" y="1917"/>
                </a:lnTo>
                <a:lnTo>
                  <a:pt x="925" y="1927"/>
                </a:lnTo>
                <a:lnTo>
                  <a:pt x="920" y="1936"/>
                </a:lnTo>
                <a:lnTo>
                  <a:pt x="903" y="1956"/>
                </a:lnTo>
                <a:lnTo>
                  <a:pt x="885" y="1972"/>
                </a:lnTo>
                <a:lnTo>
                  <a:pt x="867" y="1991"/>
                </a:lnTo>
                <a:lnTo>
                  <a:pt x="853" y="2009"/>
                </a:lnTo>
                <a:lnTo>
                  <a:pt x="846" y="2019"/>
                </a:lnTo>
                <a:lnTo>
                  <a:pt x="842" y="2030"/>
                </a:lnTo>
                <a:lnTo>
                  <a:pt x="838" y="2041"/>
                </a:lnTo>
                <a:lnTo>
                  <a:pt x="837" y="2052"/>
                </a:lnTo>
                <a:lnTo>
                  <a:pt x="837" y="2052"/>
                </a:lnTo>
                <a:lnTo>
                  <a:pt x="838" y="2063"/>
                </a:lnTo>
                <a:lnTo>
                  <a:pt x="840" y="2072"/>
                </a:lnTo>
                <a:lnTo>
                  <a:pt x="844" y="2081"/>
                </a:lnTo>
                <a:lnTo>
                  <a:pt x="847" y="2090"/>
                </a:lnTo>
                <a:lnTo>
                  <a:pt x="858" y="2106"/>
                </a:lnTo>
                <a:lnTo>
                  <a:pt x="874" y="2122"/>
                </a:lnTo>
                <a:lnTo>
                  <a:pt x="894" y="2135"/>
                </a:lnTo>
                <a:lnTo>
                  <a:pt x="916" y="2146"/>
                </a:lnTo>
                <a:lnTo>
                  <a:pt x="941" y="2155"/>
                </a:lnTo>
                <a:lnTo>
                  <a:pt x="968" y="2160"/>
                </a:lnTo>
                <a:lnTo>
                  <a:pt x="2160" y="2160"/>
                </a:lnTo>
                <a:lnTo>
                  <a:pt x="2160" y="986"/>
                </a:lnTo>
                <a:lnTo>
                  <a:pt x="2160" y="986"/>
                </a:lnTo>
                <a:lnTo>
                  <a:pt x="2164" y="956"/>
                </a:lnTo>
                <a:lnTo>
                  <a:pt x="2173" y="929"/>
                </a:lnTo>
                <a:lnTo>
                  <a:pt x="2183" y="903"/>
                </a:lnTo>
                <a:lnTo>
                  <a:pt x="2196" y="882"/>
                </a:lnTo>
                <a:lnTo>
                  <a:pt x="2203" y="871"/>
                </a:lnTo>
                <a:lnTo>
                  <a:pt x="2212" y="864"/>
                </a:lnTo>
                <a:lnTo>
                  <a:pt x="2221" y="856"/>
                </a:lnTo>
                <a:lnTo>
                  <a:pt x="2230" y="849"/>
                </a:lnTo>
                <a:lnTo>
                  <a:pt x="2239" y="846"/>
                </a:lnTo>
                <a:lnTo>
                  <a:pt x="2250" y="842"/>
                </a:lnTo>
                <a:lnTo>
                  <a:pt x="2259" y="838"/>
                </a:lnTo>
                <a:lnTo>
                  <a:pt x="2270" y="838"/>
                </a:lnTo>
                <a:lnTo>
                  <a:pt x="2270" y="838"/>
                </a:lnTo>
                <a:lnTo>
                  <a:pt x="2283" y="840"/>
                </a:lnTo>
                <a:lnTo>
                  <a:pt x="2293" y="842"/>
                </a:lnTo>
                <a:lnTo>
                  <a:pt x="2304" y="847"/>
                </a:lnTo>
                <a:lnTo>
                  <a:pt x="2313" y="853"/>
                </a:lnTo>
                <a:lnTo>
                  <a:pt x="2331" y="869"/>
                </a:lnTo>
                <a:lnTo>
                  <a:pt x="2349" y="887"/>
                </a:lnTo>
                <a:lnTo>
                  <a:pt x="2367" y="905"/>
                </a:lnTo>
                <a:lnTo>
                  <a:pt x="2385" y="920"/>
                </a:lnTo>
                <a:lnTo>
                  <a:pt x="2394" y="927"/>
                </a:lnTo>
                <a:lnTo>
                  <a:pt x="2405" y="930"/>
                </a:lnTo>
                <a:lnTo>
                  <a:pt x="2416" y="934"/>
                </a:lnTo>
                <a:lnTo>
                  <a:pt x="2429" y="936"/>
                </a:lnTo>
                <a:lnTo>
                  <a:pt x="2429" y="936"/>
                </a:lnTo>
                <a:lnTo>
                  <a:pt x="2439" y="934"/>
                </a:lnTo>
                <a:lnTo>
                  <a:pt x="2450" y="932"/>
                </a:lnTo>
                <a:lnTo>
                  <a:pt x="2461" y="929"/>
                </a:lnTo>
                <a:lnTo>
                  <a:pt x="2472" y="921"/>
                </a:lnTo>
                <a:lnTo>
                  <a:pt x="2481" y="914"/>
                </a:lnTo>
                <a:lnTo>
                  <a:pt x="2490" y="907"/>
                </a:lnTo>
                <a:lnTo>
                  <a:pt x="2499" y="896"/>
                </a:lnTo>
                <a:lnTo>
                  <a:pt x="2508" y="885"/>
                </a:lnTo>
                <a:lnTo>
                  <a:pt x="2515" y="874"/>
                </a:lnTo>
                <a:lnTo>
                  <a:pt x="2521" y="860"/>
                </a:lnTo>
                <a:lnTo>
                  <a:pt x="2526" y="847"/>
                </a:lnTo>
                <a:lnTo>
                  <a:pt x="2531" y="831"/>
                </a:lnTo>
                <a:lnTo>
                  <a:pt x="2535" y="817"/>
                </a:lnTo>
                <a:lnTo>
                  <a:pt x="2537" y="801"/>
                </a:lnTo>
                <a:lnTo>
                  <a:pt x="2539" y="783"/>
                </a:lnTo>
                <a:lnTo>
                  <a:pt x="2540" y="766"/>
                </a:lnTo>
                <a:lnTo>
                  <a:pt x="2540" y="766"/>
                </a:lnTo>
                <a:lnTo>
                  <a:pt x="2539" y="748"/>
                </a:lnTo>
                <a:lnTo>
                  <a:pt x="2537" y="732"/>
                </a:lnTo>
                <a:lnTo>
                  <a:pt x="2535" y="716"/>
                </a:lnTo>
                <a:lnTo>
                  <a:pt x="2531" y="700"/>
                </a:lnTo>
                <a:lnTo>
                  <a:pt x="2526" y="685"/>
                </a:lnTo>
                <a:lnTo>
                  <a:pt x="2521" y="671"/>
                </a:lnTo>
                <a:lnTo>
                  <a:pt x="2515" y="658"/>
                </a:lnTo>
                <a:lnTo>
                  <a:pt x="2508" y="645"/>
                </a:lnTo>
                <a:lnTo>
                  <a:pt x="2499" y="635"/>
                </a:lnTo>
                <a:lnTo>
                  <a:pt x="2490" y="626"/>
                </a:lnTo>
                <a:lnTo>
                  <a:pt x="2481" y="617"/>
                </a:lnTo>
                <a:lnTo>
                  <a:pt x="2472" y="609"/>
                </a:lnTo>
                <a:lnTo>
                  <a:pt x="2461" y="604"/>
                </a:lnTo>
                <a:lnTo>
                  <a:pt x="2450" y="600"/>
                </a:lnTo>
                <a:lnTo>
                  <a:pt x="2439" y="597"/>
                </a:lnTo>
                <a:lnTo>
                  <a:pt x="2429" y="597"/>
                </a:lnTo>
                <a:lnTo>
                  <a:pt x="2429" y="597"/>
                </a:lnTo>
                <a:close/>
              </a:path>
            </a:pathLst>
          </a:custGeom>
          <a:solidFill>
            <a:srgbClr val="c8d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18"/>
          <p:cNvSpPr/>
          <p:nvPr/>
        </p:nvSpPr>
        <p:spPr>
          <a:xfrm>
            <a:off x="947880" y="2225520"/>
            <a:ext cx="2666880" cy="0"/>
          </a:xfrm>
          <a:prstGeom prst="line">
            <a:avLst/>
          </a:prstGeom>
          <a:ln w="25560">
            <a:solidFill>
              <a:srgbClr val="c8d95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9"/>
          <p:cNvSpPr/>
          <p:nvPr/>
        </p:nvSpPr>
        <p:spPr>
          <a:xfrm>
            <a:off x="3557520" y="2165400"/>
            <a:ext cx="114480" cy="109440"/>
          </a:xfrm>
          <a:prstGeom prst="ellipse">
            <a:avLst/>
          </a:prstGeom>
          <a:solidFill>
            <a:srgbClr val="c8d952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21"/>
          <p:cNvSpPr/>
          <p:nvPr/>
        </p:nvSpPr>
        <p:spPr>
          <a:xfrm>
            <a:off x="5594400" y="2165400"/>
            <a:ext cx="112680" cy="109440"/>
          </a:xfrm>
          <a:prstGeom prst="ellipse">
            <a:avLst/>
          </a:prstGeom>
          <a:solidFill>
            <a:srgbClr val="589902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22"/>
          <p:cNvSpPr/>
          <p:nvPr/>
        </p:nvSpPr>
        <p:spPr>
          <a:xfrm>
            <a:off x="5707080" y="2220840"/>
            <a:ext cx="2666880" cy="0"/>
          </a:xfrm>
          <a:prstGeom prst="line">
            <a:avLst/>
          </a:prstGeom>
          <a:ln w="25560">
            <a:solidFill>
              <a:srgbClr val="58990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椭圆 24"/>
          <p:cNvSpPr/>
          <p:nvPr/>
        </p:nvSpPr>
        <p:spPr>
          <a:xfrm>
            <a:off x="5567400" y="4071960"/>
            <a:ext cx="111240" cy="109440"/>
          </a:xfrm>
          <a:prstGeom prst="ellipse">
            <a:avLst/>
          </a:prstGeom>
          <a:solidFill>
            <a:srgbClr val="c8d952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25"/>
          <p:cNvSpPr/>
          <p:nvPr/>
        </p:nvSpPr>
        <p:spPr>
          <a:xfrm>
            <a:off x="5678640" y="4127400"/>
            <a:ext cx="2670120" cy="0"/>
          </a:xfrm>
          <a:prstGeom prst="line">
            <a:avLst/>
          </a:prstGeom>
          <a:ln w="25560">
            <a:solidFill>
              <a:srgbClr val="c8d95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27"/>
          <p:cNvSpPr/>
          <p:nvPr/>
        </p:nvSpPr>
        <p:spPr>
          <a:xfrm>
            <a:off x="928800" y="4151160"/>
            <a:ext cx="2666880" cy="0"/>
          </a:xfrm>
          <a:prstGeom prst="line">
            <a:avLst/>
          </a:prstGeom>
          <a:ln w="25560">
            <a:solidFill>
              <a:srgbClr val="58990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28"/>
          <p:cNvSpPr/>
          <p:nvPr/>
        </p:nvSpPr>
        <p:spPr>
          <a:xfrm>
            <a:off x="3538440" y="4091040"/>
            <a:ext cx="114480" cy="109440"/>
          </a:xfrm>
          <a:prstGeom prst="ellipse">
            <a:avLst/>
          </a:prstGeom>
          <a:solidFill>
            <a:srgbClr val="589902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2118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6069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614088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21405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0"/>
          <p:cNvSpPr/>
          <p:nvPr/>
        </p:nvSpPr>
        <p:spPr>
          <a:xfrm rot="2681400">
            <a:off x="6262200" y="2185920"/>
            <a:ext cx="1584360" cy="1582920"/>
          </a:xfrm>
          <a:prstGeom prst="rect">
            <a:avLst/>
          </a:prstGeom>
          <a:solidFill>
            <a:srgbClr val="c8d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1"/>
          <p:cNvSpPr/>
          <p:nvPr/>
        </p:nvSpPr>
        <p:spPr>
          <a:xfrm rot="2681400">
            <a:off x="1685520" y="2187720"/>
            <a:ext cx="1584360" cy="1584360"/>
          </a:xfrm>
          <a:prstGeom prst="rect">
            <a:avLst/>
          </a:prstGeom>
          <a:solidFill>
            <a:srgbClr val="c8d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2"/>
          <p:cNvSpPr/>
          <p:nvPr/>
        </p:nvSpPr>
        <p:spPr>
          <a:xfrm rot="2681400">
            <a:off x="2831760" y="3327480"/>
            <a:ext cx="1584360" cy="1584360"/>
          </a:xfrm>
          <a:prstGeom prst="rect">
            <a:avLst/>
          </a:prstGeom>
          <a:solidFill>
            <a:srgbClr val="589902"/>
          </a:solidFill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44"/>
          <p:cNvSpPr/>
          <p:nvPr/>
        </p:nvSpPr>
        <p:spPr>
          <a:xfrm rot="2681400">
            <a:off x="3976560" y="2185560"/>
            <a:ext cx="1586160" cy="1582920"/>
          </a:xfrm>
          <a:prstGeom prst="rect">
            <a:avLst/>
          </a:prstGeom>
          <a:solidFill>
            <a:srgbClr val="c8d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3"/>
          <p:cNvSpPr/>
          <p:nvPr/>
        </p:nvSpPr>
        <p:spPr>
          <a:xfrm rot="2681400">
            <a:off x="5122440" y="3327480"/>
            <a:ext cx="1584360" cy="1584360"/>
          </a:xfrm>
          <a:prstGeom prst="rect">
            <a:avLst/>
          </a:prstGeom>
          <a:solidFill>
            <a:srgbClr val="589902"/>
          </a:solidFill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"/>
          <p:cNvSpPr/>
          <p:nvPr/>
        </p:nvSpPr>
        <p:spPr>
          <a:xfrm>
            <a:off x="4315320" y="2811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5456880" y="3954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4"/>
          <p:cNvSpPr/>
          <p:nvPr/>
        </p:nvSpPr>
        <p:spPr>
          <a:xfrm>
            <a:off x="3242160" y="3954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2029320" y="2811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5"/>
          <p:cNvSpPr/>
          <p:nvPr/>
        </p:nvSpPr>
        <p:spPr>
          <a:xfrm>
            <a:off x="6599880" y="2811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24"/>
          <p:cNvGrpSpPr/>
          <p:nvPr/>
        </p:nvGrpSpPr>
        <p:grpSpPr>
          <a:xfrm>
            <a:off x="1886040" y="1359000"/>
            <a:ext cx="5686200" cy="3713040"/>
            <a:chOff x="1886040" y="1359000"/>
            <a:chExt cx="5686200" cy="3713040"/>
          </a:xfrm>
        </p:grpSpPr>
        <p:sp>
          <p:nvSpPr>
            <p:cNvPr id="104" name="Oval 2"/>
            <p:cNvSpPr/>
            <p:nvPr/>
          </p:nvSpPr>
          <p:spPr>
            <a:xfrm>
              <a:off x="3552840" y="1935000"/>
              <a:ext cx="2352600" cy="2352600"/>
            </a:xfrm>
            <a:prstGeom prst="ellipse">
              <a:avLst/>
            </a:prstGeom>
            <a:solidFill>
              <a:srgbClr val="c8d952"/>
            </a:solidFill>
            <a:ln w="57240">
              <a:solidFill>
                <a:srgbClr val="c8d9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2920" rIns="142920" tIns="71280" bIns="71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7"/>
            <p:cNvSpPr/>
            <p:nvPr/>
          </p:nvSpPr>
          <p:spPr>
            <a:xfrm>
              <a:off x="6100920" y="1359000"/>
              <a:ext cx="1471320" cy="1473120"/>
            </a:xfrm>
            <a:prstGeom prst="ellipse">
              <a:avLst/>
            </a:prstGeom>
            <a:solidFill>
              <a:srgbClr val="589902"/>
            </a:solidFill>
            <a:ln w="57240">
              <a:solidFill>
                <a:srgbClr val="c8d9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2920" rIns="142920" tIns="71280" bIns="71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8"/>
            <p:cNvSpPr/>
            <p:nvPr/>
          </p:nvSpPr>
          <p:spPr>
            <a:xfrm>
              <a:off x="1886040" y="1359000"/>
              <a:ext cx="1471320" cy="1473120"/>
            </a:xfrm>
            <a:prstGeom prst="ellipse">
              <a:avLst/>
            </a:prstGeom>
            <a:solidFill>
              <a:srgbClr val="589902"/>
            </a:solidFill>
            <a:ln w="57240">
              <a:solidFill>
                <a:srgbClr val="c8d9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2920" rIns="142920" tIns="71280" bIns="71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39"/>
            <p:cNvSpPr/>
            <p:nvPr/>
          </p:nvSpPr>
          <p:spPr>
            <a:xfrm>
              <a:off x="6100920" y="3594240"/>
              <a:ext cx="1471320" cy="1471680"/>
            </a:xfrm>
            <a:prstGeom prst="ellipse">
              <a:avLst/>
            </a:prstGeom>
            <a:solidFill>
              <a:srgbClr val="589902"/>
            </a:solidFill>
            <a:ln w="57240">
              <a:solidFill>
                <a:srgbClr val="c8d9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2920" rIns="142920" tIns="71280" bIns="71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41"/>
            <p:cNvSpPr/>
            <p:nvPr/>
          </p:nvSpPr>
          <p:spPr>
            <a:xfrm>
              <a:off x="1886040" y="3600360"/>
              <a:ext cx="1471320" cy="1471680"/>
            </a:xfrm>
            <a:prstGeom prst="ellipse">
              <a:avLst/>
            </a:prstGeom>
            <a:solidFill>
              <a:srgbClr val="589902"/>
            </a:solidFill>
            <a:ln w="57240">
              <a:solidFill>
                <a:srgbClr val="c8d9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42920" rIns="142920" tIns="71280" bIns="71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traight Connector 5"/>
            <p:cNvSpPr/>
            <p:nvPr/>
          </p:nvSpPr>
          <p:spPr>
            <a:xfrm>
              <a:off x="3288600" y="2445120"/>
              <a:ext cx="354960" cy="156240"/>
            </a:xfrm>
            <a:prstGeom prst="line">
              <a:avLst/>
            </a:prstGeom>
            <a:ln w="57240">
              <a:solidFill>
                <a:srgbClr val="c8d9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traight Connector 44"/>
            <p:cNvSpPr/>
            <p:nvPr/>
          </p:nvSpPr>
          <p:spPr>
            <a:xfrm flipV="1">
              <a:off x="3329280" y="3733920"/>
              <a:ext cx="416160" cy="271800"/>
            </a:xfrm>
            <a:prstGeom prst="line">
              <a:avLst/>
            </a:prstGeom>
            <a:ln w="57240">
              <a:solidFill>
                <a:srgbClr val="c8d9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traight Connector 46"/>
            <p:cNvSpPr/>
            <p:nvPr/>
          </p:nvSpPr>
          <p:spPr>
            <a:xfrm flipV="1">
              <a:off x="5814360" y="2445120"/>
              <a:ext cx="383400" cy="156240"/>
            </a:xfrm>
            <a:prstGeom prst="line">
              <a:avLst/>
            </a:prstGeom>
            <a:ln w="57240">
              <a:solidFill>
                <a:srgbClr val="c8d9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traight Connector 48"/>
            <p:cNvSpPr/>
            <p:nvPr/>
          </p:nvSpPr>
          <p:spPr>
            <a:xfrm>
              <a:off x="5725080" y="3734280"/>
              <a:ext cx="460800" cy="271800"/>
            </a:xfrm>
            <a:prstGeom prst="line">
              <a:avLst/>
            </a:prstGeom>
            <a:ln w="57240">
              <a:solidFill>
                <a:srgbClr val="c8d9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2140560" y="420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63550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635688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2140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5"/>
          <p:cNvSpPr/>
          <p:nvPr/>
        </p:nvSpPr>
        <p:spPr>
          <a:xfrm>
            <a:off x="4212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12"/>
          <p:cNvSpPr/>
          <p:nvPr/>
        </p:nvSpPr>
        <p:spPr>
          <a:xfrm>
            <a:off x="2664000" y="1222200"/>
            <a:ext cx="1863720" cy="1802160"/>
          </a:xfrm>
          <a:custGeom>
            <a:avLst/>
            <a:gdLst>
              <a:gd name="textAreaLeft" fmla="*/ 0 w 1863720"/>
              <a:gd name="textAreaRight" fmla="*/ 1864080 w 1863720"/>
              <a:gd name="textAreaTop" fmla="*/ 0 h 1802160"/>
              <a:gd name="textAreaBottom" fmla="*/ 1802520 h 1802160"/>
            </a:gdLst>
            <a:ahLst/>
            <a:rect l="textAreaLeft" t="textAreaTop" r="textAreaRight" b="textAreaBottom"/>
            <a:pathLst>
              <a:path w="552" h="534">
                <a:moveTo>
                  <a:pt x="552" y="299"/>
                </a:moveTo>
                <a:cubicBezTo>
                  <a:pt x="552" y="0"/>
                  <a:pt x="552" y="0"/>
                  <a:pt x="55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34"/>
                  <a:pt x="0" y="534"/>
                  <a:pt x="0" y="534"/>
                </a:cubicBezTo>
                <a:cubicBezTo>
                  <a:pt x="332" y="534"/>
                  <a:pt x="332" y="534"/>
                  <a:pt x="332" y="534"/>
                </a:cubicBezTo>
                <a:cubicBezTo>
                  <a:pt x="355" y="420"/>
                  <a:pt x="441" y="329"/>
                  <a:pt x="552" y="299"/>
                </a:cubicBezTo>
                <a:close/>
              </a:path>
            </a:pathLst>
          </a:custGeom>
          <a:solidFill>
            <a:srgbClr val="c8d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6"/>
          <p:cNvSpPr/>
          <p:nvPr/>
        </p:nvSpPr>
        <p:spPr>
          <a:xfrm>
            <a:off x="5051520" y="1214280"/>
            <a:ext cx="1863720" cy="1800360"/>
          </a:xfrm>
          <a:custGeom>
            <a:avLst/>
            <a:gdLst>
              <a:gd name="textAreaLeft" fmla="*/ 0 w 1863720"/>
              <a:gd name="textAreaRight" fmla="*/ 1864080 w 186372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552" h="534">
                <a:moveTo>
                  <a:pt x="0" y="0"/>
                </a:moveTo>
                <a:cubicBezTo>
                  <a:pt x="0" y="298"/>
                  <a:pt x="0" y="298"/>
                  <a:pt x="0" y="298"/>
                </a:cubicBezTo>
                <a:cubicBezTo>
                  <a:pt x="112" y="328"/>
                  <a:pt x="198" y="420"/>
                  <a:pt x="221" y="534"/>
                </a:cubicBezTo>
                <a:cubicBezTo>
                  <a:pt x="552" y="534"/>
                  <a:pt x="552" y="534"/>
                  <a:pt x="552" y="534"/>
                </a:cubicBezTo>
                <a:cubicBezTo>
                  <a:pt x="552" y="0"/>
                  <a:pt x="552" y="0"/>
                  <a:pt x="552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5899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6"/>
          <p:cNvSpPr/>
          <p:nvPr/>
        </p:nvSpPr>
        <p:spPr>
          <a:xfrm>
            <a:off x="2665440" y="3416400"/>
            <a:ext cx="1862280" cy="1798560"/>
          </a:xfrm>
          <a:custGeom>
            <a:avLst/>
            <a:gdLst>
              <a:gd name="textAreaLeft" fmla="*/ 0 w 1862280"/>
              <a:gd name="textAreaRight" fmla="*/ 1862640 w 1862280"/>
              <a:gd name="textAreaTop" fmla="*/ 0 h 1798560"/>
              <a:gd name="textAreaBottom" fmla="*/ 1798920 h 1798560"/>
            </a:gdLst>
            <a:ahLst/>
            <a:rect l="textAreaLeft" t="textAreaTop" r="textAreaRight" b="textAreaBottom"/>
            <a:pathLst>
              <a:path w="552" h="534">
                <a:moveTo>
                  <a:pt x="33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534"/>
                  <a:pt x="0" y="534"/>
                  <a:pt x="0" y="534"/>
                </a:cubicBezTo>
                <a:cubicBezTo>
                  <a:pt x="552" y="534"/>
                  <a:pt x="552" y="534"/>
                  <a:pt x="552" y="534"/>
                </a:cubicBezTo>
                <a:cubicBezTo>
                  <a:pt x="552" y="237"/>
                  <a:pt x="552" y="237"/>
                  <a:pt x="552" y="237"/>
                </a:cubicBezTo>
                <a:cubicBezTo>
                  <a:pt x="440" y="206"/>
                  <a:pt x="354" y="115"/>
                  <a:pt x="332" y="0"/>
                </a:cubicBezTo>
                <a:close/>
              </a:path>
            </a:pathLst>
          </a:custGeom>
          <a:solidFill>
            <a:srgbClr val="5899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8"/>
          <p:cNvSpPr/>
          <p:nvPr/>
        </p:nvSpPr>
        <p:spPr>
          <a:xfrm>
            <a:off x="5064120" y="3424320"/>
            <a:ext cx="1862280" cy="1801800"/>
          </a:xfrm>
          <a:custGeom>
            <a:avLst/>
            <a:gdLst>
              <a:gd name="textAreaLeft" fmla="*/ 0 w 1862280"/>
              <a:gd name="textAreaRight" fmla="*/ 1862640 w 1862280"/>
              <a:gd name="textAreaTop" fmla="*/ 0 h 1801800"/>
              <a:gd name="textAreaBottom" fmla="*/ 1802160 h 1801800"/>
            </a:gdLst>
            <a:ahLst/>
            <a:rect l="textAreaLeft" t="textAreaTop" r="textAreaRight" b="textAreaBottom"/>
            <a:pathLst>
              <a:path w="552" h="534">
                <a:moveTo>
                  <a:pt x="222" y="0"/>
                </a:moveTo>
                <a:cubicBezTo>
                  <a:pt x="199" y="115"/>
                  <a:pt x="112" y="207"/>
                  <a:pt x="0" y="237"/>
                </a:cubicBezTo>
                <a:cubicBezTo>
                  <a:pt x="0" y="534"/>
                  <a:pt x="0" y="534"/>
                  <a:pt x="0" y="534"/>
                </a:cubicBezTo>
                <a:cubicBezTo>
                  <a:pt x="552" y="534"/>
                  <a:pt x="552" y="534"/>
                  <a:pt x="552" y="534"/>
                </a:cubicBezTo>
                <a:cubicBezTo>
                  <a:pt x="552" y="0"/>
                  <a:pt x="552" y="0"/>
                  <a:pt x="552" y="0"/>
                </a:cubicBezTo>
                <a:lnTo>
                  <a:pt x="222" y="0"/>
                </a:lnTo>
                <a:close/>
              </a:path>
            </a:pathLst>
          </a:custGeom>
          <a:solidFill>
            <a:srgbClr val="c8d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3069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3"/>
          <p:cNvSpPr/>
          <p:nvPr/>
        </p:nvSpPr>
        <p:spPr>
          <a:xfrm>
            <a:off x="54979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4"/>
          <p:cNvSpPr/>
          <p:nvPr/>
        </p:nvSpPr>
        <p:spPr>
          <a:xfrm>
            <a:off x="31406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5"/>
          <p:cNvSpPr/>
          <p:nvPr/>
        </p:nvSpPr>
        <p:spPr>
          <a:xfrm>
            <a:off x="556956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圆角矩形 10"/>
          <p:cNvSpPr/>
          <p:nvPr/>
        </p:nvSpPr>
        <p:spPr>
          <a:xfrm>
            <a:off x="800280" y="1987560"/>
            <a:ext cx="7986600" cy="1042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8d95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9"/>
          <p:cNvSpPr/>
          <p:nvPr/>
        </p:nvSpPr>
        <p:spPr>
          <a:xfrm rot="20431200">
            <a:off x="263160" y="1728360"/>
            <a:ext cx="1530360" cy="446040"/>
          </a:xfrm>
          <a:prstGeom prst="rect">
            <a:avLst/>
          </a:prstGeom>
          <a:solidFill>
            <a:srgbClr val="c8d9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圆角矩形 12"/>
          <p:cNvSpPr/>
          <p:nvPr/>
        </p:nvSpPr>
        <p:spPr>
          <a:xfrm>
            <a:off x="800280" y="3983040"/>
            <a:ext cx="7986600" cy="1303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5899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3"/>
          <p:cNvSpPr/>
          <p:nvPr/>
        </p:nvSpPr>
        <p:spPr>
          <a:xfrm rot="20431200">
            <a:off x="263160" y="3723840"/>
            <a:ext cx="1530360" cy="446040"/>
          </a:xfrm>
          <a:prstGeom prst="rect">
            <a:avLst/>
          </a:prstGeom>
          <a:solidFill>
            <a:srgbClr val="5899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6069600" y="44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2426040" y="44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3"/>
          <p:cNvSpPr/>
          <p:nvPr/>
        </p:nvSpPr>
        <p:spPr>
          <a:xfrm>
            <a:off x="6283800" y="2271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4"/>
          <p:cNvSpPr/>
          <p:nvPr/>
        </p:nvSpPr>
        <p:spPr>
          <a:xfrm>
            <a:off x="2640600" y="2271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8-24T03:33:47Z</dcterms:modified>
  <cp:revision>286</cp:revision>
  <dc:subject/>
  <dc:title>幻灯片 1</dc:title>
</cp:coreProperties>
</file>