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EC6E-232E-4D43-B83E-5C52CF0EE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2138-CA66-49F3-B3AA-196EF54D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E709-5BD0-46DE-B857-8430FF59B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1CD2-CD07-408C-81C8-3FBA23E45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D8D9-4D1E-4970-BAC1-C49EA17F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3543-8AF3-4156-8B76-F7D8090A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19EB-C8EB-4CE3-BE47-A66E0783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4F71-B905-423B-A0F1-E9A77B3B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46A9-D447-4770-9A49-C4C7C3A3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0DE3-6987-4789-BE70-419D948D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E86B-E415-459B-9D9B-C03DAD6B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6495-2A82-45D1-8187-ADFC73AF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1E9A-1B51-4866-A03B-70ED4B55D8B9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487400"/>
            <a:ext cx="777240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0480"/>
            <a:ext cx="6400800" cy="14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Company N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214272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14272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07:17:57Z</dcterms:created>
  <dc:creator>keke</dc:creator>
  <dc:description/>
  <dc:language>en-US</dc:language>
  <cp:lastModifiedBy>keke</cp:lastModifiedBy>
  <dcterms:modified xsi:type="dcterms:W3CDTF">2015-07-01T07:01:49Z</dcterms:modified>
  <cp:revision>1</cp:revision>
  <dc:subject/>
  <dc:title>站长站素材 SC.china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