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4A0-C769-4EBE-B9C5-90B8FAB3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075-E844-48F1-9DA2-3B3C9405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2452-85AD-4BE2-80C1-150D520A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12D-6ECD-4CDE-A5A2-5B887372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7B4-3112-471E-904B-E0796778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B08-6CDB-497B-A1C3-0D993171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73D-5616-422C-BDDC-EED5350A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375-715F-4796-8919-7A5497B3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523-4838-41AD-9A00-FE449E0C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EAD-C046-4E3B-8470-180464D7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DC9-7AE6-4665-826E-4FC7B985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852-78F6-426F-A6E9-151B4EBD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8EA5-7403-47A7-80C4-6131C11E65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71720" y="542916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143000" y="6072120"/>
            <a:ext cx="414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5-07-29T01:51:35Z</dcterms:modified>
  <cp:revision>80</cp:revision>
  <dc:subject/>
  <dc:title>幻灯片 1</dc:title>
</cp:coreProperties>
</file>