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3491-5B6A-42F3-B57C-EE0ADF69D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27ED-627C-4B1E-AE3D-E51E829CB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71A9-D52B-484D-8F24-93E350797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B664-5BCF-4A5A-8E57-E0FD67B10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46BE-9654-44FB-95A9-5F774B7D3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4A94-A0E6-4BA5-9B3E-79722FD6F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C2E1-A2F4-45E3-9569-3EF7C920C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D390-3A08-4275-B062-C58DA4CFC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A0F9-1B2F-473C-A8B2-407E2A0A2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A6B1-80C1-4B3E-8FA5-F46067A1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DD2E-DD56-45AF-89BD-9D9283EC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5241-325F-42E0-990E-8542340B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714E-6288-4C90-B02C-301F89FE35D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928960" y="1214280"/>
            <a:ext cx="5286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357720" y="212076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抽象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Windows 用户</cp:lastModifiedBy>
  <dcterms:modified xsi:type="dcterms:W3CDTF">2015-06-30T07:13:12Z</dcterms:modified>
  <cp:revision>79</cp:revision>
  <dc:subject/>
  <dc:title>幻灯片 1</dc:title>
</cp:coreProperties>
</file>