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6FE-61E6-4115-88B5-15A2A67F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87C-9D1E-4F63-A9FE-D8B383DE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D46-D886-4C52-B21E-A649BE3E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6FE6-C5C9-4428-B5DB-83C1DB95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063-6E23-4C6E-B005-6F5045C3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3DD-4E13-4AA7-A650-FD51E827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337-6143-44F0-BF68-0D84CA64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155-DB82-460F-B416-9ED99F19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330-2EFE-4D04-8662-F1894DF5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F6D-D5AB-4994-923C-E0477838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83F-F9F6-4719-9F87-A4F022ED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562E-D6C2-43D5-81B9-322F8F27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882B-B876-4AE8-9A93-9BC598C743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4643280" y="150012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6984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4714920" y="200016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十字形 12"/>
          <p:cNvSpPr/>
          <p:nvPr/>
        </p:nvSpPr>
        <p:spPr>
          <a:xfrm>
            <a:off x="716040" y="1928880"/>
            <a:ext cx="2427120" cy="3295440"/>
          </a:xfrm>
          <a:prstGeom prst="plus">
            <a:avLst>
              <a:gd name="adj" fmla="val 9602"/>
            </a:avLst>
          </a:prstGeom>
          <a:solidFill>
            <a:srgbClr val="4b80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十字形 13"/>
          <p:cNvSpPr/>
          <p:nvPr/>
        </p:nvSpPr>
        <p:spPr>
          <a:xfrm>
            <a:off x="3430440" y="1928880"/>
            <a:ext cx="2427480" cy="3295440"/>
          </a:xfrm>
          <a:prstGeom prst="plus">
            <a:avLst>
              <a:gd name="adj" fmla="val 9602"/>
            </a:avLst>
          </a:prstGeom>
          <a:solidFill>
            <a:srgbClr val="a9c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十字形 14"/>
          <p:cNvSpPr/>
          <p:nvPr/>
        </p:nvSpPr>
        <p:spPr>
          <a:xfrm>
            <a:off x="6145200" y="1928880"/>
            <a:ext cx="2427480" cy="3295440"/>
          </a:xfrm>
          <a:prstGeom prst="plus">
            <a:avLst>
              <a:gd name="adj" fmla="val 9602"/>
            </a:avLst>
          </a:prstGeom>
          <a:solidFill>
            <a:srgbClr val="4b80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6855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4140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"/>
          <p:cNvSpPr/>
          <p:nvPr/>
        </p:nvSpPr>
        <p:spPr>
          <a:xfrm>
            <a:off x="1425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上弧形箭头 9"/>
          <p:cNvSpPr/>
          <p:nvPr/>
        </p:nvSpPr>
        <p:spPr>
          <a:xfrm>
            <a:off x="3286080" y="1928880"/>
            <a:ext cx="928800" cy="500040"/>
          </a:xfrm>
          <a:custGeom>
            <a:avLst/>
            <a:gdLst>
              <a:gd name="textAreaLeft" fmla="*/ 175680 w 928800"/>
              <a:gd name="textAreaRight" fmla="*/ 728640 w 92880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79" hR="21600" stAng="10800000" swAng="5400000"/>
                <a:lnTo>
                  <a:pt x="12850" y="0"/>
                </a:lnTo>
                <a:arcTo wR="8179" hR="21600" stAng="-5400000" swAng="3342545"/>
                <a:lnTo>
                  <a:pt x="21340" y="16200"/>
                </a:lnTo>
                <a:lnTo>
                  <a:pt x="18693" y="21600"/>
                </a:lnTo>
                <a:lnTo>
                  <a:pt x="15525" y="16200"/>
                </a:lnTo>
                <a:lnTo>
                  <a:pt x="16097" y="16200"/>
                </a:lnTo>
                <a:arcTo wR="8179" hR="21600" stAng="-2057455" swAng="-2956321"/>
                <a:lnTo>
                  <a:pt x="10514" y="899"/>
                </a:lnTo>
                <a:arcTo wR="8179" hR="21600" stAng="-5786224" swAng="-5013776"/>
                <a:close/>
              </a:path>
              <a:path fill="darkenLess" w="21600" h="21600">
                <a:moveTo>
                  <a:pt x="0" y="21600"/>
                </a:moveTo>
                <a:arcTo wR="8179" hR="21600" stAng="10800000" swAng="5400000"/>
                <a:lnTo>
                  <a:pt x="8179" y="0"/>
                </a:lnTo>
                <a:arcTo wR="8179" hR="21600" stAng="-5400000" swAng="386224"/>
                <a:lnTo>
                  <a:pt x="10514" y="899"/>
                </a:lnTo>
                <a:arcTo wR="8179" hR="21600" stAng="-5786224" swAng="-5013776"/>
                <a:close/>
              </a:path>
            </a:pathLst>
          </a:custGeom>
          <a:solidFill>
            <a:srgbClr val="4b80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上弧形箭头 10"/>
          <p:cNvSpPr/>
          <p:nvPr/>
        </p:nvSpPr>
        <p:spPr>
          <a:xfrm>
            <a:off x="3286080" y="2857680"/>
            <a:ext cx="928800" cy="500040"/>
          </a:xfrm>
          <a:custGeom>
            <a:avLst/>
            <a:gdLst>
              <a:gd name="textAreaLeft" fmla="*/ 175680 w 928800"/>
              <a:gd name="textAreaRight" fmla="*/ 728640 w 92880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79" hR="21600" stAng="10800000" swAng="5400000"/>
                <a:lnTo>
                  <a:pt x="12850" y="0"/>
                </a:lnTo>
                <a:arcTo wR="8179" hR="21600" stAng="-5400000" swAng="3342545"/>
                <a:lnTo>
                  <a:pt x="21340" y="16200"/>
                </a:lnTo>
                <a:lnTo>
                  <a:pt x="18693" y="21600"/>
                </a:lnTo>
                <a:lnTo>
                  <a:pt x="15525" y="16200"/>
                </a:lnTo>
                <a:lnTo>
                  <a:pt x="16097" y="16200"/>
                </a:lnTo>
                <a:arcTo wR="8179" hR="21600" stAng="-2057455" swAng="-2956321"/>
                <a:lnTo>
                  <a:pt x="10514" y="899"/>
                </a:lnTo>
                <a:arcTo wR="8179" hR="21600" stAng="-5786224" swAng="-5013776"/>
                <a:close/>
              </a:path>
              <a:path fill="darkenLess" w="21600" h="21600">
                <a:moveTo>
                  <a:pt x="0" y="21600"/>
                </a:moveTo>
                <a:arcTo wR="8179" hR="21600" stAng="10800000" swAng="5400000"/>
                <a:lnTo>
                  <a:pt x="8179" y="0"/>
                </a:lnTo>
                <a:arcTo wR="8179" hR="21600" stAng="-5400000" swAng="386224"/>
                <a:lnTo>
                  <a:pt x="10514" y="899"/>
                </a:lnTo>
                <a:arcTo wR="8179" hR="21600" stAng="-5786224" swAng="-5013776"/>
                <a:close/>
              </a:path>
            </a:pathLst>
          </a:custGeom>
          <a:solidFill>
            <a:srgbClr val="a9c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上弧形箭头 11"/>
          <p:cNvSpPr/>
          <p:nvPr/>
        </p:nvSpPr>
        <p:spPr>
          <a:xfrm>
            <a:off x="3357720" y="3786120"/>
            <a:ext cx="928440" cy="500040"/>
          </a:xfrm>
          <a:custGeom>
            <a:avLst/>
            <a:gdLst>
              <a:gd name="textAreaLeft" fmla="*/ 175680 w 928440"/>
              <a:gd name="textAreaRight" fmla="*/ 728280 w 92844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79" hR="21600" stAng="10800000" swAng="5400000"/>
                <a:lnTo>
                  <a:pt x="12850" y="0"/>
                </a:lnTo>
                <a:arcTo wR="8179" hR="21600" stAng="-5400000" swAng="3342545"/>
                <a:lnTo>
                  <a:pt x="21340" y="16200"/>
                </a:lnTo>
                <a:lnTo>
                  <a:pt x="18693" y="21600"/>
                </a:lnTo>
                <a:lnTo>
                  <a:pt x="15525" y="16200"/>
                </a:lnTo>
                <a:lnTo>
                  <a:pt x="16097" y="16200"/>
                </a:lnTo>
                <a:arcTo wR="8179" hR="21600" stAng="-2057455" swAng="-2956321"/>
                <a:lnTo>
                  <a:pt x="10514" y="899"/>
                </a:lnTo>
                <a:arcTo wR="8179" hR="21600" stAng="-5786224" swAng="-5013776"/>
                <a:close/>
              </a:path>
              <a:path fill="darkenLess" w="21600" h="21600">
                <a:moveTo>
                  <a:pt x="0" y="21600"/>
                </a:moveTo>
                <a:arcTo wR="8179" hR="21600" stAng="10800000" swAng="5400000"/>
                <a:lnTo>
                  <a:pt x="8179" y="0"/>
                </a:lnTo>
                <a:arcTo wR="8179" hR="21600" stAng="-5400000" swAng="386224"/>
                <a:lnTo>
                  <a:pt x="10514" y="899"/>
                </a:lnTo>
                <a:arcTo wR="8179" hR="21600" stAng="-5786224" swAng="-5013776"/>
                <a:close/>
              </a:path>
            </a:pathLst>
          </a:custGeom>
          <a:solidFill>
            <a:srgbClr val="4b80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640760" y="291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4713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4640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同心圆 10"/>
          <p:cNvSpPr/>
          <p:nvPr/>
        </p:nvSpPr>
        <p:spPr>
          <a:xfrm>
            <a:off x="3571920" y="1000080"/>
            <a:ext cx="2216160" cy="2216160"/>
          </a:xfrm>
          <a:custGeom>
            <a:avLst/>
            <a:gdLst>
              <a:gd name="textAreaLeft" fmla="*/ 324360 w 2216160"/>
              <a:gd name="textAreaRight" fmla="*/ 1891800 w 2216160"/>
              <a:gd name="textAreaTop" fmla="*/ 324360 h 2216160"/>
              <a:gd name="textAreaBottom" fmla="*/ 1891800 h 2216160"/>
            </a:gdLst>
            <a:ahLst/>
            <a:rect l="textAreaLeft" t="textAreaTop" r="textAreaRight" b="textAreaBottom"/>
            <a:pathLst>
              <a:path w="2216150" h="2216150">
                <a:moveTo>
                  <a:pt x="0" y="1108075"/>
                </a:moveTo>
                <a:lnTo>
                  <a:pt x="0" y="1108075"/>
                </a:lnTo>
                <a:arcTo wR="1108075" hR="1108075" stAng="-10799997" swAng="5400003"/>
                <a:lnTo>
                  <a:pt x="1108077" y="1"/>
                </a:lnTo>
                <a:arcTo wR="1108075" hR="1108075" stAng="-5399997" swAng="5400003"/>
                <a:lnTo>
                  <a:pt x="2216151" y="1108078"/>
                </a:lnTo>
                <a:arcTo wR="1108075" hR="1108075" stAng="0" swAng="5400003"/>
                <a:lnTo>
                  <a:pt x="1108075" y="2216153"/>
                </a:lnTo>
                <a:arcTo wR="1108075" hR="1108075" stAng="5400003" swAng="5400000"/>
                <a:close/>
                <a:moveTo>
                  <a:pt x="88114" y="1108075"/>
                </a:moveTo>
                <a:lnTo>
                  <a:pt x="88114" y="1108075"/>
                </a:lnTo>
                <a:arcTo wR="1019961" hR="1019961" stAng="-10799997" swAng="-5400000"/>
                <a:lnTo>
                  <a:pt x="1108074" y="2128037"/>
                </a:lnTo>
                <a:arcTo wR="1019961" hR="1019961" stAng="5400003" swAng="-5400000"/>
                <a:lnTo>
                  <a:pt x="2128036" y="1108077"/>
                </a:lnTo>
                <a:arcTo wR="1019961" hR="1019961" stAng="0" swAng="-5400000"/>
                <a:lnTo>
                  <a:pt x="1108075" y="88116"/>
                </a:lnTo>
                <a:arcTo wR="1019961" hR="1019961" stAng="-5399997" swAng="-5400000"/>
                <a:close/>
              </a:path>
            </a:pathLst>
          </a:custGeom>
          <a:solidFill>
            <a:srgbClr val="a9c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同心圆 11"/>
          <p:cNvSpPr/>
          <p:nvPr/>
        </p:nvSpPr>
        <p:spPr>
          <a:xfrm>
            <a:off x="3643200" y="3214800"/>
            <a:ext cx="2216160" cy="2216160"/>
          </a:xfrm>
          <a:custGeom>
            <a:avLst/>
            <a:gdLst>
              <a:gd name="textAreaLeft" fmla="*/ 324360 w 2216160"/>
              <a:gd name="textAreaRight" fmla="*/ 1891800 w 2216160"/>
              <a:gd name="textAreaTop" fmla="*/ 324360 h 2216160"/>
              <a:gd name="textAreaBottom" fmla="*/ 1891800 h 2216160"/>
            </a:gdLst>
            <a:ahLst/>
            <a:rect l="textAreaLeft" t="textAreaTop" r="textAreaRight" b="textAreaBottom"/>
            <a:pathLst>
              <a:path w="2216150" h="2216150">
                <a:moveTo>
                  <a:pt x="0" y="1108075"/>
                </a:moveTo>
                <a:lnTo>
                  <a:pt x="0" y="1108075"/>
                </a:lnTo>
                <a:arcTo wR="1108075" hR="1108075" stAng="-10799997" swAng="5400003"/>
                <a:lnTo>
                  <a:pt x="1108077" y="1"/>
                </a:lnTo>
                <a:arcTo wR="1108075" hR="1108075" stAng="-5399997" swAng="5400003"/>
                <a:lnTo>
                  <a:pt x="2216151" y="1108078"/>
                </a:lnTo>
                <a:arcTo wR="1108075" hR="1108075" stAng="0" swAng="5400003"/>
                <a:lnTo>
                  <a:pt x="1108075" y="2216153"/>
                </a:lnTo>
                <a:arcTo wR="1108075" hR="1108075" stAng="5400003" swAng="5400000"/>
                <a:close/>
                <a:moveTo>
                  <a:pt x="88114" y="1108075"/>
                </a:moveTo>
                <a:lnTo>
                  <a:pt x="88114" y="1108075"/>
                </a:lnTo>
                <a:arcTo wR="1019961" hR="1019961" stAng="-10799997" swAng="-5400000"/>
                <a:lnTo>
                  <a:pt x="1108074" y="2128037"/>
                </a:lnTo>
                <a:arcTo wR="1019961" hR="1019961" stAng="5400003" swAng="-5400000"/>
                <a:lnTo>
                  <a:pt x="2128036" y="1108077"/>
                </a:lnTo>
                <a:arcTo wR="1019961" hR="1019961" stAng="0" swAng="-5400000"/>
                <a:lnTo>
                  <a:pt x="1108075" y="88116"/>
                </a:lnTo>
                <a:arcTo wR="1019961" hR="1019961" stAng="-5399997" swAng="-5400000"/>
                <a:close/>
              </a:path>
            </a:pathLst>
          </a:custGeom>
          <a:solidFill>
            <a:srgbClr val="a9c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同心圆 12"/>
          <p:cNvSpPr/>
          <p:nvPr/>
        </p:nvSpPr>
        <p:spPr>
          <a:xfrm>
            <a:off x="2570040" y="2214720"/>
            <a:ext cx="2216160" cy="2216160"/>
          </a:xfrm>
          <a:custGeom>
            <a:avLst/>
            <a:gdLst>
              <a:gd name="textAreaLeft" fmla="*/ 324360 w 2216160"/>
              <a:gd name="textAreaRight" fmla="*/ 1891800 w 2216160"/>
              <a:gd name="textAreaTop" fmla="*/ 324360 h 2216160"/>
              <a:gd name="textAreaBottom" fmla="*/ 1891800 h 2216160"/>
            </a:gdLst>
            <a:ahLst/>
            <a:rect l="textAreaLeft" t="textAreaTop" r="textAreaRight" b="textAreaBottom"/>
            <a:pathLst>
              <a:path w="2216150" h="2216150">
                <a:moveTo>
                  <a:pt x="0" y="1108075"/>
                </a:moveTo>
                <a:lnTo>
                  <a:pt x="0" y="1108075"/>
                </a:lnTo>
                <a:arcTo wR="1108075" hR="1108075" stAng="-10799997" swAng="5400003"/>
                <a:lnTo>
                  <a:pt x="1108077" y="1"/>
                </a:lnTo>
                <a:arcTo wR="1108075" hR="1108075" stAng="-5399997" swAng="5400003"/>
                <a:lnTo>
                  <a:pt x="2216151" y="1108078"/>
                </a:lnTo>
                <a:arcTo wR="1108075" hR="1108075" stAng="0" swAng="5400003"/>
                <a:lnTo>
                  <a:pt x="1108075" y="2216153"/>
                </a:lnTo>
                <a:arcTo wR="1108075" hR="1108075" stAng="5400003" swAng="5400000"/>
                <a:close/>
                <a:moveTo>
                  <a:pt x="88114" y="1108075"/>
                </a:moveTo>
                <a:lnTo>
                  <a:pt x="88114" y="1108075"/>
                </a:lnTo>
                <a:arcTo wR="1019961" hR="1019961" stAng="-10799997" swAng="-5400000"/>
                <a:lnTo>
                  <a:pt x="1108074" y="2128037"/>
                </a:lnTo>
                <a:arcTo wR="1019961" hR="1019961" stAng="5400003" swAng="-5400000"/>
                <a:lnTo>
                  <a:pt x="2128036" y="1108077"/>
                </a:lnTo>
                <a:arcTo wR="1019961" hR="1019961" stAng="0" swAng="-5400000"/>
                <a:lnTo>
                  <a:pt x="1108075" y="88116"/>
                </a:lnTo>
                <a:arcTo wR="1019961" hR="1019961" stAng="-5399997" swAng="-5400000"/>
                <a:close/>
              </a:path>
            </a:pathLst>
          </a:custGeom>
          <a:solidFill>
            <a:srgbClr val="4b80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同心圆 13"/>
          <p:cNvSpPr/>
          <p:nvPr/>
        </p:nvSpPr>
        <p:spPr>
          <a:xfrm>
            <a:off x="4784760" y="2071800"/>
            <a:ext cx="2216160" cy="2216160"/>
          </a:xfrm>
          <a:custGeom>
            <a:avLst/>
            <a:gdLst>
              <a:gd name="textAreaLeft" fmla="*/ 324360 w 2216160"/>
              <a:gd name="textAreaRight" fmla="*/ 1891800 w 2216160"/>
              <a:gd name="textAreaTop" fmla="*/ 324360 h 2216160"/>
              <a:gd name="textAreaBottom" fmla="*/ 1891800 h 2216160"/>
            </a:gdLst>
            <a:ahLst/>
            <a:rect l="textAreaLeft" t="textAreaTop" r="textAreaRight" b="textAreaBottom"/>
            <a:pathLst>
              <a:path w="2216150" h="2216150">
                <a:moveTo>
                  <a:pt x="0" y="1108075"/>
                </a:moveTo>
                <a:lnTo>
                  <a:pt x="0" y="1108075"/>
                </a:lnTo>
                <a:arcTo wR="1108075" hR="1108075" stAng="-10799997" swAng="5400003"/>
                <a:lnTo>
                  <a:pt x="1108077" y="1"/>
                </a:lnTo>
                <a:arcTo wR="1108075" hR="1108075" stAng="-5399997" swAng="5400003"/>
                <a:lnTo>
                  <a:pt x="2216151" y="1108078"/>
                </a:lnTo>
                <a:arcTo wR="1108075" hR="1108075" stAng="0" swAng="5400003"/>
                <a:lnTo>
                  <a:pt x="1108075" y="2216153"/>
                </a:lnTo>
                <a:arcTo wR="1108075" hR="1108075" stAng="5400003" swAng="5400000"/>
                <a:close/>
                <a:moveTo>
                  <a:pt x="88114" y="1108075"/>
                </a:moveTo>
                <a:lnTo>
                  <a:pt x="88114" y="1108075"/>
                </a:lnTo>
                <a:arcTo wR="1019961" hR="1019961" stAng="-10799997" swAng="-5400000"/>
                <a:lnTo>
                  <a:pt x="1108074" y="2128037"/>
                </a:lnTo>
                <a:arcTo wR="1019961" hR="1019961" stAng="5400003" swAng="-5400000"/>
                <a:lnTo>
                  <a:pt x="2128036" y="1108077"/>
                </a:lnTo>
                <a:arcTo wR="1019961" hR="1019961" stAng="0" swAng="-5400000"/>
                <a:lnTo>
                  <a:pt x="1108075" y="88116"/>
                </a:lnTo>
                <a:arcTo wR="1019961" hR="1019961" stAng="-5399997" swAng="-5400000"/>
                <a:close/>
              </a:path>
            </a:pathLst>
          </a:custGeom>
          <a:solidFill>
            <a:srgbClr val="4b80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4140720" y="135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5997960" y="300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4283640" y="48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2354760" y="314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左箭头标注 6"/>
          <p:cNvSpPr/>
          <p:nvPr/>
        </p:nvSpPr>
        <p:spPr>
          <a:xfrm flipH="1">
            <a:off x="596880" y="2311560"/>
            <a:ext cx="1974960" cy="197460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4983"/>
            </a:avLst>
          </a:prstGeom>
          <a:solidFill>
            <a:srgbClr val="4b80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左箭头标注 7"/>
          <p:cNvSpPr/>
          <p:nvPr/>
        </p:nvSpPr>
        <p:spPr>
          <a:xfrm flipH="1">
            <a:off x="2597040" y="2311560"/>
            <a:ext cx="1974960" cy="197460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4983"/>
            </a:avLst>
          </a:prstGeom>
          <a:solidFill>
            <a:srgbClr val="a9c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左箭头标注 8"/>
          <p:cNvSpPr/>
          <p:nvPr/>
        </p:nvSpPr>
        <p:spPr>
          <a:xfrm flipH="1">
            <a:off x="4596840" y="2311560"/>
            <a:ext cx="1974600" cy="197460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4b80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左箭头标注 9"/>
          <p:cNvSpPr/>
          <p:nvPr/>
        </p:nvSpPr>
        <p:spPr>
          <a:xfrm flipH="1">
            <a:off x="6597720" y="2311560"/>
            <a:ext cx="1974960" cy="197460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4983"/>
            </a:avLst>
          </a:prstGeom>
          <a:solidFill>
            <a:srgbClr val="a9c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2997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6998040" y="3130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4997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925920" y="3130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右箭头 6"/>
          <p:cNvSpPr/>
          <p:nvPr/>
        </p:nvSpPr>
        <p:spPr>
          <a:xfrm>
            <a:off x="2570040" y="1143000"/>
            <a:ext cx="2143080" cy="2287440"/>
          </a:xfrm>
          <a:custGeom>
            <a:avLst/>
            <a:gdLst/>
            <a:ahLst/>
            <a:rect l="l" t="t" r="r" b="b"/>
            <a:pathLst>
              <a:path w="2143125" h="2287588">
                <a:moveTo>
                  <a:pt x="0" y="2287588"/>
                </a:moveTo>
                <a:lnTo>
                  <a:pt x="0" y="215695"/>
                </a:lnTo>
                <a:lnTo>
                  <a:pt x="0" y="215695"/>
                </a:lnTo>
                <a:arcTo wR="119479" hR="119479" stAng="10800000" swAng="5400000"/>
                <a:lnTo>
                  <a:pt x="1495065" y="96216"/>
                </a:lnTo>
                <a:lnTo>
                  <a:pt x="1495065" y="0"/>
                </a:lnTo>
                <a:lnTo>
                  <a:pt x="2143125" y="378540"/>
                </a:lnTo>
                <a:lnTo>
                  <a:pt x="1495065" y="757080"/>
                </a:lnTo>
                <a:lnTo>
                  <a:pt x="1495065" y="660865"/>
                </a:lnTo>
                <a:lnTo>
                  <a:pt x="564649" y="660865"/>
                </a:lnTo>
                <a:lnTo>
                  <a:pt x="564649" y="2287588"/>
                </a:lnTo>
                <a:close/>
              </a:path>
            </a:pathLst>
          </a:custGeom>
          <a:solidFill>
            <a:srgbClr val="4b80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右箭头 7"/>
          <p:cNvSpPr/>
          <p:nvPr/>
        </p:nvSpPr>
        <p:spPr>
          <a:xfrm rot="5400000">
            <a:off x="4785120" y="1070280"/>
            <a:ext cx="2143080" cy="2287800"/>
          </a:xfrm>
          <a:custGeom>
            <a:avLst/>
            <a:gdLst/>
            <a:ahLst/>
            <a:rect l="l" t="t" r="r" b="b"/>
            <a:pathLst>
              <a:path w="2143125" h="2287587">
                <a:moveTo>
                  <a:pt x="0" y="2287587"/>
                </a:moveTo>
                <a:lnTo>
                  <a:pt x="0" y="215695"/>
                </a:lnTo>
                <a:lnTo>
                  <a:pt x="0" y="215695"/>
                </a:lnTo>
                <a:arcTo wR="119479" hR="119479" stAng="10800000" swAng="5400000"/>
                <a:lnTo>
                  <a:pt x="1495065" y="96216"/>
                </a:lnTo>
                <a:lnTo>
                  <a:pt x="1495065" y="0"/>
                </a:lnTo>
                <a:lnTo>
                  <a:pt x="2143125" y="378540"/>
                </a:lnTo>
                <a:lnTo>
                  <a:pt x="1495065" y="757080"/>
                </a:lnTo>
                <a:lnTo>
                  <a:pt x="1495065" y="660865"/>
                </a:lnTo>
                <a:lnTo>
                  <a:pt x="564649" y="660865"/>
                </a:lnTo>
                <a:lnTo>
                  <a:pt x="564649" y="2287587"/>
                </a:lnTo>
                <a:close/>
              </a:path>
            </a:pathLst>
          </a:custGeom>
          <a:solidFill>
            <a:srgbClr val="a9c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右箭头 8"/>
          <p:cNvSpPr/>
          <p:nvPr/>
        </p:nvSpPr>
        <p:spPr>
          <a:xfrm rot="10800000">
            <a:off x="4784400" y="3357720"/>
            <a:ext cx="2143080" cy="2287440"/>
          </a:xfrm>
          <a:custGeom>
            <a:avLst/>
            <a:gdLst/>
            <a:ahLst/>
            <a:rect l="l" t="t" r="r" b="b"/>
            <a:pathLst>
              <a:path w="2143125" h="2287587">
                <a:moveTo>
                  <a:pt x="0" y="2287587"/>
                </a:moveTo>
                <a:lnTo>
                  <a:pt x="0" y="215695"/>
                </a:lnTo>
                <a:lnTo>
                  <a:pt x="0" y="215695"/>
                </a:lnTo>
                <a:arcTo wR="119479" hR="119479" stAng="10800000" swAng="5400000"/>
                <a:lnTo>
                  <a:pt x="1495065" y="96216"/>
                </a:lnTo>
                <a:lnTo>
                  <a:pt x="1495065" y="0"/>
                </a:lnTo>
                <a:lnTo>
                  <a:pt x="2143125" y="378540"/>
                </a:lnTo>
                <a:lnTo>
                  <a:pt x="1495065" y="757080"/>
                </a:lnTo>
                <a:lnTo>
                  <a:pt x="1495065" y="660865"/>
                </a:lnTo>
                <a:lnTo>
                  <a:pt x="564649" y="660865"/>
                </a:lnTo>
                <a:lnTo>
                  <a:pt x="564649" y="2287587"/>
                </a:lnTo>
                <a:close/>
              </a:path>
            </a:pathLst>
          </a:custGeom>
          <a:solidFill>
            <a:srgbClr val="4b80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右箭头 9"/>
          <p:cNvSpPr/>
          <p:nvPr/>
        </p:nvSpPr>
        <p:spPr>
          <a:xfrm rot="16200000">
            <a:off x="2570760" y="3428280"/>
            <a:ext cx="2143440" cy="2287440"/>
          </a:xfrm>
          <a:custGeom>
            <a:avLst/>
            <a:gdLst/>
            <a:ahLst/>
            <a:rect l="l" t="t" r="r" b="b"/>
            <a:pathLst>
              <a:path w="2143125" h="2287588">
                <a:moveTo>
                  <a:pt x="0" y="2287588"/>
                </a:moveTo>
                <a:lnTo>
                  <a:pt x="0" y="215695"/>
                </a:lnTo>
                <a:lnTo>
                  <a:pt x="0" y="215695"/>
                </a:lnTo>
                <a:arcTo wR="119479" hR="119479" stAng="10800000" swAng="5400000"/>
                <a:lnTo>
                  <a:pt x="1495065" y="96216"/>
                </a:lnTo>
                <a:lnTo>
                  <a:pt x="1495065" y="0"/>
                </a:lnTo>
                <a:lnTo>
                  <a:pt x="2143125" y="378540"/>
                </a:lnTo>
                <a:lnTo>
                  <a:pt x="1495065" y="757080"/>
                </a:lnTo>
                <a:lnTo>
                  <a:pt x="1495065" y="660865"/>
                </a:lnTo>
                <a:lnTo>
                  <a:pt x="564649" y="660865"/>
                </a:lnTo>
                <a:lnTo>
                  <a:pt x="564649" y="2287588"/>
                </a:lnTo>
                <a:close/>
              </a:path>
            </a:pathLst>
          </a:custGeom>
          <a:solidFill>
            <a:srgbClr val="a9c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314064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58550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278352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5355000" y="121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 形 6"/>
          <p:cNvSpPr/>
          <p:nvPr/>
        </p:nvSpPr>
        <p:spPr>
          <a:xfrm>
            <a:off x="1262160" y="1643040"/>
            <a:ext cx="3405240" cy="2576520"/>
          </a:xfrm>
          <a:custGeom>
            <a:avLst/>
            <a:gdLst>
              <a:gd name="textAreaLeft" fmla="*/ 0 w 3405240"/>
              <a:gd name="textAreaRight" fmla="*/ 3405600 w 3405240"/>
              <a:gd name="textAreaTop" fmla="*/ 1288440 h 2576520"/>
              <a:gd name="textAreaBottom" fmla="*/ 2576880 h 2576520"/>
            </a:gdLst>
            <a:ahLst/>
            <a:rect l="textAreaLeft" t="textAreaTop" r="textAreaRight" b="textAreaBottom"/>
            <a:pathLst>
              <a:path w="3405187" h="2576512">
                <a:moveTo>
                  <a:pt x="0" y="0"/>
                </a:moveTo>
                <a:lnTo>
                  <a:pt x="2887626" y="0"/>
                </a:lnTo>
                <a:lnTo>
                  <a:pt x="2887626" y="1288256"/>
                </a:lnTo>
                <a:lnTo>
                  <a:pt x="3405187" y="1288256"/>
                </a:lnTo>
                <a:lnTo>
                  <a:pt x="3405187" y="2576512"/>
                </a:lnTo>
                <a:lnTo>
                  <a:pt x="0" y="2576512"/>
                </a:lnTo>
                <a:close/>
              </a:path>
            </a:pathLst>
          </a:custGeom>
          <a:solidFill>
            <a:srgbClr val="a9c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 形 7"/>
          <p:cNvSpPr/>
          <p:nvPr/>
        </p:nvSpPr>
        <p:spPr>
          <a:xfrm flipH="1" flipV="1">
            <a:off x="4714200" y="2928240"/>
            <a:ext cx="3405240" cy="2576520"/>
          </a:xfrm>
          <a:custGeom>
            <a:avLst/>
            <a:gdLst>
              <a:gd name="textAreaLeft" fmla="*/ -360 w 3405240"/>
              <a:gd name="textAreaRight" fmla="*/ 3405240 w 3405240"/>
              <a:gd name="textAreaTop" fmla="*/ 1288440 h 2576520"/>
              <a:gd name="textAreaBottom" fmla="*/ 2576880 h 2576520"/>
            </a:gdLst>
            <a:ahLst/>
            <a:rect l="textAreaLeft" t="textAreaTop" r="textAreaRight" b="textAreaBottom"/>
            <a:pathLst>
              <a:path w="3405188" h="2576512">
                <a:moveTo>
                  <a:pt x="0" y="0"/>
                </a:moveTo>
                <a:lnTo>
                  <a:pt x="2887626" y="0"/>
                </a:lnTo>
                <a:lnTo>
                  <a:pt x="2887626" y="1288256"/>
                </a:lnTo>
                <a:lnTo>
                  <a:pt x="3405188" y="1288256"/>
                </a:lnTo>
                <a:lnTo>
                  <a:pt x="3405188" y="2576512"/>
                </a:lnTo>
                <a:lnTo>
                  <a:pt x="0" y="2576512"/>
                </a:lnTo>
                <a:close/>
              </a:path>
            </a:pathLst>
          </a:custGeom>
          <a:solidFill>
            <a:srgbClr val="4b80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23310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59742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十字箭头标注 12"/>
          <p:cNvSpPr/>
          <p:nvPr/>
        </p:nvSpPr>
        <p:spPr>
          <a:xfrm>
            <a:off x="2357280" y="1000080"/>
            <a:ext cx="4577040" cy="4576680"/>
          </a:xfrm>
          <a:custGeom>
            <a:avLst/>
            <a:gdLst>
              <a:gd name="textAreaLeft" fmla="*/ 1187280 w 4577040"/>
              <a:gd name="textAreaRight" fmla="*/ 3389760 w 4577040"/>
              <a:gd name="textAreaTop" fmla="*/ 1186920 h 4576680"/>
              <a:gd name="textAreaBottom" fmla="*/ 3389760 h 4576680"/>
            </a:gdLst>
            <a:ahLst/>
            <a:rect l="textAreaLeft" t="textAreaTop" r="textAreaRight" b="textAreaBottom"/>
            <a:pathLst>
              <a:path w="4576762" h="4576763">
                <a:moveTo>
                  <a:pt x="0" y="2288382"/>
                </a:moveTo>
                <a:lnTo>
                  <a:pt x="847388" y="1440994"/>
                </a:lnTo>
                <a:lnTo>
                  <a:pt x="847388" y="1563216"/>
                </a:lnTo>
                <a:lnTo>
                  <a:pt x="1187143" y="1563216"/>
                </a:lnTo>
                <a:lnTo>
                  <a:pt x="1187143" y="1187144"/>
                </a:lnTo>
                <a:lnTo>
                  <a:pt x="1563216" y="1187144"/>
                </a:lnTo>
                <a:lnTo>
                  <a:pt x="1563216" y="847388"/>
                </a:lnTo>
                <a:lnTo>
                  <a:pt x="1440993" y="847388"/>
                </a:lnTo>
                <a:lnTo>
                  <a:pt x="2288381" y="0"/>
                </a:lnTo>
                <a:lnTo>
                  <a:pt x="3135769" y="847388"/>
                </a:lnTo>
                <a:lnTo>
                  <a:pt x="3013546" y="847388"/>
                </a:lnTo>
                <a:lnTo>
                  <a:pt x="3013546" y="1187144"/>
                </a:lnTo>
                <a:lnTo>
                  <a:pt x="3389619" y="1187144"/>
                </a:lnTo>
                <a:lnTo>
                  <a:pt x="3389619" y="1563216"/>
                </a:lnTo>
                <a:lnTo>
                  <a:pt x="3729374" y="1563216"/>
                </a:lnTo>
                <a:lnTo>
                  <a:pt x="3729374" y="1440994"/>
                </a:lnTo>
                <a:lnTo>
                  <a:pt x="4576762" y="2288382"/>
                </a:lnTo>
                <a:lnTo>
                  <a:pt x="3729374" y="3135769"/>
                </a:lnTo>
                <a:lnTo>
                  <a:pt x="3729374" y="3013547"/>
                </a:lnTo>
                <a:lnTo>
                  <a:pt x="3389619" y="3013547"/>
                </a:lnTo>
                <a:lnTo>
                  <a:pt x="3389619" y="3389619"/>
                </a:lnTo>
                <a:lnTo>
                  <a:pt x="3013546" y="3389619"/>
                </a:lnTo>
                <a:lnTo>
                  <a:pt x="3013546" y="3729375"/>
                </a:lnTo>
                <a:lnTo>
                  <a:pt x="3135769" y="3729375"/>
                </a:lnTo>
                <a:lnTo>
                  <a:pt x="2288381" y="4576763"/>
                </a:lnTo>
                <a:lnTo>
                  <a:pt x="1440993" y="3729375"/>
                </a:lnTo>
                <a:lnTo>
                  <a:pt x="1563216" y="3729375"/>
                </a:lnTo>
                <a:lnTo>
                  <a:pt x="1563216" y="3389619"/>
                </a:lnTo>
                <a:lnTo>
                  <a:pt x="1187143" y="3389619"/>
                </a:lnTo>
                <a:lnTo>
                  <a:pt x="1187143" y="3013547"/>
                </a:lnTo>
                <a:lnTo>
                  <a:pt x="847388" y="3013547"/>
                </a:lnTo>
                <a:lnTo>
                  <a:pt x="847388" y="3135769"/>
                </a:lnTo>
                <a:close/>
              </a:path>
            </a:pathLst>
          </a:custGeom>
          <a:solidFill>
            <a:srgbClr val="4b80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3643200" y="2286000"/>
            <a:ext cx="2000520" cy="2000160"/>
          </a:xfrm>
          <a:prstGeom prst="rect">
            <a:avLst/>
          </a:prstGeom>
          <a:solidFill>
            <a:srgbClr val="a9c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414072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65696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1783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4212000" y="857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缺角矩形 12"/>
          <p:cNvSpPr/>
          <p:nvPr/>
        </p:nvSpPr>
        <p:spPr>
          <a:xfrm>
            <a:off x="2857680" y="1071720"/>
            <a:ext cx="3929040" cy="3929040"/>
          </a:xfrm>
          <a:custGeom>
            <a:avLst/>
            <a:gdLst>
              <a:gd name="textAreaLeft" fmla="*/ 1205280 w 3929040"/>
              <a:gd name="textAreaRight" fmla="*/ 2723760 w 3929040"/>
              <a:gd name="textAreaTop" fmla="*/ 1205280 h 3929040"/>
              <a:gd name="textAreaBottom" fmla="*/ 2723760 h 3929040"/>
            </a:gdLst>
            <a:ahLst/>
            <a:rect l="textAreaLeft" t="textAreaTop" r="textAreaRight" b="textAreaBottom"/>
            <a:pathLst>
              <a:path w="21600" h="21600">
                <a:moveTo>
                  <a:pt x="9371" y="0"/>
                </a:moveTo>
                <a:arcTo wR="9371" hR="9371" stAng="0" swAng="5400000"/>
                <a:lnTo>
                  <a:pt x="0" y="12229"/>
                </a:lnTo>
                <a:arcTo wR="9371" hR="9371" stAng="16200000" swAng="5400000"/>
                <a:lnTo>
                  <a:pt x="12229" y="21600"/>
                </a:lnTo>
                <a:arcTo wR="9371" hR="9371" stAng="10800000" swAng="5400000"/>
                <a:lnTo>
                  <a:pt x="21600" y="9371"/>
                </a:lnTo>
                <a:arcTo wR="9371" hR="9371" stAng="5400000" swAng="5400000"/>
                <a:close/>
              </a:path>
            </a:pathLst>
          </a:custGeom>
          <a:solidFill>
            <a:srgbClr val="4b80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27835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57121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58550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25689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缺角矩形 17"/>
          <p:cNvSpPr/>
          <p:nvPr/>
        </p:nvSpPr>
        <p:spPr>
          <a:xfrm>
            <a:off x="2857680" y="1071720"/>
            <a:ext cx="3929040" cy="3929040"/>
          </a:xfrm>
          <a:custGeom>
            <a:avLst/>
            <a:gdLst>
              <a:gd name="textAreaLeft" fmla="*/ 1389240 w 3929040"/>
              <a:gd name="textAreaRight" fmla="*/ 2539800 w 3929040"/>
              <a:gd name="textAreaTop" fmla="*/ 1389240 h 3929040"/>
              <a:gd name="textAreaBottom" fmla="*/ 2539800 h 39290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0800" y="21600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a9c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空心弧 12"/>
          <p:cNvSpPr/>
          <p:nvPr/>
        </p:nvSpPr>
        <p:spPr>
          <a:xfrm>
            <a:off x="2714760" y="1285920"/>
            <a:ext cx="4214520" cy="4214880"/>
          </a:xfrm>
          <a:custGeom>
            <a:avLst/>
            <a:gdLst>
              <a:gd name="textAreaLeft" fmla="*/ 0 w 4214520"/>
              <a:gd name="textAreaRight" fmla="*/ 4214880 w 4214520"/>
              <a:gd name="textAreaTop" fmla="*/ 0 h 4214880"/>
              <a:gd name="textAreaBottom" fmla="*/ 2107440 h 4214880"/>
            </a:gdLst>
            <a:ahLst/>
            <a:rect l="textAreaLeft" t="textAreaTop" r="textAreaRight" b="textAreaBottom"/>
            <a:pathLst>
              <a:path w="4214813" h="4214813">
                <a:moveTo>
                  <a:pt x="0" y="2107404"/>
                </a:moveTo>
                <a:lnTo>
                  <a:pt x="0" y="2107404"/>
                </a:lnTo>
                <a:arcTo wR="2107407" hR="2107407" stAng="-10799997" swAng="10800005"/>
                <a:lnTo>
                  <a:pt x="3161110" y="2107407"/>
                </a:lnTo>
                <a:lnTo>
                  <a:pt x="3161110" y="2107407"/>
                </a:lnTo>
                <a:arcTo wR="1053703" hR="1053703" stAng="0" swAng="-10800003"/>
                <a:close/>
              </a:path>
            </a:pathLst>
          </a:custGeom>
          <a:solidFill>
            <a:srgbClr val="a9c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空心弧 13"/>
          <p:cNvSpPr/>
          <p:nvPr/>
        </p:nvSpPr>
        <p:spPr>
          <a:xfrm flipV="1">
            <a:off x="2714760" y="1285560"/>
            <a:ext cx="4214520" cy="4214880"/>
          </a:xfrm>
          <a:custGeom>
            <a:avLst/>
            <a:gdLst>
              <a:gd name="textAreaLeft" fmla="*/ 0 w 4214520"/>
              <a:gd name="textAreaRight" fmla="*/ 4214880 w 4214520"/>
              <a:gd name="textAreaTop" fmla="*/ 0 h 4214880"/>
              <a:gd name="textAreaBottom" fmla="*/ 2107440 h 4214880"/>
            </a:gdLst>
            <a:ahLst/>
            <a:rect l="textAreaLeft" t="textAreaTop" r="textAreaRight" b="textAreaBottom"/>
            <a:pathLst>
              <a:path w="4214813" h="4214813">
                <a:moveTo>
                  <a:pt x="0" y="2107404"/>
                </a:moveTo>
                <a:lnTo>
                  <a:pt x="0" y="2107404"/>
                </a:lnTo>
                <a:arcTo wR="2107407" hR="2107407" stAng="-10799997" swAng="10800005"/>
                <a:lnTo>
                  <a:pt x="3161110" y="2107407"/>
                </a:lnTo>
                <a:lnTo>
                  <a:pt x="3161110" y="2107407"/>
                </a:lnTo>
                <a:arcTo wR="1053703" hR="1053703" stAng="0" swAng="-10800003"/>
                <a:close/>
              </a:path>
            </a:pathLst>
          </a:custGeom>
          <a:solidFill>
            <a:srgbClr val="4b80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43549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45691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21T06:50:33Z</dcterms:modified>
  <cp:revision>288</cp:revision>
  <dc:subject/>
  <dc:title>幻灯片 1</dc:title>
</cp:coreProperties>
</file>