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978D-8C6A-42DC-8B4D-C0639FD6C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A2B5-0E4B-4ACB-8B46-CF37390A0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29C4-1BBD-4973-99B2-FFE03FC2B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6A80-FF8E-4D26-AF83-9682D6E66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98BE-852D-439F-BBE1-02A647BD3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F63B-7CA7-409C-9EEB-EB3C38360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ABBE-BEEA-44B8-B48D-DB3BE7B5C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F156-6AE2-4094-8360-7996652CC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F9C8-DEB6-46F5-B9CC-325A5DD7F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93D2-4CAD-499E-91FD-8887E0C9B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B696-D859-460B-9FB1-3679FD601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1B72-0077-493A-86F1-6A0982FC8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793F1-02AE-4DBE-B1D2-75AB7628C2D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3143160" y="2428920"/>
            <a:ext cx="5286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POWERPOI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3429000" y="3214800"/>
            <a:ext cx="414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简约抽象及相关类别演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Windows 用户</cp:lastModifiedBy>
  <dcterms:modified xsi:type="dcterms:W3CDTF">2015-07-17T08:13:41Z</dcterms:modified>
  <cp:revision>76</cp:revision>
  <dc:subject/>
  <dc:title>幻灯片 1</dc:title>
</cp:coreProperties>
</file>