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A42-F5B6-43A8-B14B-26E19E6F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1F5-C9DF-4CB5-826C-B0875E68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7B6-CAFA-4188-BBE3-BB87B27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5AA-9B04-43CA-B620-98ACFAAD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B5C-331E-406C-8ECE-CB56CF36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BE2-E53E-4DD4-93F2-8426395A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7B5-271B-45C3-AE9B-069CA6E9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AAF-25A4-45BF-A1F8-6F28EA35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DA9-C439-40A1-A69B-B28543F1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2E3-6E16-42FF-9562-822AB8A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9FA-43F3-4279-8098-28F2D58C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356-F8C0-4945-A68B-6855760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45E-C692-44F1-9136-E24FDD96C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60" y="1022400"/>
            <a:ext cx="90392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" y="907920"/>
            <a:ext cx="9136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360" y="965160"/>
            <a:ext cx="907272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360" y="1014480"/>
            <a:ext cx="9072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60" y="1009800"/>
            <a:ext cx="907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360" y="1143000"/>
            <a:ext cx="9072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58920" y="77760"/>
            <a:ext cx="6624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360" y="1123920"/>
            <a:ext cx="9144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5400" y="1123920"/>
            <a:ext cx="90248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30824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360" y="1057320"/>
            <a:ext cx="91011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1080" y="1123920"/>
            <a:ext cx="8853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200" y="1123920"/>
            <a:ext cx="8894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4400" y="907920"/>
            <a:ext cx="9123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7520" y="1123920"/>
            <a:ext cx="85802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59:04Z</dcterms:created>
  <dc:creator/>
  <dc:description/>
  <cp:keywords/>
  <dc:language>en-US</dc:language>
  <cp:lastModifiedBy>微软用户</cp:lastModifiedBy>
  <cp:lastPrinted>1899-12-30T00:00:00Z</cp:lastPrinted>
  <dcterms:modified xsi:type="dcterms:W3CDTF">2012-09-13T12:45:0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