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6A4-CB98-4971-B5BC-ADD6BB23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7E2-C881-4C33-AA3A-E1EF209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5E1-9201-407F-B96B-BFE6487F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89A-DD79-4D2E-8A1C-96EF778C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9DB-A286-48F8-A7BE-BE48558D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223-41AE-42F4-B09F-6618DB4B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E6-DC61-40A3-9117-F7460647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98C-36B8-410B-A441-B852DCA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DC5-5E00-4947-8722-49DCB9F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F2D-8D6E-4A5D-8CC6-98E961F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1ED-7361-4FD9-8616-F85BEA2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E52-0E48-48B8-BA2C-405670C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A24-4E6D-4518-8F72-5EF0E4A78B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54D-EC0E-40E0-9F7A-D6ABDA27F8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948200" y="495360"/>
            <a:ext cx="6195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3777a"/>
                </a:solidFill>
                <a:latin typeface="微软雅黑"/>
              </a:rPr>
              <a:t>PRES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956600" y="6870600"/>
            <a:ext cx="65005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777a"/>
                </a:solidFill>
                <a:latin typeface="微软雅黑"/>
              </a:rPr>
              <a:t>WITH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53777a"/>
                </a:solidFill>
                <a:latin typeface="微软雅黑"/>
              </a:rPr>
              <a:t>YOUR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53777a"/>
                </a:solidFill>
                <a:latin typeface="微软雅黑"/>
              </a:rPr>
              <a:t>ABOU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53777a"/>
                </a:solidFill>
                <a:latin typeface="微软雅黑"/>
              </a:rPr>
              <a:t>PAG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3492360" y="5194440"/>
            <a:ext cx="34419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b2c52"/>
                </a:solidFill>
                <a:latin typeface="微软雅黑"/>
              </a:rPr>
              <a:t>ACQUIR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497040" y="6006960"/>
            <a:ext cx="34326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2c52"/>
                </a:solidFill>
                <a:latin typeface="微软雅黑"/>
              </a:rPr>
              <a:t>CUSTOMER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4219920" y="660240"/>
            <a:ext cx="17200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271f"/>
                </a:solidFill>
                <a:latin typeface="微软雅黑"/>
              </a:rPr>
              <a:t>VE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93271f"/>
                </a:solidFill>
                <a:latin typeface="微软雅黑"/>
              </a:rPr>
              <a:t>STORYT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2756880" y="5969160"/>
            <a:ext cx="4620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MailChim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isn'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jus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abo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emai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marketing-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it'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abou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2259360" y="6210360"/>
            <a:ext cx="5615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crea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valu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i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hometow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Atlanta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reward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creativ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3081600" y="6451560"/>
            <a:ext cx="3971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a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obsess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deligh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custom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4083120" y="1130400"/>
            <a:ext cx="196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45a"/>
                </a:solidFill>
                <a:latin typeface="微软雅黑"/>
              </a:rPr>
              <a:t>MAILCHI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3371760" y="5045040"/>
            <a:ext cx="552600" cy="127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3346560" y="5018040"/>
            <a:ext cx="600120" cy="181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4768920" y="5070600"/>
            <a:ext cx="522360" cy="1378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740120" y="5040360"/>
            <a:ext cx="574920" cy="195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5724360" y="5005440"/>
            <a:ext cx="454320" cy="115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5699160" y="4975200"/>
            <a:ext cx="504720" cy="1778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703920" y="3479760"/>
            <a:ext cx="546120" cy="5396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6572160" y="2540160"/>
            <a:ext cx="181080" cy="3762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6740640" y="2565360"/>
            <a:ext cx="187200" cy="3650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896160" y="2577960"/>
            <a:ext cx="201600" cy="3780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7094520" y="2603520"/>
            <a:ext cx="195120" cy="368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7351560" y="2635200"/>
            <a:ext cx="165240" cy="3621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512120" y="2652840"/>
            <a:ext cx="195120" cy="368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7674120" y="2670120"/>
            <a:ext cx="177480" cy="3668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7705800" y="2692440"/>
            <a:ext cx="114120" cy="3222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7832880" y="2689200"/>
            <a:ext cx="164880" cy="3571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7870680" y="2714760"/>
            <a:ext cx="96840" cy="2109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7983360" y="2940120"/>
            <a:ext cx="96840" cy="903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7993080" y="2849400"/>
            <a:ext cx="98280" cy="907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6629400" y="2968560"/>
            <a:ext cx="192240" cy="3747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6792840" y="2995560"/>
            <a:ext cx="150840" cy="368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6845400" y="3089160"/>
            <a:ext cx="69840" cy="1526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6946920" y="3011400"/>
            <a:ext cx="195120" cy="368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7180200" y="3038400"/>
            <a:ext cx="187560" cy="3715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7338960" y="3059280"/>
            <a:ext cx="150840" cy="368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7391520" y="3152880"/>
            <a:ext cx="69840" cy="1522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7499520" y="3070080"/>
            <a:ext cx="190440" cy="3715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7684920" y="3098880"/>
            <a:ext cx="165240" cy="3618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7848720" y="3097080"/>
            <a:ext cx="85680" cy="3193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839000" y="3419640"/>
            <a:ext cx="76320" cy="680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0" y="12600"/>
            <a:ext cx="10159920" cy="20955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0" y="2108160"/>
            <a:ext cx="10159920" cy="76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0" y="12600"/>
            <a:ext cx="10159920" cy="76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4800600" y="12600"/>
            <a:ext cx="571680" cy="3175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1968480"/>
            <a:ext cx="10159920" cy="5651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6099480" y="2540160"/>
            <a:ext cx="2431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42a3d"/>
                </a:solidFill>
                <a:latin typeface="微软雅黑"/>
              </a:rPr>
              <a:t>NEX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142a3d"/>
                </a:solidFill>
                <a:latin typeface="微软雅黑"/>
              </a:rPr>
              <a:t>STOP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6146640" y="2971800"/>
            <a:ext cx="2223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42a3d"/>
                </a:solidFill>
                <a:latin typeface="微软雅黑"/>
              </a:rPr>
              <a:t>KA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142a3d"/>
                </a:solidFill>
                <a:latin typeface="微软雅黑"/>
              </a:rPr>
              <a:t>HAUS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416120" y="5702400"/>
            <a:ext cx="13024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e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702960" y="6070680"/>
            <a:ext cx="27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So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you'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convin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visi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3862800" y="6261120"/>
            <a:ext cx="24213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you'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w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do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4675320" y="6616800"/>
            <a:ext cx="79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nex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3324600" y="6985080"/>
            <a:ext cx="34977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h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bold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le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prec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w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42437"/>
                </a:solidFill>
                <a:latin typeface="微软雅黑"/>
              </a:rPr>
              <a:t>t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3140640" y="571680"/>
            <a:ext cx="37134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SHUTT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PEOP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2560320" y="1092240"/>
            <a:ext cx="5014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NEX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5001480" y="3816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7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4003560" y="4394160"/>
            <a:ext cx="7430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T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5325840" y="4394160"/>
            <a:ext cx="6134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M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ecd078"/>
                </a:solidFill>
                <a:latin typeface="微软雅黑"/>
              </a:rPr>
              <a:t>T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976120" y="393840"/>
            <a:ext cx="419472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1e2b2b"/>
                </a:solidFill>
                <a:latin typeface="微软雅黑"/>
              </a:rPr>
              <a:t>V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e2b2b"/>
                </a:solidFill>
                <a:latin typeface="微软雅黑"/>
              </a:rPr>
              <a:t>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d45a"/>
                </a:solidFill>
                <a:latin typeface="微软雅黑"/>
              </a:rPr>
              <a:t>INCR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d45a"/>
                </a:solidFill>
                <a:latin typeface="微软雅黑"/>
              </a:rPr>
              <a:t>“MY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d45a"/>
                </a:solidFill>
                <a:latin typeface="微软雅黑"/>
              </a:rPr>
              <a:t>CON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微软雅黑"/>
              </a:rPr>
              <a:t>1.9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523880"/>
                <a:tab algn="l" pos="1625760"/>
                <a:tab algn="l" pos="186696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113133"/>
                </a:solidFill>
                <a:latin typeface="微软雅黑"/>
              </a:rPr>
              <a:t>1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2947320" y="4991040"/>
            <a:ext cx="41886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Unbounc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near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dou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convers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chang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“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Tr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“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cd078"/>
                </a:solidFill>
                <a:latin typeface="微软雅黑"/>
              </a:rPr>
              <a:t>Tr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06440"/>
                <a:tab algn="l" pos="609480"/>
                <a:tab algn="l" pos="685800"/>
                <a:tab algn="l" pos="144792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http://contentverve.com/10-call-to-action-case-studies-examples-from-button-tests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4169160" y="444600"/>
            <a:ext cx="17960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3271f"/>
                </a:solidFill>
                <a:latin typeface="微软雅黑"/>
              </a:rPr>
              <a:t>SU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93271f"/>
                </a:solidFill>
                <a:latin typeface="微软雅黑"/>
              </a:rPr>
              <a:t>CALL-TO-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506760" y="6464160"/>
            <a:ext cx="31208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Powerfu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Call-To-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Hig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Contr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881160" y="6680160"/>
            <a:ext cx="2385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Knock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Conver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ecd078"/>
                </a:solidFill>
                <a:latin typeface="微软雅黑"/>
              </a:rPr>
              <a:t>Rat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4266000" y="876240"/>
            <a:ext cx="160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d45a"/>
                </a:solidFill>
                <a:latin typeface="微软雅黑"/>
              </a:rPr>
              <a:t>LE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d45a"/>
                </a:solidFill>
                <a:latin typeface="微软雅黑"/>
              </a:rPr>
              <a:t>FIL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283640" y="469800"/>
            <a:ext cx="14529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AVO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2962080" y="990720"/>
            <a:ext cx="42357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OVERSTU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135320" y="5562720"/>
            <a:ext cx="18766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Kee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ing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succinc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1247760" y="6058080"/>
            <a:ext cx="7639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'v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lo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in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business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re'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lo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gre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ing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'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925360" y="6299280"/>
            <a:ext cx="429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otenti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custom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kn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bo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317240" y="6781680"/>
            <a:ext cx="7500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B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can'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hi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everyth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once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y'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respo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3756600" y="7023240"/>
            <a:ext cx="2634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overloa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b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leav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ag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6325200" y="2222640"/>
            <a:ext cx="17517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142a3d"/>
                </a:solidFill>
                <a:latin typeface="微软雅黑"/>
              </a:rPr>
              <a:t>TOO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6182280" y="2832120"/>
            <a:ext cx="25200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142a3d"/>
                </a:solidFill>
                <a:latin typeface="微软雅黑"/>
              </a:rPr>
              <a:t>MUCH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5007600" y="2556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2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4440600" y="393840"/>
            <a:ext cx="1253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e2b2b"/>
                </a:solidFill>
                <a:latin typeface="微软雅黑"/>
              </a:rPr>
              <a:t>S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1e2b2b"/>
                </a:solidFill>
                <a:latin typeface="微软雅黑"/>
              </a:rPr>
              <a:t>EXPERI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940840" y="851040"/>
            <a:ext cx="4253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OVER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VISIT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4843440" y="6426360"/>
            <a:ext cx="37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3812760" y="6578640"/>
            <a:ext cx="2432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http://www.ncbi.nlm.nih.gov/pubmed/1151528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2614320" y="5118120"/>
            <a:ext cx="48931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stu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discov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3300120" y="5740560"/>
            <a:ext cx="3547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e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8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4621320" y="380880"/>
            <a:ext cx="9043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3271f"/>
                </a:solidFill>
                <a:latin typeface="微软雅黑"/>
              </a:rPr>
              <a:t>MU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93271f"/>
                </a:solidFill>
                <a:latin typeface="微软雅黑"/>
              </a:rPr>
              <a:t>ZE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4168800" y="6705720"/>
            <a:ext cx="18093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Short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Punchy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Vis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3535560" y="825480"/>
            <a:ext cx="30762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d45a"/>
                </a:solidFill>
                <a:latin typeface="微软雅黑"/>
              </a:rPr>
              <a:t>TIN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d45a"/>
                </a:solidFill>
                <a:latin typeface="微软雅黑"/>
              </a:rPr>
              <a:t>B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d45a"/>
                </a:solidFill>
                <a:latin typeface="微软雅黑"/>
              </a:rPr>
              <a:t>ORAN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"/>
          <p:cNvSpPr/>
          <p:nvPr/>
        </p:nvSpPr>
        <p:spPr>
          <a:xfrm>
            <a:off x="0" y="50760"/>
            <a:ext cx="10159920" cy="756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0" y="0"/>
            <a:ext cx="10159920" cy="20829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0" y="2044800"/>
            <a:ext cx="10159920" cy="759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0" y="0"/>
            <a:ext cx="10159920" cy="76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4915080" y="0"/>
            <a:ext cx="571320" cy="3175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0" y="5435640"/>
            <a:ext cx="10159920" cy="2184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0" y="380880"/>
            <a:ext cx="8775720" cy="72392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"/>
          <p:cNvSpPr/>
          <p:nvPr/>
        </p:nvSpPr>
        <p:spPr>
          <a:xfrm>
            <a:off x="2899080" y="520560"/>
            <a:ext cx="4565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EST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EST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5122080" y="2556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3450600" y="6045120"/>
            <a:ext cx="3233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lear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e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1916640" y="6578640"/>
            <a:ext cx="6314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778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Rememb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ha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every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landing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page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ebsi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busin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778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i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different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ha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ork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on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marke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may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778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another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research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he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est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es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es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agai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1957680" y="4775040"/>
            <a:ext cx="615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Merel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add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th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word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“It’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Fre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besi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cal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ac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increas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conver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r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b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28%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41480"/>
                <a:tab algn="l" pos="1054080"/>
                <a:tab algn="l" pos="18543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ecd078"/>
                </a:solidFill>
                <a:latin typeface="微软雅黑"/>
              </a:rPr>
              <a:t>https://vwo.com/blog/ab-test-case-study-how-two-magical-words-increased-conversion-rate-by-28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305800" y="507960"/>
            <a:ext cx="552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500" spc="-1" strike="noStrike">
                <a:solidFill>
                  <a:srgbClr val="1e2b2b"/>
                </a:solidFill>
                <a:latin typeface="微软雅黑"/>
              </a:rPr>
              <a:t>MUC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1e2b2b"/>
                </a:solidFill>
                <a:latin typeface="微软雅黑"/>
              </a:rPr>
              <a:t>T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45a"/>
                </a:solidFill>
                <a:latin typeface="微软雅黑"/>
              </a:rPr>
              <a:t>MIN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d45a"/>
                </a:solidFill>
                <a:latin typeface="微软雅黑"/>
              </a:rPr>
              <a:t>CHAN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d45a"/>
                </a:solidFill>
                <a:latin typeface="微软雅黑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d45a"/>
                </a:solidFill>
                <a:latin typeface="微软雅黑"/>
              </a:rPr>
              <a:t>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203184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ecd078"/>
                </a:solidFill>
                <a:latin typeface="微软雅黑"/>
              </a:rPr>
              <a:t>Conver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3801600" y="3352680"/>
            <a:ext cx="7153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113133"/>
                </a:solidFill>
                <a:latin typeface="微软雅黑"/>
              </a:rPr>
              <a:t>1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280840" y="3086280"/>
            <a:ext cx="94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1.3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“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It’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Free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4273920" y="368280"/>
            <a:ext cx="15994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271f"/>
                </a:solidFill>
                <a:latin typeface="微软雅黑"/>
              </a:rPr>
              <a:t>VE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93271f"/>
                </a:solidFill>
                <a:latin typeface="微软雅黑"/>
              </a:rPr>
              <a:t>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3252240" y="6769080"/>
            <a:ext cx="3642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Tes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ca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literall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doub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500" spc="-1" strike="noStrike">
                <a:solidFill>
                  <a:srgbClr val="ecd078"/>
                </a:solidFill>
                <a:latin typeface="微软雅黑"/>
              </a:rPr>
              <a:t>busine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4080960" y="825480"/>
            <a:ext cx="19850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45a"/>
                </a:solidFill>
                <a:latin typeface="微软雅黑"/>
              </a:rPr>
              <a:t>GROO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d45a"/>
                </a:solidFill>
                <a:latin typeface="微软雅黑"/>
              </a:rPr>
              <a:t>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0" y="0"/>
            <a:ext cx="10159920" cy="2019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0" y="2019240"/>
            <a:ext cx="10159920" cy="76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10159920" cy="12600"/>
          </a:xfrm>
          <a:prstGeom prst="pie">
            <a:avLst/>
          </a:prstGeom>
          <a:noFill/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4800600" y="-61920"/>
            <a:ext cx="571680" cy="31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22360"/>
            <a:ext cx="10159920" cy="6197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582280" y="495360"/>
            <a:ext cx="49827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MAK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I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ABOU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THEM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783960" y="1015920"/>
            <a:ext cx="25790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4181400" y="5562720"/>
            <a:ext cx="1771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It’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fra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504880" y="6019920"/>
            <a:ext cx="51375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Nobo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car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busines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c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w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095200" y="6248520"/>
            <a:ext cx="594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busin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c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m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wa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persuad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81040" y="6464160"/>
            <a:ext cx="3572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produ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righ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ﬁ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76480" y="6934320"/>
            <a:ext cx="41943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c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al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rself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b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showc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852280" y="7149960"/>
            <a:ext cx="44301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some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shou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gi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hei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busin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42437"/>
                </a:solidFill>
                <a:latin typeface="微软雅黑"/>
              </a:rPr>
              <a:t>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007960" y="-2376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3615120" y="6413400"/>
            <a:ext cx="2853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http://en.wikipedia.org/wiki/Framing_effect_(psycholog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660360" y="5054760"/>
            <a:ext cx="1666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2a3d"/>
                </a:solidFill>
                <a:latin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340440" y="3530520"/>
            <a:ext cx="7992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142a3d"/>
                </a:solidFill>
                <a:latin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832360" y="3530520"/>
            <a:ext cx="755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349000" y="469800"/>
            <a:ext cx="537336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300" spc="-1" strike="noStrike">
                <a:solidFill>
                  <a:srgbClr val="1e2b2b"/>
                </a:solidFill>
                <a:latin typeface="微软雅黑"/>
              </a:rPr>
              <a:t>EVI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FRA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A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DECIS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psycholog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versk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Kahne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u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posi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fram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198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questionnair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wh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ch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jum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28600"/>
                <a:tab algn="l" pos="291960"/>
                <a:tab algn="l" pos="469800"/>
                <a:tab algn="l" pos="533520"/>
                <a:tab algn="l" pos="965160"/>
                <a:tab algn="l" pos="176544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cd078"/>
                </a:solidFill>
                <a:latin typeface="微软雅黑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3125520" y="6426360"/>
            <a:ext cx="384552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bui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i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re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go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i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bui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ecd078"/>
                </a:solidFill>
                <a:latin typeface="微软雅黑"/>
              </a:rPr>
              <a:t>y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082400" y="863640"/>
            <a:ext cx="19695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d45a"/>
                </a:solidFill>
                <a:latin typeface="微软雅黑"/>
              </a:rPr>
              <a:t>COPYBLOG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766760" y="457200"/>
            <a:ext cx="6134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271f"/>
                </a:solidFill>
                <a:latin typeface="微软雅黑"/>
              </a:rPr>
              <a:t>EXAMP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3436920" y="2527200"/>
            <a:ext cx="344520" cy="443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3424320" y="2514600"/>
            <a:ext cx="369720" cy="4683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724200" y="2449440"/>
            <a:ext cx="263520" cy="4190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3711600" y="2436840"/>
            <a:ext cx="289080" cy="4446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4057560" y="2371680"/>
            <a:ext cx="250920" cy="3808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4044960" y="2359080"/>
            <a:ext cx="276120" cy="406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4299120" y="2314440"/>
            <a:ext cx="166680" cy="3715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4255920" y="2282760"/>
            <a:ext cx="243000" cy="4348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468680" y="2244600"/>
            <a:ext cx="198720" cy="416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4456080" y="2232000"/>
            <a:ext cx="223920" cy="4413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4724280" y="2225520"/>
            <a:ext cx="181080" cy="4114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4711680" y="2212920"/>
            <a:ext cx="206280" cy="4366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060880" y="2205000"/>
            <a:ext cx="171360" cy="4078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5048280" y="2192400"/>
            <a:ext cx="196920" cy="433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5311800" y="2313000"/>
            <a:ext cx="82440" cy="1760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5257800" y="2200320"/>
            <a:ext cx="179280" cy="433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448240" y="2227320"/>
            <a:ext cx="233280" cy="4078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435640" y="2214720"/>
            <a:ext cx="258840" cy="4330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5689440" y="2255760"/>
            <a:ext cx="190800" cy="4017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5676840" y="2243160"/>
            <a:ext cx="216000" cy="4269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048360" y="2317680"/>
            <a:ext cx="228600" cy="416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6035760" y="2305080"/>
            <a:ext cx="253800" cy="44136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6248520" y="2405160"/>
            <a:ext cx="191880" cy="3697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6207120" y="2378160"/>
            <a:ext cx="276120" cy="4255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6450120" y="2482920"/>
            <a:ext cx="207720" cy="36360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6410160" y="2454120"/>
            <a:ext cx="292320" cy="42408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6607080" y="2886120"/>
            <a:ext cx="60480" cy="57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6640560" y="2527200"/>
            <a:ext cx="169920" cy="33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594480" y="2873520"/>
            <a:ext cx="85680" cy="82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627960" y="2514600"/>
            <a:ext cx="195120" cy="35712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6716880" y="2936880"/>
            <a:ext cx="60120" cy="572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753240" y="2584440"/>
            <a:ext cx="177840" cy="3268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703920" y="2924280"/>
            <a:ext cx="85680" cy="82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6740640" y="2571840"/>
            <a:ext cx="203040" cy="352440"/>
          </a:xfrm>
          <a:prstGeom prst="pie">
            <a:avLst/>
          </a:pr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0" y="0"/>
            <a:ext cx="10159920" cy="1981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0" y="1981080"/>
            <a:ext cx="10159920" cy="763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4800600" y="-100080"/>
            <a:ext cx="571680" cy="31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4800600" y="-100080"/>
            <a:ext cx="571680" cy="31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2120760"/>
            <a:ext cx="10159920" cy="5473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558520" y="469800"/>
            <a:ext cx="50176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MAK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YOUR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HEADLI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2052000" y="1003320"/>
            <a:ext cx="60433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YOUR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VALU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d45a"/>
                </a:solidFill>
                <a:latin typeface="微软雅黑"/>
              </a:rPr>
              <a:t>PROPOSI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4425120" y="5587920"/>
            <a:ext cx="128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Star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Stro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021760" y="6121440"/>
            <a:ext cx="60908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Skip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"About"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"Abou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Us"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"Wh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Are"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etc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hey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kn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421000" y="6388200"/>
            <a:ext cx="5292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wha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hey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clicke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on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s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st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th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obviou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3845880" y="6921360"/>
            <a:ext cx="24429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Mak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cas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542437"/>
                </a:solidFill>
                <a:latin typeface="微软雅黑"/>
              </a:rPr>
              <a:t>inste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5007600" y="-6192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8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666520" y="635040"/>
            <a:ext cx="48016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82548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1e2b2b"/>
                </a:solidFill>
                <a:latin typeface="微软雅黑"/>
              </a:rPr>
              <a:t>SU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1e2b2b"/>
                </a:solidFill>
                <a:latin typeface="微软雅黑"/>
              </a:rPr>
              <a:t>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2548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82548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GR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ATT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d45a"/>
                </a:solidFill>
                <a:latin typeface="微软雅黑"/>
              </a:rPr>
              <a:t>QUI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82548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atten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sp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slipp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fa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3594960" y="3162240"/>
            <a:ext cx="64548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700" spc="-1" strike="noStrike">
                <a:solidFill>
                  <a:srgbClr val="113133"/>
                </a:solidFill>
                <a:latin typeface="微软雅黑"/>
              </a:rPr>
              <a:t>12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cd078"/>
                </a:solidFill>
                <a:latin typeface="微软雅黑"/>
              </a:rPr>
              <a:t>Huma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08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ecd078"/>
                </a:solidFill>
                <a:latin typeface="微软雅黑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12760" y="3162240"/>
            <a:ext cx="64548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700" spc="-1" strike="noStrike">
                <a:solidFill>
                  <a:srgbClr val="ecd078"/>
                </a:solidFill>
                <a:latin typeface="微软雅黑"/>
              </a:rPr>
              <a:t>8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cd078"/>
                </a:solidFill>
                <a:latin typeface="微软雅黑"/>
              </a:rPr>
              <a:t>Huma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ecd078"/>
                </a:solidFill>
                <a:latin typeface="微软雅黑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5854320" y="3162240"/>
            <a:ext cx="5979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</a:rPr>
              <a:t>9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cd078"/>
                </a:solidFill>
                <a:latin typeface="微软雅黑"/>
              </a:rPr>
              <a:t>Goldﬁ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808720" y="4813200"/>
            <a:ext cx="4516920" cy="18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17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webp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skipp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cd078"/>
                </a:solidFill>
                <a:latin typeface="微软雅黑"/>
              </a:rPr>
              <a:t>secon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</a:rPr>
              <a:t>4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</a:rPr>
              <a:t>SK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8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1003320"/>
                <a:tab algn="l" pos="1117440"/>
                <a:tab algn="l" pos="1143000"/>
                <a:tab algn="l" pos="2260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800" spc="-1" strike="noStrike">
                <a:solidFill>
                  <a:srgbClr val="ecd078"/>
                </a:solidFill>
                <a:latin typeface="微软雅黑"/>
              </a:rPr>
              <a:t>http://www.statisticbrain.com/attention-span-statistic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4404960" y="1168560"/>
            <a:ext cx="13370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3271f"/>
                </a:solidFill>
                <a:latin typeface="微软雅黑"/>
              </a:rPr>
              <a:t>CO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3271f"/>
                </a:solidFill>
                <a:latin typeface="微软雅黑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322720" y="5600880"/>
            <a:ext cx="54129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al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an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busines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ith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peopl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h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believ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h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685960" y="5867280"/>
            <a:ext cx="46861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believe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Wha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you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believe?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St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i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700" spc="-1" strike="noStrike">
                <a:solidFill>
                  <a:srgbClr val="ecd078"/>
                </a:solidFill>
                <a:latin typeface="微软雅黑"/>
              </a:rPr>
              <a:t>proud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950280" y="1701720"/>
            <a:ext cx="22467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d45a"/>
                </a:solidFill>
                <a:latin typeface="微软雅黑"/>
              </a:rPr>
              <a:t>HEL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d45a"/>
                </a:solidFill>
                <a:latin typeface="微软雅黑"/>
              </a:rPr>
              <a:t>SCOU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523880" y="38160"/>
            <a:ext cx="7506000" cy="7493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3912840" y="5575320"/>
            <a:ext cx="2321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eop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rememb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stori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2784240" y="6058080"/>
            <a:ext cx="45662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Storie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gri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eop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way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fac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lo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canno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Stud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self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eam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prod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915640" y="6527880"/>
            <a:ext cx="4303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exis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custom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ﬁg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ou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s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472200" y="6997680"/>
            <a:ext cx="3189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he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e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it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te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i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bes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a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yo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542437"/>
                </a:solidFill>
                <a:latin typeface="微软雅黑"/>
              </a:rPr>
              <a:t>c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209400" y="507960"/>
            <a:ext cx="3728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T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d45a"/>
                </a:solidFill>
                <a:latin typeface="微软雅黑"/>
              </a:rPr>
              <a:t>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5007600" y="25560"/>
            <a:ext cx="131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5454"/>
                </a:solidFill>
                <a:latin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781000" y="4915080"/>
            <a:ext cx="4572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Researche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fou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200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th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participan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wer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will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donat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u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2.4x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mor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w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present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with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stor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a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oppos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38160"/>
                <a:tab algn="l" pos="76320"/>
                <a:tab algn="l" pos="558720"/>
                <a:tab algn="l" pos="104148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00" spc="-1" strike="noStrike">
                <a:solidFill>
                  <a:srgbClr val="ecd078"/>
                </a:solidFill>
                <a:latin typeface="微软雅黑"/>
              </a:rPr>
              <a:t>http://opim.wharton.upenn.edu/risk/library/J2007OBHDP_DAS_sympathy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4118040" y="4521240"/>
            <a:ext cx="412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d078"/>
                </a:solidFill>
                <a:latin typeface="微软雅黑"/>
              </a:rPr>
              <a:t>S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446440" y="4521240"/>
            <a:ext cx="435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d078"/>
                </a:solidFill>
                <a:latin typeface="微软雅黑"/>
              </a:rPr>
              <a:t>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565720" y="419040"/>
            <a:ext cx="500292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300" spc="-1" strike="noStrike">
                <a:solidFill>
                  <a:srgbClr val="1e2b2b"/>
                </a:solidFill>
                <a:latin typeface="微软雅黑"/>
              </a:rPr>
              <a:t>MUC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1e2b2b"/>
                </a:solidFill>
                <a:latin typeface="微软雅黑"/>
              </a:rPr>
              <a:t>RE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S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d45a"/>
                </a:solidFill>
                <a:latin typeface="微软雅黑"/>
              </a:rPr>
              <a:t>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ecd078"/>
                </a:solidFill>
                <a:latin typeface="微软雅黑"/>
              </a:rPr>
              <a:t>Don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$2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701720"/>
                <a:tab algn="l" pos="2006640"/>
                <a:tab algn="l" pos="212076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113133"/>
                </a:solidFill>
                <a:latin typeface="微软雅黑"/>
              </a:rPr>
              <a:t>$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0" y="84240"/>
            <a:ext cx="10159920" cy="74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6-26T07:49:59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