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2B5-7984-4C11-9F1C-B5B62C42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E44-7454-4A81-A8A2-DBD8E9AA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527-62E6-409C-9B3E-3FF7D256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368-F903-4E54-9167-C63252EA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BCAF-DD68-4F9E-960B-0A1BE9C1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2177-D95F-4FF8-8B08-9A85995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FCF-A5E9-44D0-BEA0-DC7D2EC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258A-4F96-468A-9747-959868B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2DF0-AB93-4925-B6F2-71D2F04E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4267-EE31-4A95-8A45-83C024E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4A42-B083-4B02-A311-3581B88B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3A1-9091-4999-A660-837F6C0C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1972-C11B-47D2-8725-7470B58C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E95B-C5EB-4B27-937A-4CDAA7C6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FBCE-D6D5-4AEC-B892-87E0DDB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4D39-96AA-4D74-87C7-889912EA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DCA1-4E5F-4954-8687-01E901E6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125-6E9C-4746-B07D-6BFD080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C04-E01E-4F78-8FE2-9BDCC76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0FE-CE4A-4917-88A3-2015379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1B3-899A-4144-99EE-F94FA342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B48-5999-412E-8880-8C3EA77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6AE-7067-4A33-82B9-CCE0EAA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B20-87E5-4208-BEB9-E0C922E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0C1-D811-416E-B684-85FFB12CC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B62C-92B8-4F9A-A746-1BA26815E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8ba38afe2d657891b58f315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825640" y="14400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97760" y="143208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773440" y="2708280"/>
            <a:ext cx="11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995640" y="2637000"/>
            <a:ext cx="9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150160" y="263700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7218360" y="24796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2b0827fb646e6f8dfd037f57[1]"/>
          <p:cNvPicPr/>
          <p:nvPr/>
        </p:nvPicPr>
        <p:blipFill>
          <a:blip r:embed="rId1"/>
          <a:stretch/>
        </p:blipFill>
        <p:spPr>
          <a:xfrm>
            <a:off x="-1332000" y="-1108080"/>
            <a:ext cx="12192120" cy="914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96d3af3d97f0c40342acc13[1]"/>
          <p:cNvPicPr/>
          <p:nvPr/>
        </p:nvPicPr>
        <p:blipFill>
          <a:blip r:embed="rId2"/>
          <a:stretch/>
        </p:blipFill>
        <p:spPr>
          <a:xfrm>
            <a:off x="-1332000" y="-1108080"/>
            <a:ext cx="12025440" cy="539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-1331640" y="4653000"/>
            <a:ext cx="1200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ric Cantona : He is called Manchester United king. Because of his brillia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ius and special character, he won the favor of Manchester United fans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42a951da753469ebb7fd48f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043640" y="0"/>
            <a:ext cx="703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yan Giggs :  He contributed all his player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areer  to Man Utd . He keeps the record of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847 appearances for the club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2006110912322645146[1]"/>
          <p:cNvPicPr/>
          <p:nvPr/>
        </p:nvPicPr>
        <p:blipFill>
          <a:blip r:embed="rId1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4119120" y="157320"/>
            <a:ext cx="533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re is no doubt that David i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favorite player of ladies an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irls. His handsome appearan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legant passing and free kick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ttract  large quantity of fans. H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s given the name    “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万人迷”。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e05a2b5d290d196e2834f0bd[1]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-250920" y="0"/>
            <a:ext cx="561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ristiano Ronaldo: A super sta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o has outstanding skill and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believable speed. Actually, h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rew into famous player in Ma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td  but not Real Madrid. He i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first FIFA World Player in Man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td history. 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1669591_223449003366_2[1]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429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250920" y="333360"/>
            <a:ext cx="433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ayne Rooney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ooney is now th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est player in Ma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td. He is also recogniz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hope star footballer i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ngland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1176792779239_104766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7701e511d0d8784e203f2e3e[1]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20080522_acee4c62571956686fc7vxpDhOoekEIn[1]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a66c213fa5fab7e755e72309[1]"/>
          <p:cNvPicPr/>
          <p:nvPr/>
        </p:nvPicPr>
        <p:blipFill>
          <a:blip r:embed="rId1"/>
          <a:stretch/>
        </p:blipFill>
        <p:spPr>
          <a:xfrm>
            <a:off x="-324000" y="-990720"/>
            <a:ext cx="10657080" cy="7848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5040" y="-458640"/>
            <a:ext cx="7233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n my opinion Man Utd is 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pecial team in footbal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world. When you see the red unifor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 will feel the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xcitement and passion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f  the club. They play footbal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and  never ask to fail .They alway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ush up and will create miracl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2283710177[1]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585000" y="3357720"/>
            <a:ext cx="943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n Utd development is healthy .Not like some club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ain their players mostly by money ,Man Utd concentra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n young players and train them into stars.,such as the 92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lden  generations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acc3d700640691bbd43f7cdc[1]"/>
          <p:cNvPicPr/>
          <p:nvPr/>
        </p:nvPicPr>
        <p:blipFill>
          <a:blip r:embed="rId1"/>
          <a:stretch/>
        </p:blipFill>
        <p:spPr>
          <a:xfrm>
            <a:off x="-3429000" y="-1571760"/>
            <a:ext cx="1600200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0013729ec8d80d3654d84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-738720" y="860400"/>
            <a:ext cx="20088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hanks    !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5" name="Picture 4" descr="1003111618d7e61969ac9c25e0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5eae9509e1cd9441038c2d8[1]"/>
          <p:cNvPicPr/>
          <p:nvPr/>
        </p:nvPicPr>
        <p:blipFill>
          <a:blip r:embed="rId1"/>
          <a:stretch/>
        </p:blipFill>
        <p:spPr>
          <a:xfrm>
            <a:off x="-1549440" y="-38736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-91440" y="1979640"/>
            <a:ext cx="3791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spir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  player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   to victory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-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se are M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 glor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a6e48f1d7821bd35dbb4bd27[1]"/>
          <p:cNvPicPr/>
          <p:nvPr/>
        </p:nvPicPr>
        <p:blipFill>
          <a:blip r:embed="rId1"/>
          <a:srcRect l="709" t="945" r="709" b="945"/>
          <a:stretch/>
        </p:blipFill>
        <p:spPr>
          <a:xfrm>
            <a:off x="-396720" y="-316080"/>
            <a:ext cx="10013760" cy="7473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800" y="3789360"/>
            <a:ext cx="845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anchester United  football club is an English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fessional football club who based in old Trafford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anchester United is one of the wealthiest and mo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ely supported football teams in the world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841280" y="3592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2b0827fb646e6f8dfd037f57[1]"/>
          <p:cNvPicPr/>
          <p:nvPr/>
        </p:nvPicPr>
        <p:blipFill>
          <a:blip r:embed="rId1"/>
          <a:stretch/>
        </p:blipFill>
        <p:spPr>
          <a:xfrm>
            <a:off x="-1549440" y="-110808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76200" y="44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41920" y="3860640"/>
            <a:ext cx="1036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aving won 19 league titles, Manchester United is one of the most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uccessful clubs in the history of England football. The club is uniqu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 having won premier league ,FA cup and UEFA Champions Leagu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reble, in the 1998-99 sea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2b0827fb646e6f8dfd037f57[1]"/>
          <p:cNvPicPr/>
          <p:nvPr/>
        </p:nvPicPr>
        <p:blipFill>
          <a:blip r:embed="rId1"/>
          <a:stretch/>
        </p:blipFill>
        <p:spPr>
          <a:xfrm>
            <a:off x="-1549440" y="-110808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211640" y="177336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-393840" y="3357720"/>
            <a:ext cx="1071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nded in 1878 ,the club was formed as Newton Heath F.C.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 1878 as the works team of the Lancashire and Yorkshire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ailway depot at Newton Heath. After nearing bankruptcy in 1902,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club was taken over by J. H. Davies who changed its name to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nchester United 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249640" y="3056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2b0827fb646e6f8dfd037f57[1]"/>
          <p:cNvPicPr/>
          <p:nvPr/>
        </p:nvPicPr>
        <p:blipFill>
          <a:blip r:embed="rId1"/>
          <a:stretch/>
        </p:blipFill>
        <p:spPr>
          <a:xfrm>
            <a:off x="-1405080" y="-2259000"/>
            <a:ext cx="12192120" cy="9505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2341800" y="836640"/>
            <a:ext cx="50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gend and player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" name="Picture 6" descr="2113672086837638017[1]"/>
          <p:cNvPicPr/>
          <p:nvPr/>
        </p:nvPicPr>
        <p:blipFill>
          <a:blip r:embed="rId2"/>
          <a:stretch/>
        </p:blipFill>
        <p:spPr>
          <a:xfrm>
            <a:off x="-1405080" y="-2259000"/>
            <a:ext cx="3313080" cy="367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82843a96d6fb4a81f17a268[1]"/>
          <p:cNvPicPr/>
          <p:nvPr/>
        </p:nvPicPr>
        <p:blipFill>
          <a:blip r:embed="rId3"/>
          <a:stretch/>
        </p:blipFill>
        <p:spPr>
          <a:xfrm>
            <a:off x="-1405080" y="1341360"/>
            <a:ext cx="3386160" cy="453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20080209110427189[1]"/>
          <p:cNvPicPr/>
          <p:nvPr/>
        </p:nvPicPr>
        <p:blipFill>
          <a:blip r:embed="rId4"/>
          <a:stretch/>
        </p:blipFill>
        <p:spPr>
          <a:xfrm>
            <a:off x="1908000" y="-2259000"/>
            <a:ext cx="3272040" cy="331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Img255126980[1]"/>
          <p:cNvPicPr/>
          <p:nvPr/>
        </p:nvPicPr>
        <p:blipFill>
          <a:blip r:embed="rId5"/>
          <a:stretch/>
        </p:blipFill>
        <p:spPr>
          <a:xfrm>
            <a:off x="1979640" y="1484280"/>
            <a:ext cx="4660920" cy="439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22190a24f30e77c8c34e[1]"/>
          <p:cNvPicPr/>
          <p:nvPr/>
        </p:nvPicPr>
        <p:blipFill>
          <a:blip r:embed="rId6"/>
          <a:stretch/>
        </p:blipFill>
        <p:spPr>
          <a:xfrm>
            <a:off x="5148360" y="-2259000"/>
            <a:ext cx="3456000" cy="331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013729ec8d80d3654d849[1]"/>
          <p:cNvPicPr/>
          <p:nvPr/>
        </p:nvPicPr>
        <p:blipFill>
          <a:blip r:embed="rId7"/>
          <a:stretch/>
        </p:blipFill>
        <p:spPr>
          <a:xfrm>
            <a:off x="6659640" y="1484280"/>
            <a:ext cx="40338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2b0827fb646e6f8dfd037f57[1]"/>
          <p:cNvPicPr/>
          <p:nvPr/>
        </p:nvPicPr>
        <p:blipFill>
          <a:blip r:embed="rId1"/>
          <a:stretch/>
        </p:blipFill>
        <p:spPr>
          <a:xfrm>
            <a:off x="-1549440" y="-1108080"/>
            <a:ext cx="12192120" cy="914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113672086837638017[1]"/>
          <p:cNvPicPr/>
          <p:nvPr/>
        </p:nvPicPr>
        <p:blipFill>
          <a:blip r:embed="rId2"/>
          <a:stretch/>
        </p:blipFill>
        <p:spPr>
          <a:xfrm>
            <a:off x="-541440" y="-458640"/>
            <a:ext cx="4867200" cy="3466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-609840" y="3213000"/>
            <a:ext cx="835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lex Ferguson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941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日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--,is the mos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uccessful in the history of the club, having won 27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jor honors since he took over in November 1986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2:11:55Z</dcterms:created>
  <dc:creator>微软用户</dc:creator>
  <dc:description/>
  <dc:language>en-US</dc:language>
  <cp:lastModifiedBy>Administrator</cp:lastModifiedBy>
  <dcterms:modified xsi:type="dcterms:W3CDTF">2015-10-25T01:40:19Z</dcterms:modified>
  <cp:revision>6</cp:revision>
  <dc:subject/>
  <dc:title>幻灯片 1</dc:title>
</cp:coreProperties>
</file>