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C70A-79A2-49D6-A4B4-952EC16F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0EE-3151-473F-B5AF-544C1B1B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7A6D-783F-416A-B656-2DCB8DE0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F717-EA35-4527-96B5-D28E8E66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BC7F-4D15-4F3C-A904-61E09F2D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E64D-AEBF-4AAB-BDDE-1C37DB3A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C04-4C6E-41AF-8F45-4597E09D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35C1-550C-4912-A606-7B20A9F3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657-A48E-4040-8A25-C34BD627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96A-14ED-47B9-96C6-FB23DAB9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3A2-325C-4073-92EB-AB7C8E9F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F4BE-A0FE-48AD-8367-23FE0FC0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2E7E-E6E3-46F7-9721-E650AAC80A4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47D4-EDEB-4734-A115-7CFDA3ECA0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满满的气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(9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그룹 39"/>
          <p:cNvGrpSpPr/>
          <p:nvPr/>
        </p:nvGrpSpPr>
        <p:grpSpPr>
          <a:xfrm>
            <a:off x="5686560" y="3143160"/>
            <a:ext cx="2814480" cy="2857680"/>
            <a:chOff x="5686560" y="3143160"/>
            <a:chExt cx="2814480" cy="2857680"/>
          </a:xfrm>
        </p:grpSpPr>
        <p:grpSp>
          <p:nvGrpSpPr>
            <p:cNvPr id="44" name="그룹 15"/>
            <p:cNvGrpSpPr/>
            <p:nvPr/>
          </p:nvGrpSpPr>
          <p:grpSpPr>
            <a:xfrm>
              <a:off x="5686560" y="5429520"/>
              <a:ext cx="2743200" cy="571320"/>
              <a:chOff x="5686560" y="5429520"/>
              <a:chExt cx="2743200" cy="571320"/>
            </a:xfrm>
          </p:grpSpPr>
          <p:sp>
            <p:nvSpPr>
              <p:cNvPr id="45" name="타원 11"/>
              <p:cNvSpPr/>
              <p:nvPr/>
            </p:nvSpPr>
            <p:spPr>
              <a:xfrm>
                <a:off x="6886800" y="5658120"/>
                <a:ext cx="342720" cy="5688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d8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도넛 13"/>
              <p:cNvSpPr/>
              <p:nvPr/>
            </p:nvSpPr>
            <p:spPr>
              <a:xfrm>
                <a:off x="5686560" y="5429520"/>
                <a:ext cx="2743200" cy="571320"/>
              </a:xfrm>
              <a:custGeom>
                <a:avLst/>
                <a:gdLst>
                  <a:gd name="textAreaLeft" fmla="*/ 401400 w 2743200"/>
                  <a:gd name="textAreaRight" fmla="*/ 2341800 w 2743200"/>
                  <a:gd name="textAreaTop" fmla="*/ 83520 h 571320"/>
                  <a:gd name="textAreaBottom" fmla="*/ 48780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102" y="10800"/>
                    </a:moveTo>
                    <a:cubicBezTo>
                      <a:pt x="2102" y="15604"/>
                      <a:pt x="5996" y="19498"/>
                      <a:pt x="10800" y="19498"/>
                    </a:cubicBezTo>
                    <a:cubicBezTo>
                      <a:pt x="15604" y="19498"/>
                      <a:pt x="19498" y="15604"/>
                      <a:pt x="19498" y="10800"/>
                    </a:cubicBezTo>
                    <a:cubicBezTo>
                      <a:pt x="19498" y="5996"/>
                      <a:pt x="15604" y="2102"/>
                      <a:pt x="10800" y="2102"/>
                    </a:cubicBezTo>
                    <a:cubicBezTo>
                      <a:pt x="5996" y="2102"/>
                      <a:pt x="2102" y="5996"/>
                      <a:pt x="2102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95959"/>
                  </a:gs>
                  <a:gs pos="100000">
                    <a:srgbClr val="d8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" name="Picture 2" descr="C:\Documents and Settings\HANA\My Documents\My Pictures\Microsoft Clip Organizer\j0425198 copy.png"/>
            <p:cNvPicPr/>
            <p:nvPr/>
          </p:nvPicPr>
          <p:blipFill>
            <a:blip r:embed="rId1"/>
            <a:stretch/>
          </p:blipFill>
          <p:spPr>
            <a:xfrm>
              <a:off x="7045920" y="3143160"/>
              <a:ext cx="1455120" cy="258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그룹 66"/>
          <p:cNvGrpSpPr/>
          <p:nvPr/>
        </p:nvGrpSpPr>
        <p:grpSpPr>
          <a:xfrm>
            <a:off x="6786720" y="3184200"/>
            <a:ext cx="838080" cy="1024200"/>
            <a:chOff x="6786720" y="3184200"/>
            <a:chExt cx="838080" cy="1024200"/>
          </a:xfrm>
        </p:grpSpPr>
        <p:pic>
          <p:nvPicPr>
            <p:cNvPr id="49" name="Picture 2" descr="C:\Documents and Settings\HANA\My Documents\My Pictures\Microsoft Clip Organizer\j0425198 copy.png"/>
            <p:cNvPicPr/>
            <p:nvPr/>
          </p:nvPicPr>
          <p:blipFill>
            <a:blip r:embed="rId2"/>
            <a:stretch/>
          </p:blipFill>
          <p:spPr>
            <a:xfrm rot="20304600">
              <a:off x="7013160" y="3241800"/>
              <a:ext cx="473400" cy="84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그룹 19"/>
            <p:cNvGrpSpPr/>
            <p:nvPr/>
          </p:nvGrpSpPr>
          <p:grpSpPr>
            <a:xfrm>
              <a:off x="6786720" y="4044960"/>
              <a:ext cx="785520" cy="163440"/>
              <a:chOff x="6786720" y="4044960"/>
              <a:chExt cx="785520" cy="163440"/>
            </a:xfrm>
          </p:grpSpPr>
          <p:sp>
            <p:nvSpPr>
              <p:cNvPr id="51" name="타원 20"/>
              <p:cNvSpPr/>
              <p:nvPr/>
            </p:nvSpPr>
            <p:spPr>
              <a:xfrm>
                <a:off x="7130520" y="4110120"/>
                <a:ext cx="97920" cy="1620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d8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도넛 21"/>
              <p:cNvSpPr/>
              <p:nvPr/>
            </p:nvSpPr>
            <p:spPr>
              <a:xfrm>
                <a:off x="6786720" y="4044960"/>
                <a:ext cx="785520" cy="163440"/>
              </a:xfrm>
              <a:custGeom>
                <a:avLst/>
                <a:gdLst>
                  <a:gd name="textAreaLeft" fmla="*/ 114840 w 785520"/>
                  <a:gd name="textAreaRight" fmla="*/ 670680 w 785520"/>
                  <a:gd name="textAreaTop" fmla="*/ 23760 h 163440"/>
                  <a:gd name="textAreaBottom" fmla="*/ 139680 h 163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102" y="10800"/>
                    </a:moveTo>
                    <a:cubicBezTo>
                      <a:pt x="2102" y="15604"/>
                      <a:pt x="5996" y="19498"/>
                      <a:pt x="10800" y="19498"/>
                    </a:cubicBezTo>
                    <a:cubicBezTo>
                      <a:pt x="15604" y="19498"/>
                      <a:pt x="19498" y="15604"/>
                      <a:pt x="19498" y="10800"/>
                    </a:cubicBezTo>
                    <a:cubicBezTo>
                      <a:pt x="19498" y="5996"/>
                      <a:pt x="15604" y="2102"/>
                      <a:pt x="10800" y="2102"/>
                    </a:cubicBezTo>
                    <a:cubicBezTo>
                      <a:pt x="5996" y="2102"/>
                      <a:pt x="2102" y="5996"/>
                      <a:pt x="2102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95959"/>
                  </a:gs>
                  <a:gs pos="100000">
                    <a:srgbClr val="d8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그룹 65"/>
          <p:cNvGrpSpPr/>
          <p:nvPr/>
        </p:nvGrpSpPr>
        <p:grpSpPr>
          <a:xfrm>
            <a:off x="5500440" y="3142800"/>
            <a:ext cx="1357560" cy="1697400"/>
            <a:chOff x="5500440" y="3142800"/>
            <a:chExt cx="1357560" cy="1697400"/>
          </a:xfrm>
        </p:grpSpPr>
        <p:grpSp>
          <p:nvGrpSpPr>
            <p:cNvPr id="54" name="그룹 16"/>
            <p:cNvGrpSpPr/>
            <p:nvPr/>
          </p:nvGrpSpPr>
          <p:grpSpPr>
            <a:xfrm>
              <a:off x="5572080" y="4572360"/>
              <a:ext cx="1285920" cy="267840"/>
              <a:chOff x="5572080" y="4572360"/>
              <a:chExt cx="1285920" cy="267840"/>
            </a:xfrm>
          </p:grpSpPr>
          <p:sp>
            <p:nvSpPr>
              <p:cNvPr id="55" name="타원 17"/>
              <p:cNvSpPr/>
              <p:nvPr/>
            </p:nvSpPr>
            <p:spPr>
              <a:xfrm>
                <a:off x="6134760" y="4679280"/>
                <a:ext cx="160560" cy="2664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d8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도넛 18"/>
              <p:cNvSpPr/>
              <p:nvPr/>
            </p:nvSpPr>
            <p:spPr>
              <a:xfrm>
                <a:off x="5572080" y="4572360"/>
                <a:ext cx="1285920" cy="267840"/>
              </a:xfrm>
              <a:custGeom>
                <a:avLst/>
                <a:gdLst>
                  <a:gd name="textAreaLeft" fmla="*/ 188280 w 1285920"/>
                  <a:gd name="textAreaRight" fmla="*/ 1097640 w 1285920"/>
                  <a:gd name="textAreaTop" fmla="*/ 39240 h 267840"/>
                  <a:gd name="textAreaBottom" fmla="*/ 228600 h 267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102" y="10800"/>
                    </a:moveTo>
                    <a:cubicBezTo>
                      <a:pt x="2102" y="15604"/>
                      <a:pt x="5996" y="19498"/>
                      <a:pt x="10800" y="19498"/>
                    </a:cubicBezTo>
                    <a:cubicBezTo>
                      <a:pt x="15604" y="19498"/>
                      <a:pt x="19498" y="15604"/>
                      <a:pt x="19498" y="10800"/>
                    </a:cubicBezTo>
                    <a:cubicBezTo>
                      <a:pt x="19498" y="5996"/>
                      <a:pt x="15604" y="2102"/>
                      <a:pt x="10800" y="2102"/>
                    </a:cubicBezTo>
                    <a:cubicBezTo>
                      <a:pt x="5996" y="2102"/>
                      <a:pt x="2102" y="5996"/>
                      <a:pt x="2102" y="108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95959"/>
                  </a:gs>
                  <a:gs pos="100000">
                    <a:srgbClr val="d8d8d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" name="Picture 2" descr="C:\Documents and Settings\HANA\My Documents\My Pictures\Microsoft Clip Organizer\j0425198 copy.png"/>
            <p:cNvPicPr/>
            <p:nvPr/>
          </p:nvPicPr>
          <p:blipFill>
            <a:blip r:embed="rId3"/>
            <a:stretch/>
          </p:blipFill>
          <p:spPr>
            <a:xfrm flipH="1" rot="1182600">
              <a:off x="5707440" y="3232080"/>
              <a:ext cx="766440" cy="136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그룹 58"/>
          <p:cNvGrpSpPr/>
          <p:nvPr/>
        </p:nvGrpSpPr>
        <p:grpSpPr>
          <a:xfrm>
            <a:off x="0" y="5785920"/>
            <a:ext cx="2428920" cy="500760"/>
            <a:chOff x="0" y="5785920"/>
            <a:chExt cx="2428920" cy="500760"/>
          </a:xfrm>
        </p:grpSpPr>
        <p:sp>
          <p:nvSpPr>
            <p:cNvPr id="59" name="타원 37"/>
            <p:cNvSpPr/>
            <p:nvPr/>
          </p:nvSpPr>
          <p:spPr>
            <a:xfrm>
              <a:off x="0" y="5786280"/>
              <a:ext cx="2428920" cy="50040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99bd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타원 29"/>
            <p:cNvSpPr/>
            <p:nvPr/>
          </p:nvSpPr>
          <p:spPr>
            <a:xfrm>
              <a:off x="1146240" y="5949720"/>
              <a:ext cx="1154880" cy="687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99bd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타원 35"/>
            <p:cNvSpPr/>
            <p:nvPr/>
          </p:nvSpPr>
          <p:spPr>
            <a:xfrm>
              <a:off x="1144080" y="5901480"/>
              <a:ext cx="1214640" cy="71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99bd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타원 38"/>
            <p:cNvSpPr/>
            <p:nvPr/>
          </p:nvSpPr>
          <p:spPr>
            <a:xfrm rot="21352200">
              <a:off x="1143720" y="5829480"/>
              <a:ext cx="1214640" cy="71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99bdb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그룹 46"/>
          <p:cNvGrpSpPr/>
          <p:nvPr/>
        </p:nvGrpSpPr>
        <p:grpSpPr>
          <a:xfrm>
            <a:off x="428760" y="2214720"/>
            <a:ext cx="1714320" cy="3857400"/>
            <a:chOff x="428760" y="2214720"/>
            <a:chExt cx="1714320" cy="3857400"/>
          </a:xfrm>
        </p:grpSpPr>
        <p:sp>
          <p:nvSpPr>
            <p:cNvPr id="64" name="타원 47"/>
            <p:cNvSpPr/>
            <p:nvPr/>
          </p:nvSpPr>
          <p:spPr>
            <a:xfrm>
              <a:off x="428760" y="2214720"/>
              <a:ext cx="1714320" cy="3857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타원 48"/>
            <p:cNvSpPr/>
            <p:nvPr/>
          </p:nvSpPr>
          <p:spPr>
            <a:xfrm>
              <a:off x="428760" y="2214720"/>
              <a:ext cx="1714320" cy="38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타원 49"/>
            <p:cNvSpPr/>
            <p:nvPr/>
          </p:nvSpPr>
          <p:spPr>
            <a:xfrm>
              <a:off x="579240" y="2428920"/>
              <a:ext cx="1420920" cy="335736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타원 50"/>
            <p:cNvSpPr/>
            <p:nvPr/>
          </p:nvSpPr>
          <p:spPr>
            <a:xfrm>
              <a:off x="768960" y="2857680"/>
              <a:ext cx="1088280" cy="2571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타원 51"/>
            <p:cNvSpPr/>
            <p:nvPr/>
          </p:nvSpPr>
          <p:spPr>
            <a:xfrm>
              <a:off x="928800" y="3143160"/>
              <a:ext cx="785880" cy="202572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타원 52"/>
            <p:cNvSpPr/>
            <p:nvPr/>
          </p:nvSpPr>
          <p:spPr>
            <a:xfrm>
              <a:off x="1071720" y="3500280"/>
              <a:ext cx="500040" cy="1285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타원 53"/>
            <p:cNvSpPr/>
            <p:nvPr/>
          </p:nvSpPr>
          <p:spPr>
            <a:xfrm>
              <a:off x="1214640" y="3786120"/>
              <a:ext cx="214200" cy="71424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타원 54"/>
            <p:cNvSpPr/>
            <p:nvPr/>
          </p:nvSpPr>
          <p:spPr>
            <a:xfrm>
              <a:off x="1285920" y="3929040"/>
              <a:ext cx="71280" cy="4284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2" descr="C:\Documents and Settings\HANA\My Documents\My Pictures\Microsoft Clip Organizer\j0425198greencopy.png"/>
          <p:cNvPicPr/>
          <p:nvPr/>
        </p:nvPicPr>
        <p:blipFill>
          <a:blip r:embed="rId4"/>
          <a:stretch/>
        </p:blipFill>
        <p:spPr>
          <a:xfrm rot="2822400">
            <a:off x="1660320" y="3206520"/>
            <a:ext cx="763560" cy="1357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Documents and Settings\HANA\My Documents\My Pictures\Microsoft Clip Organizer\j0425198blue copy.png"/>
          <p:cNvPicPr/>
          <p:nvPr/>
        </p:nvPicPr>
        <p:blipFill>
          <a:blip r:embed="rId5"/>
          <a:stretch/>
        </p:blipFill>
        <p:spPr>
          <a:xfrm rot="3608400">
            <a:off x="1682640" y="3419280"/>
            <a:ext cx="763560" cy="1357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HANA\My Documents\My Pictures\Microsoft Clip Organizer\j0425198 copy.png"/>
          <p:cNvPicPr/>
          <p:nvPr/>
        </p:nvPicPr>
        <p:blipFill>
          <a:blip r:embed="rId6"/>
          <a:stretch/>
        </p:blipFill>
        <p:spPr>
          <a:xfrm rot="4323000">
            <a:off x="1666080" y="3609000"/>
            <a:ext cx="7650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직사각형 59"/>
          <p:cNvSpPr/>
          <p:nvPr/>
        </p:nvSpPr>
        <p:spPr>
          <a:xfrm>
            <a:off x="3220200" y="165096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HY견고딕"/>
                <a:ea typeface="HY견고딕"/>
              </a:rPr>
              <a:t>First Green A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사각형 60"/>
          <p:cNvSpPr/>
          <p:nvPr/>
        </p:nvSpPr>
        <p:spPr>
          <a:xfrm>
            <a:off x="3494520" y="2079720"/>
            <a:ext cx="495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Green is a symbol of naturalism. We can easily see the color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사각형 61"/>
          <p:cNvSpPr/>
          <p:nvPr/>
        </p:nvSpPr>
        <p:spPr>
          <a:xfrm>
            <a:off x="3231720" y="3222720"/>
            <a:ext cx="198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2e7b"/>
                </a:solidFill>
                <a:latin typeface="HY견고딕"/>
                <a:ea typeface="HY견고딕"/>
              </a:rPr>
              <a:t>Second Blue A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사각형 62"/>
          <p:cNvSpPr/>
          <p:nvPr/>
        </p:nvSpPr>
        <p:spPr>
          <a:xfrm>
            <a:off x="3454200" y="3651120"/>
            <a:ext cx="447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Blue. Confidence. Honesty. Ocean. Blue bird. Brand new.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63"/>
          <p:cNvSpPr/>
          <p:nvPr/>
        </p:nvSpPr>
        <p:spPr>
          <a:xfrm>
            <a:off x="3239280" y="472428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HY견고딕"/>
                <a:ea typeface="HY견고딕"/>
              </a:rPr>
              <a:t>Third Red A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사각형 64"/>
          <p:cNvSpPr/>
          <p:nvPr/>
        </p:nvSpPr>
        <p:spPr>
          <a:xfrm>
            <a:off x="3419640" y="5153040"/>
            <a:ext cx="30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Red. Enthusiasm. Passion. Blood. Ap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타원 21"/>
          <p:cNvSpPr/>
          <p:nvPr/>
        </p:nvSpPr>
        <p:spPr>
          <a:xfrm>
            <a:off x="4714920" y="5927760"/>
            <a:ext cx="4714920" cy="50004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99bdb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C:\Documents and Settings\HANA\바탕 화면\그림3.png"/>
          <p:cNvPicPr/>
          <p:nvPr/>
        </p:nvPicPr>
        <p:blipFill>
          <a:blip r:embed="rId1"/>
          <a:srcRect l="0" t="0" r="0" b="46450"/>
          <a:stretch/>
        </p:blipFill>
        <p:spPr>
          <a:xfrm rot="8171400">
            <a:off x="5148000" y="3647880"/>
            <a:ext cx="4230720" cy="2261880"/>
          </a:xfrm>
          <a:prstGeom prst="rect">
            <a:avLst/>
          </a:prstGeom>
          <a:ln w="0">
            <a:noFill/>
          </a:ln>
        </p:spPr>
      </p:pic>
      <p:sp>
        <p:nvSpPr>
          <p:cNvPr id="83" name="타원 10"/>
          <p:cNvSpPr/>
          <p:nvPr/>
        </p:nvSpPr>
        <p:spPr>
          <a:xfrm rot="18984000">
            <a:off x="4390560" y="3249360"/>
            <a:ext cx="4197600" cy="1427040"/>
          </a:xfrm>
          <a:prstGeom prst="ellipse">
            <a:avLst/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26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타원 11"/>
          <p:cNvSpPr/>
          <p:nvPr/>
        </p:nvSpPr>
        <p:spPr>
          <a:xfrm rot="18984000">
            <a:off x="4549320" y="3327480"/>
            <a:ext cx="3903840" cy="128880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5a5a5"/>
              </a:gs>
            </a:gsLst>
            <a:lin ang="26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타원 12"/>
          <p:cNvSpPr/>
          <p:nvPr/>
        </p:nvSpPr>
        <p:spPr>
          <a:xfrm rot="18984000">
            <a:off x="4716360" y="3398400"/>
            <a:ext cx="3535560" cy="1160640"/>
          </a:xfrm>
          <a:prstGeom prst="ellipse">
            <a:avLst/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26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타원 13"/>
          <p:cNvSpPr/>
          <p:nvPr/>
        </p:nvSpPr>
        <p:spPr>
          <a:xfrm rot="18984000">
            <a:off x="4901760" y="3466800"/>
            <a:ext cx="3132360" cy="99684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a5a5a5"/>
              </a:gs>
            </a:gsLst>
            <a:lin ang="26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타원 15"/>
          <p:cNvSpPr/>
          <p:nvPr/>
        </p:nvSpPr>
        <p:spPr>
          <a:xfrm rot="18984000">
            <a:off x="5187960" y="3541320"/>
            <a:ext cx="2523960" cy="814320"/>
          </a:xfrm>
          <a:prstGeom prst="ellipse">
            <a:avLst/>
          </a:prstGeom>
          <a:gradFill rotWithShape="0">
            <a:gsLst>
              <a:gs pos="0">
                <a:srgbClr val="1a2e7b"/>
              </a:gs>
              <a:gs pos="100000">
                <a:srgbClr val="8298b8"/>
              </a:gs>
            </a:gsLst>
            <a:lin ang="26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타원 16"/>
          <p:cNvSpPr/>
          <p:nvPr/>
        </p:nvSpPr>
        <p:spPr>
          <a:xfrm rot="18984000">
            <a:off x="5506560" y="3604680"/>
            <a:ext cx="1901880" cy="654120"/>
          </a:xfrm>
          <a:prstGeom prst="ellipse">
            <a:avLst/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26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자유형 19"/>
          <p:cNvSpPr/>
          <p:nvPr/>
        </p:nvSpPr>
        <p:spPr>
          <a:xfrm rot="2707200">
            <a:off x="5998320" y="3231360"/>
            <a:ext cx="738000" cy="1247760"/>
          </a:xfrm>
          <a:custGeom>
            <a:avLst/>
            <a:gdLst>
              <a:gd name="textAreaLeft" fmla="*/ 0 w 738000"/>
              <a:gd name="textAreaRight" fmla="*/ 738360 w 73800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739004" h="1247110">
                <a:moveTo>
                  <a:pt x="597029" y="1201435"/>
                </a:moveTo>
                <a:cubicBezTo>
                  <a:pt x="490877" y="1247110"/>
                  <a:pt x="184579" y="1058554"/>
                  <a:pt x="102089" y="915677"/>
                </a:cubicBezTo>
                <a:cubicBezTo>
                  <a:pt x="19599" y="772800"/>
                  <a:pt x="0" y="520997"/>
                  <a:pt x="102090" y="344173"/>
                </a:cubicBezTo>
                <a:cubicBezTo>
                  <a:pt x="204180" y="167349"/>
                  <a:pt x="490377" y="0"/>
                  <a:pt x="597028" y="58422"/>
                </a:cubicBezTo>
                <a:cubicBezTo>
                  <a:pt x="703180" y="107998"/>
                  <a:pt x="739004" y="451128"/>
                  <a:pt x="739004" y="641630"/>
                </a:cubicBezTo>
                <a:cubicBezTo>
                  <a:pt x="739004" y="832132"/>
                  <a:pt x="703182" y="1155761"/>
                  <a:pt x="597029" y="1201435"/>
                </a:cubicBezTo>
                <a:close/>
              </a:path>
            </a:pathLst>
          </a:custGeom>
          <a:gradFill rotWithShape="0">
            <a:gsLst>
              <a:gs pos="0">
                <a:srgbClr val="920000"/>
              </a:gs>
              <a:gs pos="100000">
                <a:srgbClr val="ff2929"/>
              </a:gs>
            </a:gsLst>
            <a:lin ang="18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18"/>
          <p:cNvSpPr/>
          <p:nvPr/>
        </p:nvSpPr>
        <p:spPr>
          <a:xfrm rot="19143600">
            <a:off x="5943600" y="3538080"/>
            <a:ext cx="765000" cy="500040"/>
          </a:xfrm>
          <a:prstGeom prst="ellipse">
            <a:avLst/>
          </a:prstGeom>
          <a:gradFill rotWithShape="0">
            <a:gsLst>
              <a:gs pos="0">
                <a:srgbClr val="ffeaa7"/>
              </a:gs>
              <a:gs pos="100000">
                <a:srgbClr val="c0c0c0"/>
              </a:gs>
            </a:gsLst>
            <a:lin ang="78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642840" y="1643040"/>
            <a:ext cx="2429280" cy="2000520"/>
            <a:chOff x="3642840" y="1643040"/>
            <a:chExt cx="2429280" cy="2000520"/>
          </a:xfrm>
        </p:grpSpPr>
        <p:cxnSp>
          <p:nvCxnSpPr>
            <p:cNvPr id="92" name="직선 화살표 연결선 25"/>
            <p:cNvCxnSpPr/>
            <p:nvPr/>
          </p:nvCxnSpPr>
          <p:spPr>
            <a:xfrm>
              <a:off x="3642840" y="1643040"/>
              <a:ext cx="2429640" cy="2000880"/>
            </a:xfrm>
            <a:prstGeom prst="straightConnector1">
              <a:avLst/>
            </a:prstGeom>
            <a:ln w="9360">
              <a:solidFill>
                <a:srgbClr val="7f7f7f"/>
              </a:solidFill>
              <a:miter/>
              <a:tailEnd len="med" type="triangle" w="med"/>
            </a:ln>
          </p:spPr>
        </p:cxnSp>
        <p:sp>
          <p:nvSpPr>
            <p:cNvPr id="93" name=""/>
            <p:cNvSpPr txBox="1"/>
            <p:nvPr/>
          </p:nvSpPr>
          <p:spPr>
            <a:xfrm>
              <a:off x="3642840" y="1643040"/>
              <a:ext cx="2428920" cy="200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직사각형 28"/>
          <p:cNvSpPr/>
          <p:nvPr/>
        </p:nvSpPr>
        <p:spPr>
          <a:xfrm>
            <a:off x="428760" y="1643040"/>
            <a:ext cx="3214440" cy="357120"/>
          </a:xfrm>
          <a:prstGeom prst="rect">
            <a:avLst/>
          </a:prstGeom>
          <a:gradFill rotWithShape="0">
            <a:gsLst>
              <a:gs pos="0">
                <a:srgbClr val="c00000"/>
              </a:gs>
              <a:gs pos="100000">
                <a:srgbClr val="c0c0c0"/>
              </a:gs>
            </a:gsLst>
            <a:lin ang="0"/>
          </a:gradFill>
          <a:ln w="3240">
            <a:solidFill>
              <a:srgbClr val="88a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New 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직사각형 29"/>
          <p:cNvSpPr/>
          <p:nvPr/>
        </p:nvSpPr>
        <p:spPr>
          <a:xfrm>
            <a:off x="428760" y="2000160"/>
            <a:ext cx="3214440" cy="1214640"/>
          </a:xfrm>
          <a:prstGeom prst="rect">
            <a:avLst/>
          </a:prstGeom>
          <a:noFill/>
          <a:ln w="3240">
            <a:solidFill>
              <a:srgbClr val="88a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Wh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 ne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Wh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 importa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직사각형 30"/>
          <p:cNvSpPr/>
          <p:nvPr/>
        </p:nvSpPr>
        <p:spPr>
          <a:xfrm>
            <a:off x="428760" y="4071960"/>
            <a:ext cx="3214440" cy="357120"/>
          </a:xfrm>
          <a:prstGeom prst="rect">
            <a:avLst/>
          </a:prstGeom>
          <a:gradFill rotWithShape="0">
            <a:gsLst>
              <a:gs pos="0">
                <a:srgbClr val="1a2e7b"/>
              </a:gs>
              <a:gs pos="100000">
                <a:srgbClr val="c0c0c0"/>
              </a:gs>
            </a:gsLst>
            <a:lin ang="0"/>
          </a:gradFill>
          <a:ln w="3240">
            <a:solidFill>
              <a:srgbClr val="88a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견고딕"/>
                <a:ea typeface="HY견고딕"/>
              </a:rPr>
              <a:t>Bound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직사각형 31"/>
          <p:cNvSpPr/>
          <p:nvPr/>
        </p:nvSpPr>
        <p:spPr>
          <a:xfrm>
            <a:off x="428760" y="4429080"/>
            <a:ext cx="3214440" cy="1214640"/>
          </a:xfrm>
          <a:prstGeom prst="rect">
            <a:avLst/>
          </a:prstGeom>
          <a:noFill/>
          <a:ln w="3240">
            <a:solidFill>
              <a:srgbClr val="88a3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ere are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642480" y="4817520"/>
            <a:ext cx="1894680" cy="825840"/>
            <a:chOff x="3642480" y="4817520"/>
            <a:chExt cx="1894680" cy="825840"/>
          </a:xfrm>
        </p:grpSpPr>
        <p:cxnSp>
          <p:nvCxnSpPr>
            <p:cNvPr id="99" name="직선 화살표 연결선 32"/>
            <p:cNvCxnSpPr/>
            <p:nvPr/>
          </p:nvCxnSpPr>
          <p:spPr>
            <a:xfrm flipV="1">
              <a:off x="3642840" y="4817520"/>
              <a:ext cx="1894680" cy="826200"/>
            </a:xfrm>
            <a:prstGeom prst="straightConnector1">
              <a:avLst/>
            </a:prstGeom>
            <a:ln w="9360">
              <a:solidFill>
                <a:srgbClr val="7f7f7f"/>
              </a:solidFill>
              <a:miter/>
              <a:tailEnd len="med" type="triangle" w="med"/>
            </a:ln>
          </p:spPr>
        </p:cxnSp>
        <p:sp>
          <p:nvSpPr>
            <p:cNvPr id="100" name=""/>
            <p:cNvSpPr txBox="1"/>
            <p:nvPr/>
          </p:nvSpPr>
          <p:spPr>
            <a:xfrm rot="10800000">
              <a:off x="3642480" y="4817520"/>
              <a:ext cx="189396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직사각형 35"/>
          <p:cNvSpPr/>
          <p:nvPr/>
        </p:nvSpPr>
        <p:spPr>
          <a:xfrm>
            <a:off x="393480" y="214200"/>
            <a:ext cx="40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D Spheres - with c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직사각형 29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타원 30"/>
          <p:cNvSpPr/>
          <p:nvPr/>
        </p:nvSpPr>
        <p:spPr>
          <a:xfrm>
            <a:off x="2381400" y="5572080"/>
            <a:ext cx="3357360" cy="6429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타원 31"/>
          <p:cNvSpPr/>
          <p:nvPr/>
        </p:nvSpPr>
        <p:spPr>
          <a:xfrm>
            <a:off x="2736720" y="5143680"/>
            <a:ext cx="2787840" cy="785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타원 33"/>
          <p:cNvSpPr/>
          <p:nvPr/>
        </p:nvSpPr>
        <p:spPr>
          <a:xfrm>
            <a:off x="3022560" y="5500800"/>
            <a:ext cx="2428920" cy="285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타원 36"/>
          <p:cNvSpPr/>
          <p:nvPr/>
        </p:nvSpPr>
        <p:spPr>
          <a:xfrm>
            <a:off x="1928880" y="4175280"/>
            <a:ext cx="2450880" cy="469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타원 37"/>
          <p:cNvSpPr/>
          <p:nvPr/>
        </p:nvSpPr>
        <p:spPr>
          <a:xfrm>
            <a:off x="2214720" y="3857760"/>
            <a:ext cx="2000160" cy="563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타원 38"/>
          <p:cNvSpPr/>
          <p:nvPr/>
        </p:nvSpPr>
        <p:spPr>
          <a:xfrm>
            <a:off x="2357280" y="4056120"/>
            <a:ext cx="1785960" cy="21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타원 41"/>
          <p:cNvSpPr/>
          <p:nvPr/>
        </p:nvSpPr>
        <p:spPr>
          <a:xfrm>
            <a:off x="3112920" y="3143160"/>
            <a:ext cx="1839960" cy="352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타원 42"/>
          <p:cNvSpPr/>
          <p:nvPr/>
        </p:nvSpPr>
        <p:spPr>
          <a:xfrm>
            <a:off x="3327480" y="2928960"/>
            <a:ext cx="1500120" cy="422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타원 43"/>
          <p:cNvSpPr/>
          <p:nvPr/>
        </p:nvSpPr>
        <p:spPr>
          <a:xfrm>
            <a:off x="3613320" y="3127320"/>
            <a:ext cx="1123920" cy="158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타원 44"/>
          <p:cNvSpPr/>
          <p:nvPr/>
        </p:nvSpPr>
        <p:spPr>
          <a:xfrm>
            <a:off x="4495680" y="2479680"/>
            <a:ext cx="1314720" cy="2523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타원 45"/>
          <p:cNvSpPr/>
          <p:nvPr/>
        </p:nvSpPr>
        <p:spPr>
          <a:xfrm>
            <a:off x="4638600" y="2286000"/>
            <a:ext cx="1071720" cy="3016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타원 46"/>
          <p:cNvSpPr/>
          <p:nvPr/>
        </p:nvSpPr>
        <p:spPr>
          <a:xfrm>
            <a:off x="4924440" y="2448000"/>
            <a:ext cx="739800" cy="10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타원 47"/>
          <p:cNvSpPr/>
          <p:nvPr/>
        </p:nvSpPr>
        <p:spPr>
          <a:xfrm>
            <a:off x="5727600" y="1928880"/>
            <a:ext cx="725760" cy="142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타원 48"/>
          <p:cNvSpPr/>
          <p:nvPr/>
        </p:nvSpPr>
        <p:spPr>
          <a:xfrm>
            <a:off x="5737320" y="1800360"/>
            <a:ext cx="707760" cy="1998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타원 49"/>
          <p:cNvSpPr/>
          <p:nvPr/>
        </p:nvSpPr>
        <p:spPr>
          <a:xfrm>
            <a:off x="5952960" y="1893960"/>
            <a:ext cx="489240" cy="6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선 연결선 50"/>
          <p:cNvSpPr/>
          <p:nvPr/>
        </p:nvSpPr>
        <p:spPr>
          <a:xfrm>
            <a:off x="5214960" y="5143680"/>
            <a:ext cx="378612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선 연결선 52"/>
          <p:cNvSpPr/>
          <p:nvPr/>
        </p:nvSpPr>
        <p:spPr>
          <a:xfrm>
            <a:off x="4286160" y="3786120"/>
            <a:ext cx="46436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선 연결선 54"/>
          <p:cNvSpPr/>
          <p:nvPr/>
        </p:nvSpPr>
        <p:spPr>
          <a:xfrm>
            <a:off x="214200" y="2714760"/>
            <a:ext cx="32148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선 연결선 56"/>
          <p:cNvSpPr/>
          <p:nvPr/>
        </p:nvSpPr>
        <p:spPr>
          <a:xfrm>
            <a:off x="142920" y="1714680"/>
            <a:ext cx="47862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58"/>
          <p:cNvSpPr/>
          <p:nvPr/>
        </p:nvSpPr>
        <p:spPr>
          <a:xfrm>
            <a:off x="5245200" y="486720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타원 24"/>
          <p:cNvSpPr/>
          <p:nvPr/>
        </p:nvSpPr>
        <p:spPr>
          <a:xfrm>
            <a:off x="-642960" y="4929120"/>
            <a:ext cx="5143680" cy="857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타원 17"/>
          <p:cNvSpPr/>
          <p:nvPr/>
        </p:nvSpPr>
        <p:spPr>
          <a:xfrm>
            <a:off x="357120" y="4429080"/>
            <a:ext cx="4143600" cy="928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타원 18"/>
          <p:cNvSpPr/>
          <p:nvPr/>
        </p:nvSpPr>
        <p:spPr>
          <a:xfrm>
            <a:off x="571680" y="4786200"/>
            <a:ext cx="3714480" cy="35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타원 19"/>
          <p:cNvSpPr/>
          <p:nvPr/>
        </p:nvSpPr>
        <p:spPr>
          <a:xfrm>
            <a:off x="142920" y="4286160"/>
            <a:ext cx="4000320" cy="8575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자유형 22"/>
          <p:cNvSpPr/>
          <p:nvPr/>
        </p:nvSpPr>
        <p:spPr>
          <a:xfrm>
            <a:off x="642960" y="3714840"/>
            <a:ext cx="3000240" cy="928440"/>
          </a:xfrm>
          <a:custGeom>
            <a:avLst/>
            <a:gdLst>
              <a:gd name="textAreaLeft" fmla="*/ 0 w 3000240"/>
              <a:gd name="textAreaRight" fmla="*/ 3000600 w 300024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3000402" h="928753">
                <a:moveTo>
                  <a:pt x="2" y="464402"/>
                </a:moveTo>
                <a:cubicBezTo>
                  <a:pt x="4" y="260839"/>
                  <a:pt x="71072" y="80962"/>
                  <a:pt x="699331" y="20771"/>
                </a:cubicBezTo>
                <a:cubicBezTo>
                  <a:pt x="842994" y="7007"/>
                  <a:pt x="1007008" y="0"/>
                  <a:pt x="1214417" y="8"/>
                </a:cubicBezTo>
                <a:cubicBezTo>
                  <a:pt x="1421826" y="16"/>
                  <a:pt x="1800122" y="7055"/>
                  <a:pt x="1943786" y="20819"/>
                </a:cubicBezTo>
                <a:cubicBezTo>
                  <a:pt x="2572049" y="81010"/>
                  <a:pt x="3000402" y="260841"/>
                  <a:pt x="3000399" y="464406"/>
                </a:cubicBezTo>
                <a:cubicBezTo>
                  <a:pt x="3000399" y="667970"/>
                  <a:pt x="2572045" y="847800"/>
                  <a:pt x="1943785" y="907990"/>
                </a:cubicBezTo>
                <a:cubicBezTo>
                  <a:pt x="1800122" y="921754"/>
                  <a:pt x="1650589" y="928753"/>
                  <a:pt x="1500201" y="928753"/>
                </a:cubicBezTo>
                <a:cubicBezTo>
                  <a:pt x="1349813" y="928753"/>
                  <a:pt x="1200280" y="921754"/>
                  <a:pt x="1056616" y="907990"/>
                </a:cubicBezTo>
                <a:cubicBezTo>
                  <a:pt x="428354" y="847799"/>
                  <a:pt x="0" y="667968"/>
                  <a:pt x="3" y="464404"/>
                </a:cubicBezTo>
                <a:cubicBezTo>
                  <a:pt x="3" y="464403"/>
                  <a:pt x="2" y="464403"/>
                  <a:pt x="2" y="464402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타원 23"/>
          <p:cNvSpPr/>
          <p:nvPr/>
        </p:nvSpPr>
        <p:spPr>
          <a:xfrm>
            <a:off x="928800" y="4071960"/>
            <a:ext cx="2643120" cy="357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타원 27"/>
          <p:cNvSpPr/>
          <p:nvPr/>
        </p:nvSpPr>
        <p:spPr>
          <a:xfrm>
            <a:off x="1500120" y="3643200"/>
            <a:ext cx="2428920" cy="6429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자유형 28"/>
          <p:cNvSpPr/>
          <p:nvPr/>
        </p:nvSpPr>
        <p:spPr>
          <a:xfrm>
            <a:off x="1285920" y="3286080"/>
            <a:ext cx="3000240" cy="689040"/>
          </a:xfrm>
          <a:custGeom>
            <a:avLst/>
            <a:gdLst>
              <a:gd name="textAreaLeft" fmla="*/ 0 w 3000240"/>
              <a:gd name="textAreaRight" fmla="*/ 3000600 w 30002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3500436" h="688264">
                <a:moveTo>
                  <a:pt x="2" y="317575"/>
                </a:moveTo>
                <a:cubicBezTo>
                  <a:pt x="4" y="114012"/>
                  <a:pt x="285354" y="76963"/>
                  <a:pt x="913613" y="16772"/>
                </a:cubicBezTo>
                <a:cubicBezTo>
                  <a:pt x="1057276" y="3008"/>
                  <a:pt x="1309371" y="0"/>
                  <a:pt x="1542974" y="5568"/>
                </a:cubicBezTo>
                <a:cubicBezTo>
                  <a:pt x="1776577" y="11136"/>
                  <a:pt x="2171567" y="36418"/>
                  <a:pt x="2315231" y="50182"/>
                </a:cubicBezTo>
                <a:cubicBezTo>
                  <a:pt x="2943494" y="110373"/>
                  <a:pt x="3500436" y="114014"/>
                  <a:pt x="3500433" y="317579"/>
                </a:cubicBezTo>
                <a:cubicBezTo>
                  <a:pt x="3500433" y="521143"/>
                  <a:pt x="2648245" y="596198"/>
                  <a:pt x="2019985" y="656388"/>
                </a:cubicBezTo>
                <a:cubicBezTo>
                  <a:pt x="1876322" y="670152"/>
                  <a:pt x="1706800" y="685089"/>
                  <a:pt x="1528776" y="686676"/>
                </a:cubicBezTo>
                <a:cubicBezTo>
                  <a:pt x="1350752" y="688264"/>
                  <a:pt x="1095505" y="679677"/>
                  <a:pt x="951841" y="665913"/>
                </a:cubicBezTo>
                <a:cubicBezTo>
                  <a:pt x="323579" y="605722"/>
                  <a:pt x="0" y="521141"/>
                  <a:pt x="3" y="317577"/>
                </a:cubicBezTo>
                <a:cubicBezTo>
                  <a:pt x="3" y="317576"/>
                  <a:pt x="2" y="317576"/>
                  <a:pt x="2" y="317575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타원 29"/>
          <p:cNvSpPr/>
          <p:nvPr/>
        </p:nvSpPr>
        <p:spPr>
          <a:xfrm>
            <a:off x="1714680" y="3568680"/>
            <a:ext cx="2428560" cy="21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타원 30"/>
          <p:cNvSpPr/>
          <p:nvPr/>
        </p:nvSpPr>
        <p:spPr>
          <a:xfrm>
            <a:off x="1214280" y="3071880"/>
            <a:ext cx="2428920" cy="6429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자유형 31"/>
          <p:cNvSpPr/>
          <p:nvPr/>
        </p:nvSpPr>
        <p:spPr>
          <a:xfrm>
            <a:off x="1000080" y="2786040"/>
            <a:ext cx="2502000" cy="658800"/>
          </a:xfrm>
          <a:custGeom>
            <a:avLst/>
            <a:gdLst>
              <a:gd name="textAreaLeft" fmla="*/ 0 w 2502000"/>
              <a:gd name="textAreaRight" fmla="*/ 2502360 w 250200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2918977" h="659576">
                <a:moveTo>
                  <a:pt x="2" y="280272"/>
                </a:moveTo>
                <a:cubicBezTo>
                  <a:pt x="4" y="76709"/>
                  <a:pt x="552052" y="106335"/>
                  <a:pt x="1180311" y="46144"/>
                </a:cubicBezTo>
                <a:cubicBezTo>
                  <a:pt x="1323974" y="32380"/>
                  <a:pt x="1676046" y="0"/>
                  <a:pt x="1904092" y="6365"/>
                </a:cubicBezTo>
                <a:cubicBezTo>
                  <a:pt x="2132138" y="12730"/>
                  <a:pt x="2387183" y="25582"/>
                  <a:pt x="2548591" y="84333"/>
                </a:cubicBezTo>
                <a:cubicBezTo>
                  <a:pt x="2709999" y="143084"/>
                  <a:pt x="2918977" y="269747"/>
                  <a:pt x="2872542" y="358872"/>
                </a:cubicBezTo>
                <a:cubicBezTo>
                  <a:pt x="2826107" y="447997"/>
                  <a:pt x="2508757" y="569081"/>
                  <a:pt x="2269979" y="619085"/>
                </a:cubicBezTo>
                <a:cubicBezTo>
                  <a:pt x="1970084" y="659576"/>
                  <a:pt x="1748466" y="647786"/>
                  <a:pt x="1528776" y="649373"/>
                </a:cubicBezTo>
                <a:cubicBezTo>
                  <a:pt x="1309086" y="650961"/>
                  <a:pt x="1095505" y="642374"/>
                  <a:pt x="951841" y="628610"/>
                </a:cubicBezTo>
                <a:cubicBezTo>
                  <a:pt x="323579" y="568419"/>
                  <a:pt x="0" y="483838"/>
                  <a:pt x="3" y="280274"/>
                </a:cubicBezTo>
                <a:cubicBezTo>
                  <a:pt x="3" y="280273"/>
                  <a:pt x="2" y="280273"/>
                  <a:pt x="2" y="280272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타원 32"/>
          <p:cNvSpPr/>
          <p:nvPr/>
        </p:nvSpPr>
        <p:spPr>
          <a:xfrm>
            <a:off x="1214280" y="3071880"/>
            <a:ext cx="200052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직선 연결선 35"/>
          <p:cNvSpPr/>
          <p:nvPr/>
        </p:nvSpPr>
        <p:spPr>
          <a:xfrm>
            <a:off x="4143240" y="32148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직선 연결선 36"/>
          <p:cNvSpPr/>
          <p:nvPr/>
        </p:nvSpPr>
        <p:spPr>
          <a:xfrm>
            <a:off x="4143240" y="39276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직선 연결선 37"/>
          <p:cNvSpPr/>
          <p:nvPr/>
        </p:nvSpPr>
        <p:spPr>
          <a:xfrm>
            <a:off x="4143240" y="4572000"/>
            <a:ext cx="478656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직선 연결선 38"/>
          <p:cNvSpPr/>
          <p:nvPr/>
        </p:nvSpPr>
        <p:spPr>
          <a:xfrm>
            <a:off x="4143240" y="5429160"/>
            <a:ext cx="47865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39"/>
          <p:cNvSpPr/>
          <p:nvPr/>
        </p:nvSpPr>
        <p:spPr>
          <a:xfrm>
            <a:off x="4702320" y="2928960"/>
            <a:ext cx="22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조약돌이 찌그러졌네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입체적으로 보이나요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직사각형 40"/>
          <p:cNvSpPr/>
          <p:nvPr/>
        </p:nvSpPr>
        <p:spPr>
          <a:xfrm>
            <a:off x="5034240" y="3643200"/>
            <a:ext cx="284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007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버전이 익숙하지 않아 작업하기가 쉽지가 않습니다</a:t>
            </a: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직사각형 42"/>
          <p:cNvSpPr/>
          <p:nvPr/>
        </p:nvSpPr>
        <p:spPr>
          <a:xfrm>
            <a:off x="4182480" y="4286160"/>
            <a:ext cx="371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No matter who you are. You can easily do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직사각형 43"/>
          <p:cNvSpPr/>
          <p:nvPr/>
        </p:nvSpPr>
        <p:spPr>
          <a:xfrm>
            <a:off x="4316760" y="5143680"/>
            <a:ext cx="38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Just try again and again. It makes your skills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직사각형 44"/>
          <p:cNvSpPr/>
          <p:nvPr/>
        </p:nvSpPr>
        <p:spPr>
          <a:xfrm>
            <a:off x="251280" y="214200"/>
            <a:ext cx="13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그룹 57"/>
          <p:cNvGrpSpPr/>
          <p:nvPr/>
        </p:nvGrpSpPr>
        <p:grpSpPr>
          <a:xfrm>
            <a:off x="3533400" y="2896560"/>
            <a:ext cx="1918440" cy="3390120"/>
            <a:chOff x="3533400" y="2896560"/>
            <a:chExt cx="1918440" cy="3390120"/>
          </a:xfrm>
        </p:grpSpPr>
        <p:sp>
          <p:nvSpPr>
            <p:cNvPr id="145" name="직사각형 38"/>
            <p:cNvSpPr/>
            <p:nvPr/>
          </p:nvSpPr>
          <p:spPr>
            <a:xfrm>
              <a:off x="3714120" y="5858280"/>
              <a:ext cx="157212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그룹 52"/>
            <p:cNvGrpSpPr/>
            <p:nvPr/>
          </p:nvGrpSpPr>
          <p:grpSpPr>
            <a:xfrm>
              <a:off x="3533400" y="2896560"/>
              <a:ext cx="1918440" cy="2890080"/>
              <a:chOff x="3533400" y="2896560"/>
              <a:chExt cx="1918440" cy="2890080"/>
            </a:xfrm>
          </p:grpSpPr>
          <p:sp>
            <p:nvSpPr>
              <p:cNvPr id="147" name="자유형 20"/>
              <p:cNvSpPr/>
              <p:nvPr/>
            </p:nvSpPr>
            <p:spPr>
              <a:xfrm>
                <a:off x="3700080" y="3305160"/>
                <a:ext cx="1572120" cy="2481480"/>
              </a:xfrm>
              <a:custGeom>
                <a:avLst/>
                <a:gdLst>
                  <a:gd name="textAreaLeft" fmla="*/ 0 w 1572120"/>
                  <a:gd name="textAreaRight" fmla="*/ 1572480 w 1572120"/>
                  <a:gd name="textAreaTop" fmla="*/ 0 h 2481480"/>
                  <a:gd name="textAreaBottom" fmla="*/ 2481840 h 2481480"/>
                </a:gdLst>
                <a:ahLst/>
                <a:rect l="textAreaLeft" t="textAreaTop" r="textAreaRight" b="textAreaBottom"/>
                <a:pathLst>
                  <a:path w="1866913" h="1486415">
                    <a:moveTo>
                      <a:pt x="0" y="486283"/>
                    </a:moveTo>
                    <a:lnTo>
                      <a:pt x="1866913" y="0"/>
                    </a:lnTo>
                    <a:lnTo>
                      <a:pt x="1857388" y="1486415"/>
                    </a:lnTo>
                    <a:lnTo>
                      <a:pt x="0" y="1486415"/>
                    </a:lnTo>
                    <a:lnTo>
                      <a:pt x="0" y="48628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평행 사변형 28"/>
              <p:cNvSpPr/>
              <p:nvPr/>
            </p:nvSpPr>
            <p:spPr>
              <a:xfrm rot="19990800">
                <a:off x="3512880" y="3318120"/>
                <a:ext cx="1958760" cy="377280"/>
              </a:xfrm>
              <a:prstGeom prst="parallelogram">
                <a:avLst>
                  <a:gd name="adj" fmla="val 52182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그룹 59"/>
          <p:cNvGrpSpPr/>
          <p:nvPr/>
        </p:nvGrpSpPr>
        <p:grpSpPr>
          <a:xfrm>
            <a:off x="6838560" y="1291320"/>
            <a:ext cx="1739520" cy="4995360"/>
            <a:chOff x="6838560" y="1291320"/>
            <a:chExt cx="1739520" cy="4995360"/>
          </a:xfrm>
        </p:grpSpPr>
        <p:sp>
          <p:nvSpPr>
            <p:cNvPr id="150" name="직사각형 40"/>
            <p:cNvSpPr/>
            <p:nvPr/>
          </p:nvSpPr>
          <p:spPr>
            <a:xfrm>
              <a:off x="7000200" y="5858280"/>
              <a:ext cx="157284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그룹 54"/>
            <p:cNvGrpSpPr/>
            <p:nvPr/>
          </p:nvGrpSpPr>
          <p:grpSpPr>
            <a:xfrm>
              <a:off x="6838560" y="1291320"/>
              <a:ext cx="1739520" cy="4495320"/>
              <a:chOff x="6838560" y="1291320"/>
              <a:chExt cx="1739520" cy="4495320"/>
            </a:xfrm>
          </p:grpSpPr>
          <p:sp>
            <p:nvSpPr>
              <p:cNvPr id="152" name="자유형 25"/>
              <p:cNvSpPr/>
              <p:nvPr/>
            </p:nvSpPr>
            <p:spPr>
              <a:xfrm>
                <a:off x="7008120" y="1623960"/>
                <a:ext cx="1564560" cy="4162680"/>
              </a:xfrm>
              <a:custGeom>
                <a:avLst/>
                <a:gdLst>
                  <a:gd name="textAreaLeft" fmla="*/ 0 w 1564560"/>
                  <a:gd name="textAreaRight" fmla="*/ 1564920 w 1564560"/>
                  <a:gd name="textAreaTop" fmla="*/ 0 h 4162680"/>
                  <a:gd name="textAreaBottom" fmla="*/ 4163040 h 4162680"/>
                </a:gdLst>
                <a:ahLst/>
                <a:rect l="textAreaLeft" t="textAreaTop" r="textAreaRight" b="textAreaBottom"/>
                <a:pathLst>
                  <a:path w="1857388" h="1233613">
                    <a:moveTo>
                      <a:pt x="0" y="233481"/>
                    </a:moveTo>
                    <a:lnTo>
                      <a:pt x="1855598" y="0"/>
                    </a:lnTo>
                    <a:cubicBezTo>
                      <a:pt x="1856195" y="437551"/>
                      <a:pt x="1856791" y="796062"/>
                      <a:pt x="1857388" y="1233613"/>
                    </a:cubicBezTo>
                    <a:lnTo>
                      <a:pt x="0" y="1233613"/>
                    </a:lnTo>
                    <a:lnTo>
                      <a:pt x="0" y="23348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자유형 30"/>
              <p:cNvSpPr/>
              <p:nvPr/>
            </p:nvSpPr>
            <p:spPr>
              <a:xfrm rot="19998600">
                <a:off x="6831000" y="1664640"/>
                <a:ext cx="1754280" cy="383040"/>
              </a:xfrm>
              <a:custGeom>
                <a:avLst/>
                <a:gdLst>
                  <a:gd name="textAreaLeft" fmla="*/ 0 w 1754280"/>
                  <a:gd name="textAreaRight" fmla="*/ 1754640 w 17542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1766955" h="383031">
                    <a:moveTo>
                      <a:pt x="0" y="383031"/>
                    </a:moveTo>
                    <a:lnTo>
                      <a:pt x="196844" y="5508"/>
                    </a:lnTo>
                    <a:lnTo>
                      <a:pt x="1516564" y="0"/>
                    </a:lnTo>
                    <a:lnTo>
                      <a:pt x="1766955" y="383031"/>
                    </a:lnTo>
                    <a:lnTo>
                      <a:pt x="0" y="383031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그룹 58"/>
          <p:cNvGrpSpPr/>
          <p:nvPr/>
        </p:nvGrpSpPr>
        <p:grpSpPr>
          <a:xfrm>
            <a:off x="5172120" y="2051280"/>
            <a:ext cx="1901520" cy="4235400"/>
            <a:chOff x="5172120" y="2051280"/>
            <a:chExt cx="1901520" cy="4235400"/>
          </a:xfrm>
        </p:grpSpPr>
        <p:sp>
          <p:nvSpPr>
            <p:cNvPr id="155" name="직사각형 39"/>
            <p:cNvSpPr/>
            <p:nvPr/>
          </p:nvSpPr>
          <p:spPr>
            <a:xfrm>
              <a:off x="5357880" y="5858280"/>
              <a:ext cx="157140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그룹 53"/>
            <p:cNvGrpSpPr/>
            <p:nvPr/>
          </p:nvGrpSpPr>
          <p:grpSpPr>
            <a:xfrm>
              <a:off x="5172120" y="2051280"/>
              <a:ext cx="1901520" cy="3735360"/>
              <a:chOff x="5172120" y="2051280"/>
              <a:chExt cx="1901520" cy="3735360"/>
            </a:xfrm>
          </p:grpSpPr>
          <p:sp>
            <p:nvSpPr>
              <p:cNvPr id="157" name="자유형 22"/>
              <p:cNvSpPr/>
              <p:nvPr/>
            </p:nvSpPr>
            <p:spPr>
              <a:xfrm>
                <a:off x="5343480" y="2476080"/>
                <a:ext cx="1563480" cy="3310560"/>
              </a:xfrm>
              <a:custGeom>
                <a:avLst/>
                <a:gdLst>
                  <a:gd name="textAreaLeft" fmla="*/ 0 w 1563480"/>
                  <a:gd name="textAreaRight" fmla="*/ 1563840 w 1563480"/>
                  <a:gd name="textAreaTop" fmla="*/ 0 h 3310560"/>
                  <a:gd name="textAreaBottom" fmla="*/ 3310920 h 3310560"/>
                </a:gdLst>
                <a:ahLst/>
                <a:rect l="textAreaLeft" t="textAreaTop" r="textAreaRight" b="textAreaBottom"/>
                <a:pathLst>
                  <a:path w="1857388" h="1312654">
                    <a:moveTo>
                      <a:pt x="0" y="312522"/>
                    </a:moveTo>
                    <a:lnTo>
                      <a:pt x="1844283" y="0"/>
                    </a:lnTo>
                    <a:cubicBezTo>
                      <a:pt x="1844880" y="437551"/>
                      <a:pt x="1856791" y="875103"/>
                      <a:pt x="1857388" y="1312654"/>
                    </a:cubicBezTo>
                    <a:lnTo>
                      <a:pt x="0" y="1312654"/>
                    </a:lnTo>
                    <a:lnTo>
                      <a:pt x="0" y="3125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평행 사변형 13"/>
              <p:cNvSpPr/>
              <p:nvPr/>
            </p:nvSpPr>
            <p:spPr>
              <a:xfrm rot="19990800">
                <a:off x="5152680" y="2468160"/>
                <a:ext cx="1940040" cy="377280"/>
              </a:xfrm>
              <a:prstGeom prst="parallelogram">
                <a:avLst>
                  <a:gd name="adj" fmla="val 52160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그룹 56"/>
          <p:cNvGrpSpPr/>
          <p:nvPr/>
        </p:nvGrpSpPr>
        <p:grpSpPr>
          <a:xfrm>
            <a:off x="1890360" y="3723840"/>
            <a:ext cx="1915560" cy="2562480"/>
            <a:chOff x="1890360" y="3723840"/>
            <a:chExt cx="1915560" cy="2562480"/>
          </a:xfrm>
        </p:grpSpPr>
        <p:sp>
          <p:nvSpPr>
            <p:cNvPr id="160" name="직사각형 37"/>
            <p:cNvSpPr/>
            <p:nvPr/>
          </p:nvSpPr>
          <p:spPr>
            <a:xfrm>
              <a:off x="2071080" y="5857920"/>
              <a:ext cx="157248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그룹 51"/>
            <p:cNvGrpSpPr/>
            <p:nvPr/>
          </p:nvGrpSpPr>
          <p:grpSpPr>
            <a:xfrm>
              <a:off x="1890360" y="3723840"/>
              <a:ext cx="1915560" cy="2062800"/>
              <a:chOff x="1890360" y="3723840"/>
              <a:chExt cx="1915560" cy="2062800"/>
            </a:xfrm>
          </p:grpSpPr>
          <p:sp>
            <p:nvSpPr>
              <p:cNvPr id="162" name="자유형 14"/>
              <p:cNvSpPr/>
              <p:nvPr/>
            </p:nvSpPr>
            <p:spPr>
              <a:xfrm>
                <a:off x="2056680" y="4143240"/>
                <a:ext cx="1572480" cy="1643400"/>
              </a:xfrm>
              <a:custGeom>
                <a:avLst/>
                <a:gdLst>
                  <a:gd name="textAreaLeft" fmla="*/ 0 w 1572480"/>
                  <a:gd name="textAreaRight" fmla="*/ 1572840 w 1572480"/>
                  <a:gd name="textAreaTop" fmla="*/ 0 h 1643400"/>
                  <a:gd name="textAreaBottom" fmla="*/ 1643760 h 1643400"/>
                </a:gdLst>
                <a:ahLst/>
                <a:rect l="textAreaLeft" t="textAreaTop" r="textAreaRight" b="textAreaBottom"/>
                <a:pathLst>
                  <a:path w="1866913" h="1954305">
                    <a:moveTo>
                      <a:pt x="0" y="954173"/>
                    </a:moveTo>
                    <a:lnTo>
                      <a:pt x="1866913" y="0"/>
                    </a:lnTo>
                    <a:lnTo>
                      <a:pt x="1857388" y="1954305"/>
                    </a:lnTo>
                    <a:lnTo>
                      <a:pt x="0" y="1954305"/>
                    </a:lnTo>
                    <a:lnTo>
                      <a:pt x="0" y="9541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평행 사변형 15"/>
              <p:cNvSpPr/>
              <p:nvPr/>
            </p:nvSpPr>
            <p:spPr>
              <a:xfrm rot="19990800">
                <a:off x="1870200" y="4144680"/>
                <a:ext cx="1955520" cy="377640"/>
              </a:xfrm>
              <a:prstGeom prst="parallelogram">
                <a:avLst>
                  <a:gd name="adj" fmla="val 52118"/>
                </a:avLst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타원 17"/>
          <p:cNvSpPr/>
          <p:nvPr/>
        </p:nvSpPr>
        <p:spPr>
          <a:xfrm>
            <a:off x="264312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타원 18"/>
          <p:cNvSpPr/>
          <p:nvPr/>
        </p:nvSpPr>
        <p:spPr>
          <a:xfrm>
            <a:off x="428616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타원 19"/>
          <p:cNvSpPr/>
          <p:nvPr/>
        </p:nvSpPr>
        <p:spPr>
          <a:xfrm>
            <a:off x="592920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타원 21"/>
          <p:cNvSpPr/>
          <p:nvPr/>
        </p:nvSpPr>
        <p:spPr>
          <a:xfrm>
            <a:off x="757224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직사각형 24"/>
          <p:cNvSpPr/>
          <p:nvPr/>
        </p:nvSpPr>
        <p:spPr>
          <a:xfrm rot="16200000">
            <a:off x="-552960" y="2696400"/>
            <a:ext cx="2106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직사각형 26"/>
          <p:cNvSpPr/>
          <p:nvPr/>
        </p:nvSpPr>
        <p:spPr>
          <a:xfrm>
            <a:off x="1928880" y="1643040"/>
            <a:ext cx="16430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직사각형 29"/>
          <p:cNvSpPr/>
          <p:nvPr/>
        </p:nvSpPr>
        <p:spPr>
          <a:xfrm>
            <a:off x="1928880" y="292896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32"/>
          <p:cNvSpPr/>
          <p:nvPr/>
        </p:nvSpPr>
        <p:spPr>
          <a:xfrm>
            <a:off x="3500280" y="78588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33"/>
          <p:cNvSpPr/>
          <p:nvPr/>
        </p:nvSpPr>
        <p:spPr>
          <a:xfrm>
            <a:off x="3500280" y="2071800"/>
            <a:ext cx="16434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4"/>
          <p:cNvSpPr/>
          <p:nvPr/>
        </p:nvSpPr>
        <p:spPr>
          <a:xfrm>
            <a:off x="5214960" y="785880"/>
            <a:ext cx="16430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5"/>
          <p:cNvSpPr/>
          <p:nvPr/>
        </p:nvSpPr>
        <p:spPr>
          <a:xfrm>
            <a:off x="6929280" y="214200"/>
            <a:ext cx="1643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●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selecting differ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그룹 64"/>
          <p:cNvGrpSpPr/>
          <p:nvPr/>
        </p:nvGrpSpPr>
        <p:grpSpPr>
          <a:xfrm>
            <a:off x="252000" y="4576680"/>
            <a:ext cx="1915920" cy="1710000"/>
            <a:chOff x="252000" y="4576680"/>
            <a:chExt cx="1915920" cy="1710000"/>
          </a:xfrm>
        </p:grpSpPr>
        <p:sp>
          <p:nvSpPr>
            <p:cNvPr id="176" name="직사각형 42"/>
            <p:cNvSpPr/>
            <p:nvPr/>
          </p:nvSpPr>
          <p:spPr>
            <a:xfrm>
              <a:off x="428040" y="5857920"/>
              <a:ext cx="1572480" cy="42876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그룹 50"/>
            <p:cNvGrpSpPr/>
            <p:nvPr/>
          </p:nvGrpSpPr>
          <p:grpSpPr>
            <a:xfrm>
              <a:off x="252000" y="4576680"/>
              <a:ext cx="1915920" cy="1219320"/>
              <a:chOff x="252000" y="4576680"/>
              <a:chExt cx="1915920" cy="1219320"/>
            </a:xfrm>
          </p:grpSpPr>
          <p:sp>
            <p:nvSpPr>
              <p:cNvPr id="178" name="이등변 삼각형 6"/>
              <p:cNvSpPr/>
              <p:nvPr/>
            </p:nvSpPr>
            <p:spPr>
              <a:xfrm>
                <a:off x="428040" y="5000400"/>
                <a:ext cx="1558440" cy="786240"/>
              </a:xfrm>
              <a:prstGeom prst="triangle">
                <a:avLst>
                  <a:gd name="adj" fmla="val 100000"/>
                </a:avLst>
              </a:prstGeom>
              <a:gradFill rotWithShape="0">
                <a:gsLst>
                  <a:gs pos="0">
                    <a:srgbClr val="d8d8d8"/>
                  </a:gs>
                  <a:gs pos="100000">
                    <a:srgbClr val="ffffff"/>
                  </a:gs>
                </a:gsLst>
                <a:lin ang="18900000"/>
              </a:gradFill>
              <a:ln w="324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자유형 48"/>
              <p:cNvSpPr/>
              <p:nvPr/>
            </p:nvSpPr>
            <p:spPr>
              <a:xfrm rot="19990800">
                <a:off x="231840" y="4997160"/>
                <a:ext cx="1955880" cy="377640"/>
              </a:xfrm>
              <a:custGeom>
                <a:avLst/>
                <a:gdLst>
                  <a:gd name="textAreaLeft" fmla="*/ 0 w 1955880"/>
                  <a:gd name="textAreaRight" fmla="*/ 1956240 w 19558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954800" h="377523">
                    <a:moveTo>
                      <a:pt x="0" y="377523"/>
                    </a:moveTo>
                    <a:lnTo>
                      <a:pt x="431125" y="1027"/>
                    </a:lnTo>
                    <a:lnTo>
                      <a:pt x="1954800" y="0"/>
                    </a:lnTo>
                    <a:lnTo>
                      <a:pt x="1757956" y="377523"/>
                    </a:lnTo>
                    <a:lnTo>
                      <a:pt x="0" y="37752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타원 49"/>
          <p:cNvSpPr/>
          <p:nvPr/>
        </p:nvSpPr>
        <p:spPr>
          <a:xfrm>
            <a:off x="1000080" y="5214960"/>
            <a:ext cx="428760" cy="428760"/>
          </a:xfrm>
          <a:prstGeom prst="ellipse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85480" y="5855760"/>
            <a:ext cx="8429400" cy="2160"/>
            <a:chOff x="285480" y="5855760"/>
            <a:chExt cx="8429400" cy="2160"/>
          </a:xfrm>
        </p:grpSpPr>
        <p:cxnSp>
          <p:nvCxnSpPr>
            <p:cNvPr id="182" name="직선 화살표 연결선 60"/>
            <p:cNvCxnSpPr/>
            <p:nvPr/>
          </p:nvCxnSpPr>
          <p:spPr>
            <a:xfrm>
              <a:off x="285480" y="5855760"/>
              <a:ext cx="8429760" cy="2520"/>
            </a:xfrm>
            <a:prstGeom prst="straightConnector1">
              <a:avLst/>
            </a:prstGeom>
            <a:ln w="28440">
              <a:solidFill>
                <a:srgbClr val="595959"/>
              </a:solidFill>
              <a:miter/>
              <a:tailEnd len="med" type="triangle" w="med"/>
            </a:ln>
          </p:spPr>
        </p:cxnSp>
        <p:sp>
          <p:nvSpPr>
            <p:cNvPr id="183" name=""/>
            <p:cNvSpPr txBox="1"/>
            <p:nvPr/>
          </p:nvSpPr>
          <p:spPr>
            <a:xfrm>
              <a:off x="285480" y="5855760"/>
              <a:ext cx="84294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직사각형 61"/>
          <p:cNvSpPr/>
          <p:nvPr/>
        </p:nvSpPr>
        <p:spPr>
          <a:xfrm>
            <a:off x="3000240" y="5929200"/>
            <a:ext cx="3071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5840" y="1642680"/>
            <a:ext cx="1800" cy="4215240"/>
            <a:chOff x="285840" y="1642680"/>
            <a:chExt cx="1800" cy="4215240"/>
          </a:xfrm>
        </p:grpSpPr>
        <p:cxnSp>
          <p:nvCxnSpPr>
            <p:cNvPr id="186" name="직선 화살표 연결선 62"/>
            <p:cNvCxnSpPr/>
            <p:nvPr/>
          </p:nvCxnSpPr>
          <p:spPr>
            <a:xfrm flipV="1">
              <a:off x="285840" y="1642680"/>
              <a:ext cx="2160" cy="4215600"/>
            </a:xfrm>
            <a:prstGeom prst="straightConnector1">
              <a:avLst/>
            </a:prstGeom>
            <a:ln w="28440">
              <a:solidFill>
                <a:srgbClr val="595959"/>
              </a:solidFill>
              <a:miter/>
              <a:tailEnd len="med" type="triangle" w="med"/>
            </a:ln>
          </p:spPr>
        </p:cxnSp>
        <p:sp>
          <p:nvSpPr>
            <p:cNvPr id="187" name=""/>
            <p:cNvSpPr txBox="1"/>
            <p:nvPr/>
          </p:nvSpPr>
          <p:spPr>
            <a:xfrm rot="16200000">
              <a:off x="-1820520" y="3749760"/>
              <a:ext cx="42148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직사각형 63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이등변 삼각형 20"/>
          <p:cNvSpPr/>
          <p:nvPr/>
        </p:nvSpPr>
        <p:spPr>
          <a:xfrm flipV="1">
            <a:off x="3929040" y="3666960"/>
            <a:ext cx="2567160" cy="1190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fbfbf"/>
              </a:gs>
              <a:gs pos="50000">
                <a:srgbClr val="bfbfbf"/>
              </a:gs>
              <a:gs pos="100000">
                <a:srgbClr val="bfbfb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직사각형 19"/>
          <p:cNvSpPr/>
          <p:nvPr/>
        </p:nvSpPr>
        <p:spPr>
          <a:xfrm rot="1858800">
            <a:off x="4578120" y="4377960"/>
            <a:ext cx="583920" cy="101772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d8d8d8"/>
              </a:gs>
            </a:gsLst>
            <a:lin ang="3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직사각형 18"/>
          <p:cNvSpPr/>
          <p:nvPr/>
        </p:nvSpPr>
        <p:spPr>
          <a:xfrm>
            <a:off x="4143240" y="5500800"/>
            <a:ext cx="785880" cy="5000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이등변 삼각형 1"/>
          <p:cNvSpPr/>
          <p:nvPr/>
        </p:nvSpPr>
        <p:spPr>
          <a:xfrm flipV="1">
            <a:off x="2577960" y="1680840"/>
            <a:ext cx="3921120" cy="33796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7f7f7"/>
              </a:gs>
              <a:gs pos="100000">
                <a:srgbClr val="e0e0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이등변 삼각형 2"/>
          <p:cNvSpPr/>
          <p:nvPr/>
        </p:nvSpPr>
        <p:spPr>
          <a:xfrm flipV="1">
            <a:off x="3456000" y="3180600"/>
            <a:ext cx="2181240" cy="1879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3d5e6"/>
              </a:gs>
              <a:gs pos="100000">
                <a:srgbClr val="bb378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타원 9"/>
          <p:cNvSpPr/>
          <p:nvPr/>
        </p:nvSpPr>
        <p:spPr>
          <a:xfrm>
            <a:off x="3444840" y="3019320"/>
            <a:ext cx="2195640" cy="319320"/>
          </a:xfrm>
          <a:prstGeom prst="ellipse">
            <a:avLst/>
          </a:prstGeom>
          <a:gradFill rotWithShape="0">
            <a:gsLst>
              <a:gs pos="0">
                <a:srgbClr val="d8d8d8"/>
              </a:gs>
              <a:gs pos="100000">
                <a:srgbClr val="a5a5a5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직사각형 13"/>
          <p:cNvSpPr/>
          <p:nvPr/>
        </p:nvSpPr>
        <p:spPr>
          <a:xfrm>
            <a:off x="4149720" y="4395960"/>
            <a:ext cx="785880" cy="11048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ffffff"/>
              </a:gs>
              <a:gs pos="100000">
                <a:srgbClr val="bfbfbf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타원 14"/>
          <p:cNvSpPr/>
          <p:nvPr/>
        </p:nvSpPr>
        <p:spPr>
          <a:xfrm>
            <a:off x="4149720" y="4324320"/>
            <a:ext cx="785880" cy="142920"/>
          </a:xfrm>
          <a:prstGeom prst="ellipse">
            <a:avLst/>
          </a:prstGeom>
          <a:gradFill rotWithShape="0">
            <a:gsLst>
              <a:gs pos="0">
                <a:srgbClr val="bb3783"/>
              </a:gs>
              <a:gs pos="50000">
                <a:srgbClr val="e19bc3"/>
              </a:gs>
              <a:gs pos="100000">
                <a:srgbClr val="bb3783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자유형 15"/>
          <p:cNvSpPr/>
          <p:nvPr/>
        </p:nvSpPr>
        <p:spPr>
          <a:xfrm flipV="1">
            <a:off x="2863800" y="1681200"/>
            <a:ext cx="1549440" cy="2695680"/>
          </a:xfrm>
          <a:custGeom>
            <a:avLst/>
            <a:gdLst>
              <a:gd name="textAreaLeft" fmla="*/ 0 w 1549440"/>
              <a:gd name="textAreaRight" fmla="*/ 1549800 w 1549440"/>
              <a:gd name="textAreaTop" fmla="*/ 360 h 2695680"/>
              <a:gd name="textAreaBottom" fmla="*/ 2696400 h 2695680"/>
            </a:gdLst>
            <a:ahLst/>
            <a:rect l="textAreaLeft" t="textAreaTop" r="textAreaRight" b="textAreaBottom"/>
            <a:pathLst>
              <a:path w="1548950" h="2695617">
                <a:moveTo>
                  <a:pt x="0" y="2695617"/>
                </a:moveTo>
                <a:lnTo>
                  <a:pt x="1413218" y="4762"/>
                </a:lnTo>
                <a:lnTo>
                  <a:pt x="1548950" y="0"/>
                </a:lnTo>
                <a:lnTo>
                  <a:pt x="857224" y="2695617"/>
                </a:lnTo>
                <a:lnTo>
                  <a:pt x="0" y="269561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타원 16"/>
          <p:cNvSpPr/>
          <p:nvPr/>
        </p:nvSpPr>
        <p:spPr>
          <a:xfrm>
            <a:off x="2587680" y="1428840"/>
            <a:ext cx="3909960" cy="500040"/>
          </a:xfrm>
          <a:prstGeom prst="ellipse">
            <a:avLst/>
          </a:prstGeom>
          <a:gradFill rotWithShape="0">
            <a:gsLst>
              <a:gs pos="0">
                <a:srgbClr val="d8d8d8"/>
              </a:gs>
              <a:gs pos="100000">
                <a:srgbClr val="a5a5a5"/>
              </a:gs>
            </a:gsLst>
            <a:lin ang="18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타원 17"/>
          <p:cNvSpPr/>
          <p:nvPr/>
        </p:nvSpPr>
        <p:spPr>
          <a:xfrm>
            <a:off x="4149720" y="5429160"/>
            <a:ext cx="785880" cy="142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직선 연결선 22"/>
          <p:cNvSpPr/>
          <p:nvPr/>
        </p:nvSpPr>
        <p:spPr>
          <a:xfrm>
            <a:off x="6643800" y="1714680"/>
            <a:ext cx="2000160" cy="144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직선 연결선 24"/>
          <p:cNvSpPr/>
          <p:nvPr/>
        </p:nvSpPr>
        <p:spPr>
          <a:xfrm>
            <a:off x="5929200" y="3214800"/>
            <a:ext cx="2643480" cy="144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직선 연결선 26"/>
          <p:cNvSpPr/>
          <p:nvPr/>
        </p:nvSpPr>
        <p:spPr>
          <a:xfrm>
            <a:off x="5214960" y="4357800"/>
            <a:ext cx="3357720" cy="144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직선 연결선 29"/>
          <p:cNvSpPr/>
          <p:nvPr/>
        </p:nvSpPr>
        <p:spPr>
          <a:xfrm>
            <a:off x="5214960" y="5500800"/>
            <a:ext cx="3357720" cy="144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214720" y="1785600"/>
            <a:ext cx="1643400" cy="2715120"/>
            <a:chOff x="2214720" y="1785600"/>
            <a:chExt cx="1643400" cy="2715120"/>
          </a:xfrm>
        </p:grpSpPr>
        <p:cxnSp>
          <p:nvCxnSpPr>
            <p:cNvPr id="205" name="직선 화살표 연결선 31"/>
            <p:cNvCxnSpPr/>
            <p:nvPr/>
          </p:nvCxnSpPr>
          <p:spPr>
            <a:xfrm>
              <a:off x="2214720" y="1785600"/>
              <a:ext cx="1643760" cy="2715480"/>
            </a:xfrm>
            <a:prstGeom prst="straightConnector1">
              <a:avLst/>
            </a:prstGeom>
            <a:ln w="28440">
              <a:solidFill>
                <a:srgbClr val="7f7f7f"/>
              </a:solidFill>
              <a:prstDash val="sysDash"/>
              <a:miter/>
              <a:tailEnd len="med" type="triangle" w="med"/>
            </a:ln>
          </p:spPr>
        </p:cxnSp>
        <p:sp>
          <p:nvSpPr>
            <p:cNvPr id="206" name=""/>
            <p:cNvSpPr txBox="1"/>
            <p:nvPr/>
          </p:nvSpPr>
          <p:spPr>
            <a:xfrm rot="16200000">
              <a:off x="1678680" y="2321640"/>
              <a:ext cx="2714760" cy="164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직사각형 33"/>
          <p:cNvSpPr/>
          <p:nvPr/>
        </p:nvSpPr>
        <p:spPr>
          <a:xfrm rot="3502200">
            <a:off x="1328040" y="3038760"/>
            <a:ext cx="30002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직사각형 34"/>
          <p:cNvSpPr/>
          <p:nvPr/>
        </p:nvSpPr>
        <p:spPr>
          <a:xfrm>
            <a:off x="6572160" y="2500200"/>
            <a:ext cx="20289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직사각형 35"/>
          <p:cNvSpPr/>
          <p:nvPr/>
        </p:nvSpPr>
        <p:spPr>
          <a:xfrm>
            <a:off x="6572160" y="3643200"/>
            <a:ext cx="20289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Enter y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Own 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직사각형 36"/>
          <p:cNvSpPr/>
          <p:nvPr/>
        </p:nvSpPr>
        <p:spPr>
          <a:xfrm>
            <a:off x="6572160" y="4786200"/>
            <a:ext cx="202896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his i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holder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직사각형 37"/>
          <p:cNvSpPr/>
          <p:nvPr/>
        </p:nvSpPr>
        <p:spPr>
          <a:xfrm>
            <a:off x="142920" y="4143240"/>
            <a:ext cx="2357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직사각형 38"/>
          <p:cNvSpPr/>
          <p:nvPr/>
        </p:nvSpPr>
        <p:spPr>
          <a:xfrm>
            <a:off x="142920" y="4714920"/>
            <a:ext cx="27147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And size of fonts used by placeholder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직사각형 67"/>
          <p:cNvSpPr/>
          <p:nvPr/>
        </p:nvSpPr>
        <p:spPr>
          <a:xfrm>
            <a:off x="1785960" y="5857920"/>
            <a:ext cx="1357200" cy="42876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99bd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213120" y="1642680"/>
            <a:ext cx="3240" cy="4215240"/>
            <a:chOff x="213120" y="1642680"/>
            <a:chExt cx="3240" cy="4215240"/>
          </a:xfrm>
        </p:grpSpPr>
        <p:cxnSp>
          <p:nvCxnSpPr>
            <p:cNvPr id="215" name="직선 화살표 연결선 3"/>
            <p:cNvCxnSpPr/>
            <p:nvPr/>
          </p:nvCxnSpPr>
          <p:spPr>
            <a:xfrm flipV="1">
              <a:off x="213120" y="1642680"/>
              <a:ext cx="2520" cy="4215600"/>
            </a:xfrm>
            <a:prstGeom prst="straightConnector1">
              <a:avLst/>
            </a:prstGeom>
            <a:ln w="28440">
              <a:solidFill>
                <a:srgbClr val="595959"/>
              </a:solidFill>
              <a:miter/>
              <a:tailEnd len="med" type="triangle" w="med"/>
            </a:ln>
          </p:spPr>
        </p:cxnSp>
        <p:sp>
          <p:nvSpPr>
            <p:cNvPr id="216" name=""/>
            <p:cNvSpPr txBox="1"/>
            <p:nvPr/>
          </p:nvSpPr>
          <p:spPr>
            <a:xfrm rot="16200000">
              <a:off x="-1891800" y="3749400"/>
              <a:ext cx="42148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그룹 74"/>
          <p:cNvGrpSpPr/>
          <p:nvPr/>
        </p:nvGrpSpPr>
        <p:grpSpPr>
          <a:xfrm>
            <a:off x="357120" y="1643040"/>
            <a:ext cx="1357560" cy="4643640"/>
            <a:chOff x="357120" y="1643040"/>
            <a:chExt cx="1357560" cy="4643640"/>
          </a:xfrm>
        </p:grpSpPr>
        <p:sp>
          <p:nvSpPr>
            <p:cNvPr id="218" name="직사각형 69"/>
            <p:cNvSpPr/>
            <p:nvPr/>
          </p:nvSpPr>
          <p:spPr>
            <a:xfrm>
              <a:off x="357120" y="5858280"/>
              <a:ext cx="135756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직사각형 31"/>
            <p:cNvSpPr/>
            <p:nvPr/>
          </p:nvSpPr>
          <p:spPr>
            <a:xfrm>
              <a:off x="357120" y="1643040"/>
              <a:ext cx="1357560" cy="41436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그룹 75"/>
          <p:cNvGrpSpPr/>
          <p:nvPr/>
        </p:nvGrpSpPr>
        <p:grpSpPr>
          <a:xfrm>
            <a:off x="1785960" y="1643040"/>
            <a:ext cx="1357200" cy="4643640"/>
            <a:chOff x="1785960" y="1643040"/>
            <a:chExt cx="1357200" cy="4643640"/>
          </a:xfrm>
        </p:grpSpPr>
        <p:sp>
          <p:nvSpPr>
            <p:cNvPr id="221" name="직사각형 70"/>
            <p:cNvSpPr/>
            <p:nvPr/>
          </p:nvSpPr>
          <p:spPr>
            <a:xfrm>
              <a:off x="1785960" y="5858280"/>
              <a:ext cx="135720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직사각형 36"/>
            <p:cNvSpPr/>
            <p:nvPr/>
          </p:nvSpPr>
          <p:spPr>
            <a:xfrm>
              <a:off x="1785960" y="1643040"/>
              <a:ext cx="1357200" cy="41436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그룹 76"/>
          <p:cNvGrpSpPr/>
          <p:nvPr/>
        </p:nvGrpSpPr>
        <p:grpSpPr>
          <a:xfrm>
            <a:off x="3214800" y="1643040"/>
            <a:ext cx="1357200" cy="4643640"/>
            <a:chOff x="3214800" y="1643040"/>
            <a:chExt cx="1357200" cy="4643640"/>
          </a:xfrm>
        </p:grpSpPr>
        <p:sp>
          <p:nvSpPr>
            <p:cNvPr id="224" name="직사각형 68"/>
            <p:cNvSpPr/>
            <p:nvPr/>
          </p:nvSpPr>
          <p:spPr>
            <a:xfrm>
              <a:off x="3214800" y="5858280"/>
              <a:ext cx="135720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직사각형 43"/>
            <p:cNvSpPr/>
            <p:nvPr/>
          </p:nvSpPr>
          <p:spPr>
            <a:xfrm>
              <a:off x="3214800" y="1643040"/>
              <a:ext cx="1357200" cy="4143600"/>
            </a:xfrm>
            <a:prstGeom prst="rect">
              <a:avLst/>
            </a:prstGeom>
            <a:gradFill rotWithShape="0">
              <a:gsLst>
                <a:gs pos="0">
                  <a:srgbClr val="bb3783"/>
                </a:gs>
                <a:gs pos="100000">
                  <a:srgbClr val="f3d5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그룹 77"/>
          <p:cNvGrpSpPr/>
          <p:nvPr/>
        </p:nvGrpSpPr>
        <p:grpSpPr>
          <a:xfrm>
            <a:off x="4643280" y="1643040"/>
            <a:ext cx="1357560" cy="4643640"/>
            <a:chOff x="4643280" y="1643040"/>
            <a:chExt cx="1357560" cy="4643640"/>
          </a:xfrm>
        </p:grpSpPr>
        <p:sp>
          <p:nvSpPr>
            <p:cNvPr id="227" name="직사각형 71"/>
            <p:cNvSpPr/>
            <p:nvPr/>
          </p:nvSpPr>
          <p:spPr>
            <a:xfrm>
              <a:off x="4643280" y="5858280"/>
              <a:ext cx="135756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직사각형 44"/>
            <p:cNvSpPr/>
            <p:nvPr/>
          </p:nvSpPr>
          <p:spPr>
            <a:xfrm>
              <a:off x="4643280" y="1643040"/>
              <a:ext cx="1357560" cy="41436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그룹 78"/>
          <p:cNvGrpSpPr/>
          <p:nvPr/>
        </p:nvGrpSpPr>
        <p:grpSpPr>
          <a:xfrm>
            <a:off x="6072120" y="1643040"/>
            <a:ext cx="1357560" cy="4643640"/>
            <a:chOff x="6072120" y="1643040"/>
            <a:chExt cx="1357560" cy="4643640"/>
          </a:xfrm>
        </p:grpSpPr>
        <p:sp>
          <p:nvSpPr>
            <p:cNvPr id="230" name="직사각형 72"/>
            <p:cNvSpPr/>
            <p:nvPr/>
          </p:nvSpPr>
          <p:spPr>
            <a:xfrm>
              <a:off x="6072120" y="5858280"/>
              <a:ext cx="135756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직사각형 45"/>
            <p:cNvSpPr/>
            <p:nvPr/>
          </p:nvSpPr>
          <p:spPr>
            <a:xfrm>
              <a:off x="6072120" y="1643040"/>
              <a:ext cx="1357560" cy="41436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그룹 79"/>
          <p:cNvGrpSpPr/>
          <p:nvPr/>
        </p:nvGrpSpPr>
        <p:grpSpPr>
          <a:xfrm>
            <a:off x="7500960" y="1643040"/>
            <a:ext cx="1357200" cy="4643640"/>
            <a:chOff x="7500960" y="1643040"/>
            <a:chExt cx="1357200" cy="4643640"/>
          </a:xfrm>
        </p:grpSpPr>
        <p:sp>
          <p:nvSpPr>
            <p:cNvPr id="233" name="직사각형 73"/>
            <p:cNvSpPr/>
            <p:nvPr/>
          </p:nvSpPr>
          <p:spPr>
            <a:xfrm>
              <a:off x="7500960" y="5858280"/>
              <a:ext cx="1357200" cy="4284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직사각형 46"/>
            <p:cNvSpPr/>
            <p:nvPr/>
          </p:nvSpPr>
          <p:spPr>
            <a:xfrm>
              <a:off x="7500960" y="1643040"/>
              <a:ext cx="1357200" cy="4143600"/>
            </a:xfrm>
            <a:prstGeom prst="rect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99bd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자유형 53"/>
          <p:cNvSpPr/>
          <p:nvPr/>
        </p:nvSpPr>
        <p:spPr>
          <a:xfrm>
            <a:off x="357120" y="2071800"/>
            <a:ext cx="8572680" cy="3571920"/>
          </a:xfrm>
          <a:custGeom>
            <a:avLst/>
            <a:gdLst>
              <a:gd name="textAreaLeft" fmla="*/ 0 w 8572680"/>
              <a:gd name="textAreaRight" fmla="*/ 8573040 w 8572680"/>
              <a:gd name="textAreaTop" fmla="*/ 0 h 3571920"/>
              <a:gd name="textAreaBottom" fmla="*/ 3572280 h 3571920"/>
            </a:gdLst>
            <a:ahLst/>
            <a:rect l="textAreaLeft" t="textAreaTop" r="textAreaRight" b="textAreaBottom"/>
            <a:pathLst>
              <a:path w="8115300" h="3543300">
                <a:moveTo>
                  <a:pt x="0" y="0"/>
                </a:moveTo>
                <a:cubicBezTo>
                  <a:pt x="790484" y="154323"/>
                  <a:pt x="1627631" y="184267"/>
                  <a:pt x="2371453" y="462970"/>
                </a:cubicBezTo>
                <a:cubicBezTo>
                  <a:pt x="3403159" y="988172"/>
                  <a:pt x="3799063" y="1815666"/>
                  <a:pt x="4756371" y="2329054"/>
                </a:cubicBezTo>
                <a:cubicBezTo>
                  <a:pt x="5713679" y="2842442"/>
                  <a:pt x="7578036" y="3270072"/>
                  <a:pt x="8115300" y="3543300"/>
                </a:cubicBezTo>
              </a:path>
            </a:pathLst>
          </a:custGeom>
          <a:noFill/>
          <a:ln w="57240">
            <a:solidFill>
              <a:srgbClr val="7a245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54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55"/>
          <p:cNvSpPr/>
          <p:nvPr/>
        </p:nvSpPr>
        <p:spPr>
          <a:xfrm>
            <a:off x="76176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56"/>
          <p:cNvSpPr/>
          <p:nvPr/>
        </p:nvSpPr>
        <p:spPr>
          <a:xfrm>
            <a:off x="219060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57"/>
          <p:cNvSpPr/>
          <p:nvPr/>
        </p:nvSpPr>
        <p:spPr>
          <a:xfrm>
            <a:off x="361944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a2455"/>
                </a:solidFill>
                <a:latin typeface="HY헤드라인M"/>
                <a:ea typeface="HY헤드라인M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58"/>
          <p:cNvSpPr/>
          <p:nvPr/>
        </p:nvSpPr>
        <p:spPr>
          <a:xfrm>
            <a:off x="504792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59"/>
          <p:cNvSpPr/>
          <p:nvPr/>
        </p:nvSpPr>
        <p:spPr>
          <a:xfrm>
            <a:off x="650700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직사각형 60"/>
          <p:cNvSpPr/>
          <p:nvPr/>
        </p:nvSpPr>
        <p:spPr>
          <a:xfrm>
            <a:off x="7905600" y="58579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직사각형 61"/>
          <p:cNvSpPr/>
          <p:nvPr/>
        </p:nvSpPr>
        <p:spPr>
          <a:xfrm>
            <a:off x="1785960" y="3857760"/>
            <a:ext cx="1357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직사각형 62"/>
          <p:cNvSpPr/>
          <p:nvPr/>
        </p:nvSpPr>
        <p:spPr>
          <a:xfrm>
            <a:off x="1785960" y="3643200"/>
            <a:ext cx="13572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직사각형 63"/>
          <p:cNvSpPr/>
          <p:nvPr/>
        </p:nvSpPr>
        <p:spPr>
          <a:xfrm>
            <a:off x="6072120" y="2071800"/>
            <a:ext cx="13575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직사각형 64"/>
          <p:cNvSpPr/>
          <p:nvPr/>
        </p:nvSpPr>
        <p:spPr>
          <a:xfrm>
            <a:off x="6072120" y="1857240"/>
            <a:ext cx="135756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직사각형 65"/>
          <p:cNvSpPr/>
          <p:nvPr/>
        </p:nvSpPr>
        <p:spPr>
          <a:xfrm>
            <a:off x="3214800" y="2286000"/>
            <a:ext cx="13572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직사각형 66"/>
          <p:cNvSpPr/>
          <p:nvPr/>
        </p:nvSpPr>
        <p:spPr>
          <a:xfrm>
            <a:off x="3214800" y="2500200"/>
            <a:ext cx="13572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14200" y="5855760"/>
            <a:ext cx="8787240" cy="2160"/>
            <a:chOff x="214200" y="5855760"/>
            <a:chExt cx="8787240" cy="2160"/>
          </a:xfrm>
        </p:grpSpPr>
        <p:cxnSp>
          <p:nvCxnSpPr>
            <p:cNvPr id="250" name="직선 화살표 연결선 80"/>
            <p:cNvCxnSpPr/>
            <p:nvPr/>
          </p:nvCxnSpPr>
          <p:spPr>
            <a:xfrm>
              <a:off x="214200" y="5855760"/>
              <a:ext cx="8787600" cy="2520"/>
            </a:xfrm>
            <a:prstGeom prst="straightConnector1">
              <a:avLst/>
            </a:prstGeom>
            <a:ln w="28440">
              <a:solidFill>
                <a:srgbClr val="595959"/>
              </a:solidFill>
              <a:miter/>
              <a:tailEnd len="med" type="triangle" w="med"/>
            </a:ln>
          </p:spPr>
        </p:cxnSp>
        <p:sp>
          <p:nvSpPr>
            <p:cNvPr id="251" name=""/>
            <p:cNvSpPr txBox="1"/>
            <p:nvPr/>
          </p:nvSpPr>
          <p:spPr>
            <a:xfrm>
              <a:off x="214200" y="5855760"/>
              <a:ext cx="87868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213120" y="1642680"/>
            <a:ext cx="3240" cy="4215240"/>
            <a:chOff x="213120" y="1642680"/>
            <a:chExt cx="3240" cy="4215240"/>
          </a:xfrm>
        </p:grpSpPr>
        <p:cxnSp>
          <p:nvCxnSpPr>
            <p:cNvPr id="253" name="직선 화살표 연결선 3"/>
            <p:cNvCxnSpPr/>
            <p:nvPr/>
          </p:nvCxnSpPr>
          <p:spPr>
            <a:xfrm flipV="1">
              <a:off x="213120" y="1642680"/>
              <a:ext cx="2520" cy="4215600"/>
            </a:xfrm>
            <a:prstGeom prst="straightConnector1">
              <a:avLst/>
            </a:prstGeom>
            <a:ln w="28440">
              <a:solidFill>
                <a:srgbClr val="595959"/>
              </a:solidFill>
              <a:miter/>
              <a:tailEnd len="med" type="triangle" w="med"/>
            </a:ln>
          </p:spPr>
        </p:cxnSp>
        <p:sp>
          <p:nvSpPr>
            <p:cNvPr id="254" name=""/>
            <p:cNvSpPr txBox="1"/>
            <p:nvPr/>
          </p:nvSpPr>
          <p:spPr>
            <a:xfrm rot="16200000">
              <a:off x="-1891800" y="3749400"/>
              <a:ext cx="42148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직사각형 31"/>
          <p:cNvSpPr/>
          <p:nvPr/>
        </p:nvSpPr>
        <p:spPr>
          <a:xfrm>
            <a:off x="357120" y="1643040"/>
            <a:ext cx="1571760" cy="414324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직사각형 36"/>
          <p:cNvSpPr/>
          <p:nvPr/>
        </p:nvSpPr>
        <p:spPr>
          <a:xfrm>
            <a:off x="2000160" y="1643040"/>
            <a:ext cx="1571760" cy="414324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직사각형 44"/>
          <p:cNvSpPr/>
          <p:nvPr/>
        </p:nvSpPr>
        <p:spPr>
          <a:xfrm>
            <a:off x="3643200" y="1643040"/>
            <a:ext cx="1571760" cy="414324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직사각형 45"/>
          <p:cNvSpPr/>
          <p:nvPr/>
        </p:nvSpPr>
        <p:spPr>
          <a:xfrm>
            <a:off x="5286240" y="1643040"/>
            <a:ext cx="1571760" cy="414324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직사각형 46"/>
          <p:cNvSpPr/>
          <p:nvPr/>
        </p:nvSpPr>
        <p:spPr>
          <a:xfrm>
            <a:off x="6929280" y="1643040"/>
            <a:ext cx="1571760" cy="414324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직사각형 54"/>
          <p:cNvSpPr/>
          <p:nvPr/>
        </p:nvSpPr>
        <p:spPr>
          <a:xfrm>
            <a:off x="293760" y="214200"/>
            <a:ext cx="43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urves and Trend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직사각형 61"/>
          <p:cNvSpPr/>
          <p:nvPr/>
        </p:nvSpPr>
        <p:spPr>
          <a:xfrm>
            <a:off x="357120" y="1643040"/>
            <a:ext cx="1571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직사각형 62"/>
          <p:cNvSpPr/>
          <p:nvPr/>
        </p:nvSpPr>
        <p:spPr>
          <a:xfrm>
            <a:off x="357120" y="1428840"/>
            <a:ext cx="1571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14200" y="5855760"/>
            <a:ext cx="8787240" cy="2160"/>
            <a:chOff x="214200" y="5855760"/>
            <a:chExt cx="8787240" cy="2160"/>
          </a:xfrm>
        </p:grpSpPr>
        <p:cxnSp>
          <p:nvCxnSpPr>
            <p:cNvPr id="264" name="직선 화살표 연결선 80"/>
            <p:cNvCxnSpPr/>
            <p:nvPr/>
          </p:nvCxnSpPr>
          <p:spPr>
            <a:xfrm>
              <a:off x="214200" y="5855760"/>
              <a:ext cx="8787600" cy="2520"/>
            </a:xfrm>
            <a:prstGeom prst="straightConnector1">
              <a:avLst/>
            </a:prstGeom>
            <a:ln w="28440">
              <a:solidFill>
                <a:srgbClr val="595959"/>
              </a:solidFill>
              <a:miter/>
              <a:tailEnd len="med" type="triangle" w="med"/>
            </a:ln>
          </p:spPr>
        </p:cxnSp>
        <p:sp>
          <p:nvSpPr>
            <p:cNvPr id="265" name=""/>
            <p:cNvSpPr txBox="1"/>
            <p:nvPr/>
          </p:nvSpPr>
          <p:spPr>
            <a:xfrm>
              <a:off x="214200" y="5855760"/>
              <a:ext cx="87868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자유형 38"/>
          <p:cNvSpPr/>
          <p:nvPr/>
        </p:nvSpPr>
        <p:spPr>
          <a:xfrm>
            <a:off x="304920" y="1647720"/>
            <a:ext cx="8143920" cy="3162240"/>
          </a:xfrm>
          <a:custGeom>
            <a:avLst/>
            <a:gdLst>
              <a:gd name="textAreaLeft" fmla="*/ 0 w 8143920"/>
              <a:gd name="textAreaRight" fmla="*/ 8144280 w 8143920"/>
              <a:gd name="textAreaTop" fmla="*/ 0 h 3162240"/>
              <a:gd name="textAreaBottom" fmla="*/ 3162600 h 3162240"/>
            </a:gdLst>
            <a:ahLst/>
            <a:rect l="textAreaLeft" t="textAreaTop" r="textAreaRight" b="textAreaBottom"/>
            <a:pathLst>
              <a:path w="8143875" h="3162300">
                <a:moveTo>
                  <a:pt x="0" y="3162300"/>
                </a:moveTo>
                <a:cubicBezTo>
                  <a:pt x="1740694" y="2840037"/>
                  <a:pt x="3481388" y="2517775"/>
                  <a:pt x="4838700" y="1990725"/>
                </a:cubicBezTo>
                <a:cubicBezTo>
                  <a:pt x="6196012" y="1463675"/>
                  <a:pt x="7169943" y="731837"/>
                  <a:pt x="8143875" y="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타원 39"/>
          <p:cNvSpPr/>
          <p:nvPr/>
        </p:nvSpPr>
        <p:spPr>
          <a:xfrm>
            <a:off x="1643040" y="4143240"/>
            <a:ext cx="642960" cy="642960"/>
          </a:xfrm>
          <a:prstGeom prst="ellipse">
            <a:avLst/>
          </a:prstGeom>
          <a:solidFill>
            <a:srgbClr val="e6e6e6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타원 40"/>
          <p:cNvSpPr/>
          <p:nvPr/>
        </p:nvSpPr>
        <p:spPr>
          <a:xfrm>
            <a:off x="6572160" y="2428920"/>
            <a:ext cx="642960" cy="642960"/>
          </a:xfrm>
          <a:prstGeom prst="ellipse">
            <a:avLst/>
          </a:prstGeom>
          <a:solidFill>
            <a:srgbClr val="ffc000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직사각형 41"/>
          <p:cNvSpPr/>
          <p:nvPr/>
        </p:nvSpPr>
        <p:spPr>
          <a:xfrm>
            <a:off x="2000160" y="1643040"/>
            <a:ext cx="1571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직사각형 42"/>
          <p:cNvSpPr/>
          <p:nvPr/>
        </p:nvSpPr>
        <p:spPr>
          <a:xfrm>
            <a:off x="2000160" y="1428840"/>
            <a:ext cx="1571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직사각형 47"/>
          <p:cNvSpPr/>
          <p:nvPr/>
        </p:nvSpPr>
        <p:spPr>
          <a:xfrm>
            <a:off x="3643200" y="1643040"/>
            <a:ext cx="1571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직사각형 48"/>
          <p:cNvSpPr/>
          <p:nvPr/>
        </p:nvSpPr>
        <p:spPr>
          <a:xfrm>
            <a:off x="3643200" y="1428840"/>
            <a:ext cx="1571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직사각형 49"/>
          <p:cNvSpPr/>
          <p:nvPr/>
        </p:nvSpPr>
        <p:spPr>
          <a:xfrm>
            <a:off x="5286240" y="4143240"/>
            <a:ext cx="15717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직사각형 50"/>
          <p:cNvSpPr/>
          <p:nvPr/>
        </p:nvSpPr>
        <p:spPr>
          <a:xfrm>
            <a:off x="5286240" y="3929040"/>
            <a:ext cx="1571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직사각형 51"/>
          <p:cNvSpPr/>
          <p:nvPr/>
        </p:nvSpPr>
        <p:spPr>
          <a:xfrm>
            <a:off x="6929280" y="3429000"/>
            <a:ext cx="15717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If you d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algun Gothic"/>
              </a:rPr>
              <a:t>’</a:t>
            </a:r>
            <a:r>
              <a:rPr b="0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 want to use the exact style and size of fonts used by placeholder, You can replace it by selecting different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직사각형 52"/>
          <p:cNvSpPr/>
          <p:nvPr/>
        </p:nvSpPr>
        <p:spPr>
          <a:xfrm>
            <a:off x="6929280" y="3214800"/>
            <a:ext cx="15717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Place holder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cp:keywords/>
  <dc:language>en-US</dc:language>
  <cp:lastModifiedBy>Sky123.Org</cp:lastModifiedBy>
  <dcterms:modified xsi:type="dcterms:W3CDTF">2015-07-30T08:54:44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