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EA5-90AB-4A4F-94C9-61E6C662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5A4-D799-4C91-97D4-878C991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C04-A566-4449-8C1C-EAF7B882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CAF-168C-435D-A6E7-9D5F001F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041-3D87-48A4-95EB-F4E41C6F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9C6-4CFF-4EDB-9EBA-F12CA4CA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283-1657-4215-9871-62D9858F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08E-D077-4DE9-B8A9-3AAA358F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443-639B-4E05-AA93-23C7A5A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9F4-4780-43D7-A89A-224E501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C95-8496-44D7-BBF2-372E900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70A-6912-4D4C-99C1-AAABD1D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EB06-C917-4518-896A-96177F93C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739120" y="92880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911920" y="3161520"/>
            <a:ext cx="10335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586200" y="1000080"/>
            <a:ext cx="606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7194600" y="1000080"/>
            <a:ext cx="393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5283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283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7212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4426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854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640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926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85716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355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3578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712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568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640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426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855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6407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069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5426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354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354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497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9-02T03:27:58Z</dcterms:modified>
  <cp:revision>45</cp:revision>
  <dc:subject/>
  <dc:title>幻灯片 1</dc:title>
</cp:coreProperties>
</file>