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06C-0B45-4D83-9661-747BB5AB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1B3-E50F-416F-8EC2-249ECADB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A0C31-10C6-4ADA-9D9E-D476B7AD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7F5FA-0A9B-4F3A-B922-FDA9E2FB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DE7FE-933D-4EB2-A6EB-26660721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CEF26-5853-495B-98FB-516BF1F5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6561D-E208-4A74-B63C-026F4C42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39690-E6A4-44AA-B8DA-B83BB72C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2F8AA-43ED-478A-9F84-6810B137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D7930-73E8-40F3-AC10-09A03857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0FFB1-2268-4852-A3CF-985E966C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F993C-FB2D-4738-97C5-CB282C85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7D29-24D0-4381-B543-BD0561A6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05B60-771C-4A8F-A7C7-21361113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4519E-885A-4350-8292-C553B45A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28ABF-46D5-490B-9EE9-2FC935F6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4690C-E04D-4F8C-A99B-B771BD6D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F7EEE-8BD9-4FB1-AA03-4FD417A9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6C92D-51B9-4C70-ABF0-F1FC709D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4DA52-F971-45BE-B115-9F49B459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A79AC-FDC2-49BA-869F-01A2422B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6E816-2E81-4E77-BC2A-2886AB19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3FF7F-79E6-4391-BB00-D33FB9AF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8177-0730-41A4-9617-B4BC5F05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98F35-5730-404D-9E44-598B7D7F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12398-7C75-46E8-8C62-77D21C9F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0DCFA-3D00-4520-A755-755994D9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899E7-9649-4256-A1DF-19D0F912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1BF86-776A-4A70-9361-EF0EEDFA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B01D6-8B18-4D24-88C6-DC3E72B4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059C0-74CE-4F15-AE03-35F90DA9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0981A-DB74-4794-A2B3-65C690F7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753C8-1540-43F9-A73D-DDC87AC2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2E19C-2E96-4CB9-A2AB-B6192926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3187-7111-4C15-ACA4-B23E385B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317C9-B408-4061-B092-544628DB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A32D4-4E39-4F62-A41C-D853CA13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8C09B-F96A-44C6-B72E-27FE0E9D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486BD-FCEF-4E39-B28F-3C736FBE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B847C-B3E0-4933-A639-AE1AF25E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2E848-C564-4B87-8C4F-873D2F7D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E90AE-0557-4062-8DA5-9BEE98CC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0FC64-9D40-4ED0-8F78-31E87275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F8B23-E079-40B3-A903-6190E97B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4A087-45AB-48BD-A487-78BA3113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FF67-E466-4438-9587-45E59B31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63D35-B533-4296-AB11-CCF6E7EF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2F199-B2F7-42F7-96C8-B10A4EF5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E0D0E-FC3F-4A31-9712-3E953148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478FE-D6CB-469C-BA17-398AE7BC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CFF3D-458F-46BA-AC34-7A113E80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57D39-82E2-4C8F-9050-45EAF828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D9EE3-AD71-48F4-91BC-6C1662B4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47DA4-84AB-4E31-A5BA-BFD7BA80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7D17C-8CAC-42A5-BE52-A482FC80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21301-81EF-441C-BA55-36F1C7DE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E7DE-830A-4232-9017-39665744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A67C1-04A1-49D0-BB62-F1751237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DA693-E00A-4FC5-9F07-9267C64C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EEF8A-B6A1-464A-926E-51FFE463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77B89-C649-4CF1-8282-9A82849F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AD8F8-4841-43F9-B748-B227CEE0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0124F-7FA9-4186-B9D1-5AB2049C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B7240E-2109-48EB-B722-8DF7539D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C87D-6724-4782-A2EE-53E83285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5E15-85F9-4759-935D-2B0CA882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A9A8-33B5-4156-84CD-40F34123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61B9-2F29-42C3-9273-F369CA98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2F1-EE92-4485-B8DC-724F1070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8054-6FB5-4967-99DA-F4B7EAEB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61E1-77DA-44FA-850B-398381CE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921A-80AD-4A3C-85B0-48B63BC9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794D-05E4-46EB-B68A-4ABE038C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773F-ED04-45A2-B987-6701DD32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198CE-22EC-44EE-AD21-B0EEBF03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CC67-A7F7-45DF-9FCC-B52DF0C8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B99E-445F-4887-B99C-4A6E0683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EB68-03C2-4585-A2FD-B0D4ED3F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46976-427D-4C65-8BC8-1F7DE6AD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276-13D7-477B-ADCB-874CBAAE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4636-5FFD-46BA-82D9-2DB022AD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030C4-AE3E-4E4F-B750-C8C6ABD1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DB9F9-E86D-4CF3-BF37-D47459C7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5B9BC-7EA8-4B61-A147-32585394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F7F08-0049-419B-A28C-08AA1397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3304C-9CC2-442C-8F2C-E166AD5E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5B23-AD67-4DBF-A127-029FD563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3696D-C704-4AC5-93F9-F4EAA4EE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9F9D-7308-484C-AF3F-8C71342F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2BBE2-9018-4A21-B032-B3F2112A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3B7-F5B1-450B-8996-365C513F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EE3B8-2066-4BD0-9092-2D6854CC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174AA-A6CD-42D1-89BA-B8BDE214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3C75C-197F-41C7-8D11-07385467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C0741-962C-4CD9-9AAB-FB251C21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095AD-3D7E-4DA9-A456-EC26B9B4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2638-C90C-4C62-BC00-BF0923F9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99B9C-1166-45FC-8960-CD7ACC3E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A1DB-AAED-4924-AB9F-6E4AEDF2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2F9C9-88AF-471B-8DCB-9C1E8908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E4D7F-22D6-427A-9216-B0580369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016-F503-4DD4-9C9C-5BC3C9CC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21768-94E2-4D87-86CE-F5B9EDF0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F0E9E-AC59-4995-819C-F6BC7918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6EC0F-9DD1-4529-B21D-BCD9D83D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45E0E-9A98-4D9E-BF1D-5E32C876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B10DA-B47A-44D1-9EE8-B2365EDE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97496-20A9-4855-88AE-85AB7121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89381-E62E-492B-BFFA-4675409E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A0065-E35E-4C76-934D-1C6B6D13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91AE0-CC78-45C3-9AE1-8D444411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64D17-399B-4412-B649-654147F6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EEE-1118-4BD6-872E-40971E52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C7A39-E6E4-4EB2-B218-D545A52F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28772-541C-4D07-AC82-454078F3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12A0F-C501-4113-8038-7B790997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71267-34B1-4ADF-929F-3BDF29C1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676C2-35F5-44F6-A493-1DC1688E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377DC-4CA6-418F-BD90-FE1CDEFD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BC3D4-ADE9-4008-B720-D5FFC752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E3AED-2D3D-457F-8897-AEA98E86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60996-4F0A-43EA-9B09-B720D156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DB67F-86A9-4109-A0C7-1831CD34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D80-36F6-4827-BD2A-C708C53C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0B973-330E-4AD7-9C62-7A5F1451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04A45-0BAD-4C8B-AE95-0A856908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BED00-A7C3-4D69-BBC7-8E70247B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9B342-EFD6-4205-B013-CEB158B1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813B3-4DC3-46F5-93B4-183B490D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4750E-45DA-4AF7-BCE4-DE1452AB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1269D-D56A-436B-BEAC-02A340A5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D5916-8E66-4C71-82AA-33621DA1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FD87E-271F-4660-BDB6-0B2A4B5A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B70C7-6955-4140-81CA-81D63267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5A3-EEFE-4347-B13F-32CA3CEA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26AD7-170E-4150-82FB-F63E411E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89ACB-A2D6-4991-B891-4F6BA304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2DCB6-7C89-4E8D-94EE-A3A69459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6E64E-2A8B-424D-9D93-B29C1CBD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FC1F9-EBC5-4CB2-BC05-0D0FF830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FD185-2341-4C45-BC5A-E6CF9511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A42A3-3702-4D25-B088-BECB6CDD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CA132-055F-4C78-882A-F19F823F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187AE-9C3B-42C1-A547-A1D407D9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B98D7-D261-43FC-905F-0C14C3E5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13D-ECFB-4002-8A91-065F286F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13262-BE4B-4818-9671-0A65348F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78101-D9C2-4D73-80BA-D3A74B83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691FB-7454-4FD1-8E72-E25F32FC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94DF4-4287-4EB5-A704-9273245F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48735-51BD-4E01-BF6F-FA3DA487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AA421-BEFB-465E-9F0B-D81EB48B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63CA5-0796-4876-9064-B041B219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8B5B0-6ADF-4284-8695-0DE83F28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36919-52AD-465B-8674-E9D767AF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DA0D7-E53C-4CD5-A485-B0D2240C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2D80-10CB-403E-9263-71A2695B6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8376-8B09-49EC-A0B1-3572842E7F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6526-0422-4034-A8F9-EC7D780A0F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1AEC-10AE-488C-8CFF-0A833AC710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3608-860C-4DF1-AEDD-CFD023A4BF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1DA9-A26C-497D-89C8-FA15CBCE22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C378-D662-471F-9B2E-2B3742F56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7C03-C511-46FF-8C4C-415C0F7601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0651-0273-4C88-8985-A2AAEB0025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DF29-A8FB-45EC-914E-59A4406C68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F9E0-E49D-4C2A-90FB-1962F2F330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FAE4-D03C-4C76-B762-BB10A28028D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23A7-83EF-4B26-B2F2-3E31EF9FF8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5" descr="3232458632545666948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6"/>
          <p:cNvSpPr/>
          <p:nvPr/>
        </p:nvSpPr>
        <p:spPr>
          <a:xfrm>
            <a:off x="4150080" y="549360"/>
            <a:ext cx="438588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ffffff"/>
                </a:solidFill>
                <a:latin typeface="Times New Roman"/>
                <a:ea typeface="方正新舒体简体"/>
              </a:rPr>
              <a:t>梅花魂</a:t>
            </a:r>
            <a:endParaRPr b="0" lang="en-US" sz="1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4791600" y="763920"/>
            <a:ext cx="22273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zh-CN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山中送别  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zh-CN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王维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6" name="Picture 3" descr="http://www.uccme.com/ywfj/UploadFiles_6884/200512/20051222225049423.jpg"/>
          <p:cNvPicPr/>
          <p:nvPr/>
        </p:nvPicPr>
        <p:blipFill>
          <a:blip r:embed="rId1"/>
          <a:stretch/>
        </p:blipFill>
        <p:spPr>
          <a:xfrm>
            <a:off x="468360" y="1268280"/>
            <a:ext cx="3166920" cy="446580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4"/>
          <p:cNvSpPr/>
          <p:nvPr/>
        </p:nvSpPr>
        <p:spPr>
          <a:xfrm>
            <a:off x="5068800" y="1989000"/>
            <a:ext cx="1780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</a:rPr>
              <a:t>山中相送罢，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5760720" y="2781360"/>
            <a:ext cx="397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</a:rPr>
              <a:t>日暮掩柴扉。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5111640" y="3645000"/>
            <a:ext cx="1780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</a:rPr>
              <a:t>春草明年绿，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5068800" y="4437000"/>
            <a:ext cx="1780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</a:rPr>
              <a:t>王孙归不归？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11658044992451960_small"/>
          <p:cNvPicPr/>
          <p:nvPr/>
        </p:nvPicPr>
        <p:blipFill>
          <a:blip r:embed="rId1"/>
          <a:stretch/>
        </p:blipFill>
        <p:spPr>
          <a:xfrm>
            <a:off x="395280" y="907920"/>
            <a:ext cx="2952720" cy="5042160"/>
          </a:xfrm>
          <a:prstGeom prst="rect">
            <a:avLst/>
          </a:prstGeom>
          <a:ln w="0">
            <a:noFill/>
          </a:ln>
        </p:spPr>
      </p:pic>
      <p:grpSp>
        <p:nvGrpSpPr>
          <p:cNvPr id="612" name="Group 3"/>
          <p:cNvGrpSpPr/>
          <p:nvPr/>
        </p:nvGrpSpPr>
        <p:grpSpPr>
          <a:xfrm>
            <a:off x="4498920" y="403920"/>
            <a:ext cx="2322000" cy="5712840"/>
            <a:chOff x="4498920" y="403920"/>
            <a:chExt cx="2322000" cy="5712840"/>
          </a:xfrm>
        </p:grpSpPr>
        <p:sp>
          <p:nvSpPr>
            <p:cNvPr id="613" name="Rectangle 4"/>
            <p:cNvSpPr/>
            <p:nvPr/>
          </p:nvSpPr>
          <p:spPr>
            <a:xfrm>
              <a:off x="4653720" y="403920"/>
              <a:ext cx="14655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ffff"/>
                  </a:solidFill>
                  <a:latin typeface="Arial"/>
                  <a:ea typeface="Arial"/>
                </a:rPr>
                <a:t>浣溪沙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Rectangle 5"/>
            <p:cNvSpPr/>
            <p:nvPr/>
          </p:nvSpPr>
          <p:spPr>
            <a:xfrm>
              <a:off x="4506480" y="1962000"/>
              <a:ext cx="2314440" cy="11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ffff"/>
                  </a:solidFill>
                  <a:latin typeface="Arial"/>
                </a:rPr>
                <a:t>漠漠轻寒上小楼，</a:t>
              </a:r>
              <a:br>
                <a:rPr sz="3500"/>
              </a:b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Rectangle 6"/>
            <p:cNvSpPr/>
            <p:nvPr/>
          </p:nvSpPr>
          <p:spPr>
            <a:xfrm>
              <a:off x="4506480" y="2681280"/>
              <a:ext cx="23144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ffff"/>
                  </a:solidFill>
                  <a:latin typeface="Arial"/>
                </a:rPr>
                <a:t>晓阴无赖似穷秋，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Rectangle 7"/>
            <p:cNvSpPr/>
            <p:nvPr/>
          </p:nvSpPr>
          <p:spPr>
            <a:xfrm>
              <a:off x="5457600" y="3402000"/>
              <a:ext cx="3970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ffff"/>
                  </a:solidFill>
                  <a:latin typeface="Arial"/>
                </a:rPr>
                <a:t>淡烟滚滚画屏幽。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Rectangle 8"/>
            <p:cNvSpPr/>
            <p:nvPr/>
          </p:nvSpPr>
          <p:spPr>
            <a:xfrm>
              <a:off x="4498920" y="4120920"/>
              <a:ext cx="23144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ffff"/>
                  </a:solidFill>
                  <a:latin typeface="Arial"/>
                </a:rPr>
                <a:t>自在飞花轻似梦，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Rectangle 9"/>
            <p:cNvSpPr/>
            <p:nvPr/>
          </p:nvSpPr>
          <p:spPr>
            <a:xfrm>
              <a:off x="4506480" y="4792320"/>
              <a:ext cx="23144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ffff"/>
                  </a:solidFill>
                  <a:latin typeface="Arial"/>
                </a:rPr>
                <a:t>无边丝雨细如愁，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5465160" y="5489280"/>
              <a:ext cx="3970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ffff"/>
                  </a:solidFill>
                  <a:latin typeface="Arial"/>
                </a:rPr>
                <a:t>宝帘闲挂小银钩。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Text Box 11"/>
            <p:cNvSpPr/>
            <p:nvPr/>
          </p:nvSpPr>
          <p:spPr>
            <a:xfrm>
              <a:off x="4868640" y="1241280"/>
              <a:ext cx="16552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ffff"/>
                  </a:solidFill>
                  <a:latin typeface="Arial"/>
                </a:rPr>
                <a:t>秦观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1026" descr="p020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1027"/>
          <p:cNvSpPr/>
          <p:nvPr/>
        </p:nvSpPr>
        <p:spPr>
          <a:xfrm>
            <a:off x="5966280" y="260280"/>
            <a:ext cx="2009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梅  花  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3378825620435175792"/>
          <p:cNvPicPr/>
          <p:nvPr/>
        </p:nvPicPr>
        <p:blipFill>
          <a:blip r:embed="rId1"/>
          <a:stretch/>
        </p:blipFill>
        <p:spPr>
          <a:xfrm>
            <a:off x="108000" y="154080"/>
            <a:ext cx="8928000" cy="66405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7"/>
          <p:cNvSpPr/>
          <p:nvPr/>
        </p:nvSpPr>
        <p:spPr>
          <a:xfrm>
            <a:off x="539640" y="42894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外祖父为什么哭了？你感受到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539640" y="62064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每当读到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独在异乡为异客，每逢佳节倍思亲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春草明年绿，王孙归不归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”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自在飞花轻似梦，无边丝雨细如愁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之类的句子，常会有一颗两颗冰凉的泪珠落在我的腮边、手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8" descr="4985829_111243064458_2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4"/>
          <p:cNvSpPr/>
          <p:nvPr/>
        </p:nvSpPr>
        <p:spPr>
          <a:xfrm>
            <a:off x="250920" y="115920"/>
            <a:ext cx="5113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　　</a:t>
            </a:r>
            <a:r>
              <a:rPr b="0" lang="zh-CN" sz="32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快速读课文，哪些描写可以看出外祖父对梅花的热爱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395280" y="2492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你知道这是为什么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mhzl_83u43218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3"/>
          <p:cNvSpPr/>
          <p:nvPr/>
        </p:nvSpPr>
        <p:spPr>
          <a:xfrm>
            <a:off x="324000" y="260280"/>
            <a:ext cx="8640720" cy="52056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这梅花，是我们中国最有名的花。旁的花，大抵是春暖才开花，她却不一样，愈是寒冷，愈是风欺雪压，花开得愈精神，愈秀气。她是最有品格、最有灵魂、最有骨气的！几千年来，我们中华民族出了许多有气节的人物，他们不管历经多少磨难，不管受到怎样的欺凌，从来都是顶天立地，不肯低头折节。他们就像这梅花一样。一个中国人，无论在怎样的境遇里，总要有梅花的秉性才好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24000" y="4581360"/>
            <a:ext cx="36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读一读这段话，想一想，这段话说了几个意思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81080" y="336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这梅花，是我们中国最有名的花。旁的花，大抵是春暖才开花。她却不一样，愈是寒冷，愈是风欺雪压，花开得愈精神、愈秀气。她是最有品格、有灵魂、有骨气的呢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几千年来，我们中华民族出了许多有气节的人物，他们不管历尽多少磨难、受到怎样的欺凌，从来都是顶天立地，不肯低头折节。他们就像这梅花一样。一个中国人，无论在怎样的境遇里，总要有梅花的秉性才好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914-037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1026" descr="0-4[1]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1027"/>
          <p:cNvSpPr/>
          <p:nvPr/>
        </p:nvSpPr>
        <p:spPr>
          <a:xfrm>
            <a:off x="0" y="5118120"/>
            <a:ext cx="95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这梅花，是我们中国最有名的花。旁的花，大抵是春暖才开花。她却不一样，愈是寒冷，愈是风欺雪压，花开得愈精神、愈秀气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1026"/>
          <p:cNvSpPr/>
          <p:nvPr/>
        </p:nvSpPr>
        <p:spPr>
          <a:xfrm>
            <a:off x="181080" y="336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这梅花，是我们中国最有名的花。旁的花，大抵是春暖才开花。她却不一样，愈是寒冷，愈是风欺雪压，花开得愈精神、愈秀气。她是最有品格、有灵魂、有骨气的呢！几千年来，我们中华民族出了许多有气节的人物，他们不管历尽多少磨难、受到怎样的欺凌，从来都是顶天立地，不肯低头折节。他们就像这梅花一样。一个中国人，无论在怎样的境遇里，总要有梅花的秉性才好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2"/>
          <p:cNvSpPr/>
          <p:nvPr/>
        </p:nvSpPr>
        <p:spPr>
          <a:xfrm>
            <a:off x="3637080" y="620640"/>
            <a:ext cx="5543280" cy="642600"/>
          </a:xfrm>
          <a:prstGeom prst="rect">
            <a:avLst/>
          </a:prstGeom>
          <a:solidFill>
            <a:srgbClr val="cc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梅花又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福花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中国传统名花，她象征着快乐、幸福、长寿、顺利、和平。 梅花以它的高洁、坚强、谦虚的品格，给人以立志奋发的激励。在严寒中，梅开百花之先，独天下而春，因此梅又常被民间作为传春报喜的吉祥象征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1026"/>
          <p:cNvSpPr/>
          <p:nvPr/>
        </p:nvSpPr>
        <p:spPr>
          <a:xfrm>
            <a:off x="181080" y="336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这梅花，是我们中国最有名的花。旁的花，大抵是春暖才开花。她却不一样，愈是寒冷，愈是风欺雪压，花开得愈精神、愈秀气。她是最有品格、有灵魂、有骨气的呢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几千年来，我们中华民族出了许多有气节的人物，他们不管历尽多少磨难、受到怎样的欺凌，从来都是顶天立地，不肯低头折节。他们就像这梅花一样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个中国人，无论在怎样的境遇里，总要有梅花的秉性才好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1026"/>
          <p:cNvSpPr/>
          <p:nvPr/>
        </p:nvSpPr>
        <p:spPr>
          <a:xfrm>
            <a:off x="181080" y="336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这梅花，是我们中国最有名的花。旁的花，大抵是春暖才开花。她却不一样，愈是寒冷，愈是风欺雪压，花开得愈精神、愈秀气。她是最有品格、有灵魂、有骨气的呢！几千年来，我们中华民族出了许多有气节的人物，他们不管历尽多少磨难、受到怎样的欺凌，从来都是顶天立地，不肯低头折节。他们就像这梅花一样。一个中国人，无论在怎样的境遇里，总要有梅花的秉性才好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1026"/>
          <p:cNvSpPr/>
          <p:nvPr/>
        </p:nvSpPr>
        <p:spPr>
          <a:xfrm>
            <a:off x="181080" y="3366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这梅花，是我们中国最有名的花。旁的花，大抵是春暖才开花。她却不一样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愈是寒冷，愈是风欺雪压，花开得愈精神、愈秀气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她是最有品格、有灵魂、有骨气的呢！几千年来，我们中华民族出了许多有气节的人物，他们不管历尽多少磨难、受到怎样的欺凌，从来都是顶天立地，不肯低头折节。他们就像这梅花一样。一个中国人，无论在怎样的境遇里，总要有梅花的秉性才好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1026"/>
          <p:cNvSpPr/>
          <p:nvPr/>
        </p:nvSpPr>
        <p:spPr>
          <a:xfrm>
            <a:off x="181080" y="336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这梅花，是我们中国最有名的花。旁的花，大抵是春暖才开花。她却不一样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愈是寒冷，愈是风欺雪压，花开得愈精神、愈秀气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她是最有品格、有灵魂、有骨气的呢！几千年来，我们中华民族出了许多有气节的人物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他们不管历尽多少磨难、受到怎样的欺凌，从来都是顶天立地，不肯低头折节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他们就像这梅花一样。一个中国人，无论在怎样的境遇里，总要有梅花的秉性才好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1026"/>
          <p:cNvSpPr/>
          <p:nvPr/>
        </p:nvSpPr>
        <p:spPr>
          <a:xfrm>
            <a:off x="181080" y="336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这梅花，是我们中国最有名的花。旁的花，大抵是春暖才开花。她却不一样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愈是寒冷，愈是风欺雪压，花开得愈精神、愈秀气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她是最有品格、有灵魂、有骨气的呢！几千年来，我们中华民族出了许多有气节的人物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他们不管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历尽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多少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磨难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、受到怎样的欺凌，从来都是顶天立地，不肯低头折节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他们就像这梅花一样。一个中国人，无论在怎样的境遇里，总要有梅花的秉性才好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" descr="guohua1"/>
          <p:cNvPicPr/>
          <p:nvPr/>
        </p:nvPicPr>
        <p:blipFill>
          <a:blip r:embed="rId1"/>
          <a:stretch/>
        </p:blipFill>
        <p:spPr>
          <a:xfrm>
            <a:off x="4859280" y="333360"/>
            <a:ext cx="3733920" cy="61722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5"/>
          <p:cNvSpPr/>
          <p:nvPr/>
        </p:nvSpPr>
        <p:spPr>
          <a:xfrm>
            <a:off x="-113040" y="692280"/>
            <a:ext cx="39009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受尽屈辱十九年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爱国之心永不变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6"/>
          <p:cNvPicPr/>
          <p:nvPr/>
        </p:nvPicPr>
        <p:blipFill>
          <a:blip r:embed="rId1"/>
          <a:stretch/>
        </p:blipFill>
        <p:spPr>
          <a:xfrm>
            <a:off x="1143000" y="228600"/>
            <a:ext cx="3844800" cy="640080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3"/>
          <p:cNvSpPr/>
          <p:nvPr/>
        </p:nvSpPr>
        <p:spPr>
          <a:xfrm>
            <a:off x="4350960" y="836640"/>
            <a:ext cx="3900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生自古谁无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留取丹心照汗青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zhuziqing"/>
          <p:cNvPicPr/>
          <p:nvPr/>
        </p:nvPicPr>
        <p:blipFill>
          <a:blip r:embed="rId1"/>
          <a:srcRect l="1606" t="4444" r="4189" b="3344"/>
          <a:stretch/>
        </p:blipFill>
        <p:spPr>
          <a:xfrm>
            <a:off x="990720" y="304920"/>
            <a:ext cx="4214520" cy="617220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3"/>
          <p:cNvSpPr/>
          <p:nvPr/>
        </p:nvSpPr>
        <p:spPr>
          <a:xfrm>
            <a:off x="7105680" y="533520"/>
            <a:ext cx="1003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宁肯饿死，也不吃美国的面粉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08021"/>
          <p:cNvPicPr/>
          <p:nvPr/>
        </p:nvPicPr>
        <p:blipFill>
          <a:blip r:embed="rId1"/>
          <a:stretch/>
        </p:blipFill>
        <p:spPr>
          <a:xfrm>
            <a:off x="1295280" y="228600"/>
            <a:ext cx="4102200" cy="563868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3"/>
          <p:cNvSpPr/>
          <p:nvPr/>
        </p:nvSpPr>
        <p:spPr>
          <a:xfrm>
            <a:off x="1447920" y="59436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抗日英雄赵一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4833720" y="533520"/>
            <a:ext cx="34722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刑拷打何所惧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民族气节显忠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1026" descr="yanjiyu"/>
          <p:cNvPicPr/>
          <p:nvPr/>
        </p:nvPicPr>
        <p:blipFill>
          <a:blip r:embed="rId1"/>
          <a:srcRect l="2448" t="0" r="4470" b="0"/>
          <a:stretch/>
        </p:blipFill>
        <p:spPr>
          <a:xfrm>
            <a:off x="1187280" y="549360"/>
            <a:ext cx="4268880" cy="593244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1027"/>
          <p:cNvSpPr/>
          <p:nvPr/>
        </p:nvSpPr>
        <p:spPr>
          <a:xfrm>
            <a:off x="5885280" y="457200"/>
            <a:ext cx="26492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侵略者面前低头，就不配做中国人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1028"/>
          <p:cNvSpPr/>
          <p:nvPr/>
        </p:nvSpPr>
        <p:spPr>
          <a:xfrm>
            <a:off x="3276720" y="54864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黑体"/>
              </a:rPr>
              <a:t>杨靖宇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m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老人像"/>
          <p:cNvPicPr/>
          <p:nvPr/>
        </p:nvPicPr>
        <p:blipFill>
          <a:blip r:embed="rId2"/>
          <a:stretch/>
        </p:blipFill>
        <p:spPr>
          <a:xfrm>
            <a:off x="-36360" y="2050920"/>
            <a:ext cx="6048360" cy="480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1026" descr="zhuziqing"/>
          <p:cNvPicPr/>
          <p:nvPr/>
        </p:nvPicPr>
        <p:blipFill>
          <a:blip r:embed="rId1"/>
          <a:srcRect l="1606" t="4444" r="4189" b="3344"/>
          <a:stretch/>
        </p:blipFill>
        <p:spPr>
          <a:xfrm>
            <a:off x="990720" y="304920"/>
            <a:ext cx="4214520" cy="617220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1027"/>
          <p:cNvSpPr/>
          <p:nvPr/>
        </p:nvSpPr>
        <p:spPr>
          <a:xfrm>
            <a:off x="539640" y="4653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1028"/>
          <p:cNvSpPr/>
          <p:nvPr/>
        </p:nvSpPr>
        <p:spPr>
          <a:xfrm>
            <a:off x="7105680" y="533520"/>
            <a:ext cx="1003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宁肯饿死，也不吃美国的面粉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1029"/>
          <p:cNvSpPr/>
          <p:nvPr/>
        </p:nvSpPr>
        <p:spPr>
          <a:xfrm>
            <a:off x="2438280" y="5562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黑体"/>
              </a:rPr>
              <a:t>朱自清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u=2958993258,565334363&amp;gp=20"/>
          <p:cNvPicPr/>
          <p:nvPr/>
        </p:nvPicPr>
        <p:blipFill>
          <a:blip r:embed="rId1"/>
          <a:stretch/>
        </p:blipFill>
        <p:spPr>
          <a:xfrm>
            <a:off x="4807080" y="609480"/>
            <a:ext cx="3254400" cy="55627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3"/>
          <p:cNvSpPr/>
          <p:nvPr/>
        </p:nvSpPr>
        <p:spPr>
          <a:xfrm>
            <a:off x="2763720" y="380880"/>
            <a:ext cx="9115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竹签子是竹子做的，但是共产党员的意志是钢铁铸成的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81080" y="336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这梅花，是我们中国最有名的花。旁的花，大抵是春暖才开花。她却不一样，愈是寒冷，愈是风欺雪压，花开得愈精神、愈秀气。她是最有品格、有灵魂、有骨气的呢！几千年来，我们中华民族出了许多有气节的人物，他们不管历尽多少磨难、受到怎样的欺凌，从来都是顶天立地，不肯低头折节。他们就像这梅花一样。一个中国人，无论在怎样的境遇里，总要有梅花的秉性才好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0" y="11253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因为梅花愈是寒冷，愈是风欺雪压，花开得愈精神的品格，正是我们（              ）的精神。在外公心中，梅花就是（          ）象征。祖国是不容轻视的。所以说梅花是清白的，不能玷污的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1042920" y="2492280"/>
            <a:ext cx="259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3300"/>
                </a:solidFill>
                <a:latin typeface="Arial"/>
              </a:rPr>
              <a:t>中华民族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3780000" y="3213000"/>
            <a:ext cx="237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ff3300"/>
                </a:solidFill>
                <a:latin typeface="Arial"/>
              </a:rPr>
              <a:t>祖国的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0" y="333360"/>
            <a:ext cx="9144000" cy="45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孩子要管教好，这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清白的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梅花，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是能玷污的吗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324000" y="620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684360" y="0"/>
            <a:ext cx="792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我铭记外祖父的嘱托回到了祖国。我在祖国上完了大学，不幸赶上十年浩劫。由于有海外关系而受到歧视，把我从东海之滨的厦门发配到太行山，当教师、当农民，政治上、生活上历尽艰辛困苦。海外的亲友再三劝我出国，但外祖父的墨梅、外祖父关于墨梅品质的谆谆教诲，伴我走过青年时代万苦千辛的人生旅程，在祖国最危难的岁月，我与祖国母亲同在！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755640" y="3429000"/>
            <a:ext cx="7848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粉碎四人帮后，我迎来了人生的第二个春天，先后出版了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部著作，计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多万字，文章在国内外近百次获奖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梅花魂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一文被选入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种文选和海内外大、中、小学课本，我用梅花的坚贞鞭策我对祖国的忠诚，我以梅花的气节激励我前行的勇气，从而完成了外祖父对我的殷殷嘱托，也身体力行的体味了梅魂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赤子之魂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国魂的深刻内涵。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梅花魂2"/>
          <p:cNvPicPr/>
          <p:nvPr/>
        </p:nvPicPr>
        <p:blipFill>
          <a:blip r:embed="rId1"/>
          <a:stretch/>
        </p:blipFill>
        <p:spPr>
          <a:xfrm>
            <a:off x="250920" y="2708280"/>
            <a:ext cx="2736720" cy="395928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3"/>
          <p:cNvSpPr/>
          <p:nvPr/>
        </p:nvSpPr>
        <p:spPr>
          <a:xfrm>
            <a:off x="250920" y="333360"/>
            <a:ext cx="432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　　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联系全文想一想：外公那样爱惜墨梅图，我回国的时候为什么把它送给我？还送给我梅花手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3276720" y="2708280"/>
            <a:ext cx="56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在外公的眼里，梅花不仅仅是梅花，而且是祖国的象征。梅花的精神就是中华民族的精神，爱梅花就是爱祖国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送我墨梅图，是想让我把他对祖国的爱带回祖国，也希望我做一个有梅花气节的顶天立地的中国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{DFAE4840-CB6F-4EC8-A249-16F7FD600AE4}"/>
          <p:cNvPicPr/>
          <p:nvPr/>
        </p:nvPicPr>
        <p:blipFill>
          <a:blip r:embed="rId1"/>
          <a:stretch/>
        </p:blipFill>
        <p:spPr>
          <a:xfrm>
            <a:off x="250920" y="2276640"/>
            <a:ext cx="2496960" cy="374472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3"/>
          <p:cNvSpPr/>
          <p:nvPr/>
        </p:nvSpPr>
        <p:spPr>
          <a:xfrm>
            <a:off x="684360" y="549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梅花魂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的“魂”指的是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3059280" y="1484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梅花的精神是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2987640" y="242100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课文以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梅花魂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为题有什么深刻含义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2843280" y="4005360"/>
            <a:ext cx="60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梅花的精神就是中华民族的精神。祖父赞美梅花就是赞美中国人民，热爱梅花，就是热爱祖国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3" descr="userid183354time20090302104426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77" name="WordArt 4"/>
          <p:cNvSpPr txBox="1"/>
          <p:nvPr/>
        </p:nvSpPr>
        <p:spPr>
          <a:xfrm>
            <a:off x="324000" y="260280"/>
            <a:ext cx="23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c0c0"/>
                </a:solidFill>
                <a:latin typeface="华文新魏"/>
              </a:rPr>
              <a:t>写作特点</a:t>
            </a:r>
            <a:endParaRPr b="0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c0c0c0"/>
              </a:solidFill>
              <a:latin typeface="华文新魏"/>
              <a:ea typeface="华文新魏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250920" y="1125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把课文的开头和结尾连起来读一读，想一想它们有什么联系？说说这样写有什么好处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2555640" y="4220640"/>
            <a:ext cx="63356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本文开头和结尾相照，首尾呼应，更加突出了身在异国的华侨老人思念祖国、热爱祖国的思想感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5" descr="mhzl_83u432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81" name="WordArt 6"/>
          <p:cNvSpPr txBox="1"/>
          <p:nvPr/>
        </p:nvSpPr>
        <p:spPr>
          <a:xfrm>
            <a:off x="250920" y="260280"/>
            <a:ext cx="208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c0c0"/>
                </a:solidFill>
                <a:latin typeface="华文新魏"/>
              </a:rPr>
              <a:t>总结全文</a:t>
            </a:r>
            <a:endParaRPr b="0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c0c0c0"/>
              </a:solidFill>
              <a:latin typeface="华文新魏"/>
              <a:ea typeface="华文新魏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497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外祖父把梅花作为什么的象征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中华民族的精神就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395280" y="177012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作为中华民族精神的象征。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468360" y="3141720"/>
            <a:ext cx="8064360" cy="1323000"/>
          </a:xfrm>
          <a:prstGeom prst="rect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就是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有品格、有灵魂、有骨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管历尽多少磨难，受到怎样的欺凌，从来都是顶天立地，不肯低头折节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179280" y="33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自读提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748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自由读课文，把课文读通读顺，注意读准下面的生字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朵朵冷艳　缕缕幽芳　漂泊他乡　葬身异国　颇负盛名　能书善画　风欺雪压　顶天立地　低头折节　玷污　稀罕　大抵　秉性　眷恋　欺凌　境遇　毕竟　所谓　梳理　衰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想一想，课文关于外祖你的哪几件事？从这几件事中你能够感受到什么？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5" descr="51c614ab027393e0ca130cc2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6" name="WordArt 6"/>
          <p:cNvSpPr txBox="1"/>
          <p:nvPr/>
        </p:nvSpPr>
        <p:spPr>
          <a:xfrm>
            <a:off x="250920" y="189000"/>
            <a:ext cx="208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0c0c0"/>
                </a:solidFill>
                <a:latin typeface="华文新魏"/>
              </a:rPr>
              <a:t>朗读指导</a:t>
            </a:r>
            <a:endParaRPr b="0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c0c0c0"/>
              </a:solidFill>
              <a:latin typeface="华文新魏"/>
              <a:ea typeface="华文新魏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3203640" y="41497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自然段从开头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我读唐诗宋词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读得应轻快一些。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当读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到这一段结束，读得应低缓一些。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自然段点明了外祖父珍爱梅花的原因，在朗读时，语气要坚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3" descr="mhzl_83u43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7"/>
          <p:cNvSpPr/>
          <p:nvPr/>
        </p:nvSpPr>
        <p:spPr>
          <a:xfrm>
            <a:off x="1042920" y="331920"/>
            <a:ext cx="6408720" cy="627732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　　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乡　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　　　　（台湾）余光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侯  乡愁是一枚小小的邮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在这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母亲在那头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长大后  乡愁是一张窄窄的船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在这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新娘在那头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后来呵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乡愁是一方矮矮的坟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在外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母亲呵在里头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现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乡愁是一湾浅浅的海峡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在这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大陆在那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8"/>
          <p:cNvSpPr/>
          <p:nvPr/>
        </p:nvSpPr>
        <p:spPr>
          <a:xfrm>
            <a:off x="324000" y="33336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拓展阅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梅花魂2"/>
          <p:cNvPicPr/>
          <p:nvPr/>
        </p:nvPicPr>
        <p:blipFill>
          <a:blip r:embed="rId1"/>
          <a:stretch/>
        </p:blipFill>
        <p:spPr>
          <a:xfrm>
            <a:off x="179280" y="333360"/>
            <a:ext cx="4051440" cy="63374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3"/>
          <p:cNvSpPr/>
          <p:nvPr/>
        </p:nvSpPr>
        <p:spPr>
          <a:xfrm>
            <a:off x="4500720" y="1557360"/>
            <a:ext cx="4321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☆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教我读唐诗宋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☆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爱惜墨梅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☆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因为不能回国而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☆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临别送我墨梅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☆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送我梅花手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4" descr="mhzl_83u4322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5"/>
          <p:cNvSpPr/>
          <p:nvPr/>
        </p:nvSpPr>
        <p:spPr>
          <a:xfrm>
            <a:off x="324000" y="549360"/>
            <a:ext cx="856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　　在作者幼小的心灵中，外祖父的言行使她产生了许许多多的疑问。你能从文中找出她的疑问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3378825620435175792"/>
          <p:cNvPicPr/>
          <p:nvPr/>
        </p:nvPicPr>
        <p:blipFill>
          <a:blip r:embed="rId1"/>
          <a:stretch/>
        </p:blipFill>
        <p:spPr>
          <a:xfrm>
            <a:off x="108000" y="154080"/>
            <a:ext cx="8928000" cy="664056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3"/>
          <p:cNvSpPr/>
          <p:nvPr/>
        </p:nvSpPr>
        <p:spPr>
          <a:xfrm>
            <a:off x="179280" y="476280"/>
            <a:ext cx="36007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独在异乡为异客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每逢佳节倍思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177840" y="2997360"/>
            <a:ext cx="28098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春草明年绿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王孙归不归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179280" y="4724280"/>
            <a:ext cx="352764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自在飞花轻似梦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无边丝雨细如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324000" y="18464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唐代王维的诗，意思是我独自一个人在外地，每到过年的时候格外思念故乡的 亲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3203640" y="3130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方正大黑简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大黑简体"/>
              </a:rPr>
              <a:t>也是王维的诗，意思是明年春天绿草如茵的时候，您回不回来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3492360" y="45212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北宋词人秦观的词，意思是</a:t>
            </a:r>
            <a:r>
              <a:rPr b="0" lang="en-US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在空中随风飞舞的落花，轻得好像夜里的梦；满天无边无际落着的雨丝，细得好像心里的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3872160" y="3135240"/>
            <a:ext cx="304200" cy="276480"/>
          </a:xfrm>
          <a:prstGeom prst="rect">
            <a:avLst/>
          </a:prstGeom>
          <a:solidFill>
            <a:srgbClr val="ff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Picture 3" descr="gu13"/>
          <p:cNvPicPr/>
          <p:nvPr/>
        </p:nvPicPr>
        <p:blipFill>
          <a:blip r:embed="rId1"/>
          <a:stretch/>
        </p:blipFill>
        <p:spPr>
          <a:xfrm>
            <a:off x="324000" y="692280"/>
            <a:ext cx="3141360" cy="45370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"/>
          <p:cNvSpPr/>
          <p:nvPr/>
        </p:nvSpPr>
        <p:spPr>
          <a:xfrm>
            <a:off x="549360" y="3135240"/>
            <a:ext cx="6950160" cy="360"/>
          </a:xfrm>
          <a:prstGeom prst="rect">
            <a:avLst/>
          </a:prstGeom>
          <a:solidFill>
            <a:srgbClr val="ff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3527280" y="620640"/>
          <a:ext cx="5437080" cy="4537080"/>
        </p:xfrm>
        <a:graphic>
          <a:graphicData uri="http://schemas.openxmlformats.org/drawingml/2006/table">
            <a:tbl>
              <a:tblPr/>
              <a:tblGrid>
                <a:gridCol w="5437080"/>
              </a:tblGrid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静夜思</a:t>
                      </a:r>
                      <a:br>
                        <a:rPr sz="3500"/>
                      </a:br>
                      <a:r>
                        <a:rPr b="1" lang="zh-CN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唐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1" lang="zh-CN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李白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21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4859280" y="1628640"/>
          <a:ext cx="3203640" cy="3960720"/>
        </p:xfrm>
        <a:graphic>
          <a:graphicData uri="http://schemas.openxmlformats.org/drawingml/2006/table">
            <a:tbl>
              <a:tblPr/>
              <a:tblGrid>
                <a:gridCol w="3203640"/>
              </a:tblGrid>
              <a:tr h="8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床前明月光，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81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疑是地上霜。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8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举头望明月，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51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3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低头思故乡。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596" name="gsls.MP3" descr=""/>
          <p:cNvPicPr/>
          <p:nvPr/>
        </p:nvPicPr>
        <p:blipFill>
          <a:blip r:embed="rId8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http://rghqxx.sdedu.net/gushixinshang/68.jpeg"/>
          <p:cNvPicPr/>
          <p:nvPr/>
        </p:nvPicPr>
        <p:blipFill>
          <a:blip r:embed="rId1"/>
          <a:stretch/>
        </p:blipFill>
        <p:spPr>
          <a:xfrm>
            <a:off x="0" y="692280"/>
            <a:ext cx="3780000" cy="547344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3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4284720" y="551160"/>
            <a:ext cx="4319280" cy="4535280"/>
            <a:chOff x="4284720" y="551160"/>
            <a:chExt cx="4319280" cy="4535280"/>
          </a:xfrm>
        </p:grpSpPr>
        <p:sp>
          <p:nvSpPr>
            <p:cNvPr id="600" name="Rectangle 5"/>
            <p:cNvSpPr/>
            <p:nvPr/>
          </p:nvSpPr>
          <p:spPr>
            <a:xfrm>
              <a:off x="4284720" y="551160"/>
              <a:ext cx="4319280" cy="22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ffff"/>
                  </a:solidFill>
                  <a:latin typeface="Arial"/>
                </a:rPr>
                <a:t>九月九日忆山东兄弟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ffff"/>
                  </a:solidFill>
                  <a:latin typeface="Arial"/>
                </a:rPr>
                <a:t>王维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Text Box 6"/>
            <p:cNvSpPr/>
            <p:nvPr/>
          </p:nvSpPr>
          <p:spPr>
            <a:xfrm>
              <a:off x="4506840" y="1787400"/>
              <a:ext cx="3925800" cy="14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ffff"/>
                  </a:solidFill>
                  <a:latin typeface="Arial"/>
                </a:rPr>
                <a:t>独在异乡为异客，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Text Box 7"/>
            <p:cNvSpPr/>
            <p:nvPr/>
          </p:nvSpPr>
          <p:spPr>
            <a:xfrm>
              <a:off x="4582080" y="2658960"/>
              <a:ext cx="38505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ffff"/>
                  </a:solidFill>
                  <a:latin typeface="Arial"/>
                </a:rPr>
                <a:t>每逢佳节倍思亲。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Rectangle 8"/>
            <p:cNvSpPr/>
            <p:nvPr/>
          </p:nvSpPr>
          <p:spPr>
            <a:xfrm>
              <a:off x="5304240" y="3595320"/>
              <a:ext cx="23144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ffff"/>
                  </a:solidFill>
                  <a:latin typeface="Arial"/>
                </a:rPr>
                <a:t>遥知兄弟登高处，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Rectangle 9"/>
            <p:cNvSpPr/>
            <p:nvPr/>
          </p:nvSpPr>
          <p:spPr>
            <a:xfrm>
              <a:off x="5931360" y="4458960"/>
              <a:ext cx="10602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ffff"/>
                  </a:solidFill>
                  <a:latin typeface="Arial"/>
                </a:rPr>
                <a:t>遍插茱萸少一人。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2:14:10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9-24T07:47:39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