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5F72-4A74-4AA7-A97F-52060430C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3440" y="274680"/>
            <a:ext cx="73548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3440" y="1268280"/>
            <a:ext cx="7354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3440" y="3805920"/>
            <a:ext cx="7354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6869-528E-4129-86F3-1377519B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3440" y="274680"/>
            <a:ext cx="73548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3440" y="1268280"/>
            <a:ext cx="35888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2280" y="1268280"/>
            <a:ext cx="35888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3440" y="3805920"/>
            <a:ext cx="35888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2280" y="3805920"/>
            <a:ext cx="35888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7B5D-8FD5-420B-A14C-757278428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3440" y="274680"/>
            <a:ext cx="73548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3440" y="1268280"/>
            <a:ext cx="23680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0320" y="1268280"/>
            <a:ext cx="23680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7200" y="1268280"/>
            <a:ext cx="23680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3440" y="3805920"/>
            <a:ext cx="23680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0320" y="3805920"/>
            <a:ext cx="23680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7200" y="3805920"/>
            <a:ext cx="23680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60DA-C747-4795-8DF3-C23983314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D6D8-7BAF-4ABA-9A0F-269A53157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3440" y="274680"/>
            <a:ext cx="73548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3440" y="1268280"/>
            <a:ext cx="73548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75DB-76F1-4CEE-BCEA-6999F39A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3440" y="274680"/>
            <a:ext cx="73548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3440" y="1268280"/>
            <a:ext cx="7354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09D8-9331-4FCD-9656-73AA89B0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3440" y="274680"/>
            <a:ext cx="73548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3440" y="1268280"/>
            <a:ext cx="35888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2280" y="1268280"/>
            <a:ext cx="35888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795F-A363-4FFE-9B88-C208F0B1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3440" y="274680"/>
            <a:ext cx="73548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876E-8A4E-4DC1-BB40-A502B63E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3440" y="274680"/>
            <a:ext cx="73548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24A8B-742F-4031-94D4-A7447E43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3440" y="274680"/>
            <a:ext cx="73548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3440" y="1268280"/>
            <a:ext cx="35888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2280" y="1268280"/>
            <a:ext cx="35888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3440" y="3805920"/>
            <a:ext cx="35888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356C9-20F2-47C9-84A4-CCE1318D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3440" y="274680"/>
            <a:ext cx="73548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3440" y="1268280"/>
            <a:ext cx="73548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F8F0-104F-4198-9086-23BDD043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3440" y="274680"/>
            <a:ext cx="73548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3440" y="1268280"/>
            <a:ext cx="35888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2280" y="1268280"/>
            <a:ext cx="35888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2280" y="3805920"/>
            <a:ext cx="35888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E39D6-B916-46CD-9777-0CF88AE7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3440" y="274680"/>
            <a:ext cx="73548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3440" y="1268280"/>
            <a:ext cx="35888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2280" y="1268280"/>
            <a:ext cx="35888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3440" y="3805920"/>
            <a:ext cx="7354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1EB85-1BA7-496B-B6EC-48AB4DD6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3440" y="274680"/>
            <a:ext cx="73548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3440" y="1268280"/>
            <a:ext cx="7354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3440" y="3805920"/>
            <a:ext cx="7354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EBB9-64C5-4873-8DAB-B565251D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3440" y="274680"/>
            <a:ext cx="73548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3440" y="1268280"/>
            <a:ext cx="35888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2280" y="1268280"/>
            <a:ext cx="35888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3440" y="3805920"/>
            <a:ext cx="35888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2280" y="3805920"/>
            <a:ext cx="35888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A58A-41EB-44DA-9467-A3E27B384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3440" y="274680"/>
            <a:ext cx="73548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3440" y="1268280"/>
            <a:ext cx="23680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20320" y="1268280"/>
            <a:ext cx="23680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7200" y="1268280"/>
            <a:ext cx="23680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3440" y="3805920"/>
            <a:ext cx="23680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20320" y="3805920"/>
            <a:ext cx="23680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7200" y="3805920"/>
            <a:ext cx="23680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70377-61BA-426F-93A7-B386366C6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3440" y="274680"/>
            <a:ext cx="73548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3440" y="1268280"/>
            <a:ext cx="7354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AF22-7B6E-4C65-9B12-3FCC794C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3440" y="274680"/>
            <a:ext cx="73548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3440" y="1268280"/>
            <a:ext cx="35888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2280" y="1268280"/>
            <a:ext cx="35888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2EB2-FA47-4653-9EBD-2949F7E0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3440" y="274680"/>
            <a:ext cx="73548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4BA1-8320-41E4-BD71-44C10B68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3440" y="274680"/>
            <a:ext cx="73548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4805-CD3F-4C90-A348-79BF289A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3440" y="274680"/>
            <a:ext cx="73548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3440" y="1268280"/>
            <a:ext cx="35888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2280" y="1268280"/>
            <a:ext cx="35888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3440" y="3805920"/>
            <a:ext cx="35888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8A04-1970-4181-AD21-236B54BB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3440" y="274680"/>
            <a:ext cx="73548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3440" y="1268280"/>
            <a:ext cx="35888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2280" y="1268280"/>
            <a:ext cx="35888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2280" y="3805920"/>
            <a:ext cx="35888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3BAC-2696-4595-8973-0571BBCB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3440" y="274680"/>
            <a:ext cx="73548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3440" y="1268280"/>
            <a:ext cx="35888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2280" y="1268280"/>
            <a:ext cx="35888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3440" y="3805920"/>
            <a:ext cx="7354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F704-4182-4266-9355-5E3E9E9C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1549-4555-4BEC-B288-1692EF2D80B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333440" y="274680"/>
            <a:ext cx="73548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333440" y="1268280"/>
            <a:ext cx="7354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7F5E-9204-4BE7-9B2B-4BD78DA5215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566640" y="2530080"/>
            <a:ext cx="66312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3440" y="274680"/>
            <a:ext cx="73548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西西里的美丽传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47640" y="2276640"/>
            <a:ext cx="631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届奥斯卡金像奖 最佳摄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提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届奥斯卡金像奖 最佳原创配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提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33440" y="274680"/>
            <a:ext cx="73548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二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33440" y="1268280"/>
            <a:ext cx="7354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了解一个影片首先要了解影片背后的历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马连娜的命运和墨索里尼的政权兴衰的隐秘的关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33440" y="274680"/>
            <a:ext cx="73548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第一阶段：墨索里尼得势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lèn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锋芒初现，众人敬畏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33440" y="1268280"/>
            <a:ext cx="7354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　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lèn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美很富有侵略性，足以让西西里岛的每个女人心存危机感。没有浓妆艳抹，没有搔首弄姿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lèn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简单的“行走”便足掀起一波波惊艳的涟漪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lèn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美具有征服性，西西里的每个男人都愿向她俯首称臣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lèn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美可望而不可及。只有真正强大的男人才配拥有这个女人。——至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nat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这么认为的。所以他渴望成长，渴望变强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rnator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通过重现英雄美女型的老电影桥段来展示这种欲望。这些富有创意的剪辑与《天堂电影院》结尾的经典“吻戏”相比，真是有过之而无不及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33440" y="274680"/>
            <a:ext cx="73548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第二阶段：二战中期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lèn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一线失守，众人献媚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33440" y="1268280"/>
            <a:ext cx="7354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前线传来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alèn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丈夫阵亡的噩耗，让西西里的所有男人一夜间都变成了机会主义者。碍于英雄遗孀的面子，西西里的女人们克制着自己与日俱增的嫉恨。而这，还只是一切恶化的开始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33440" y="274680"/>
            <a:ext cx="73548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第三阶段：二战晚期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lèn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二线失守，众人落井下石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33440" y="1268280"/>
            <a:ext cx="7354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父亲的死亡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lèn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遭受的第二大打击。葬礼上，男人们各怀鬼胎的拥吻使她麻木。两个精神支柱已垮，男人的垂涎与女人的诋毁都日益升级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lèn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西西里的地位就如同墨索里尼的政权摇摇欲坠。西西里的女人们很愚蠢，她们在配给问题上处处排挤和刁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lèn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实则为丈夫们“包养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lèn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提供了最大的契机。 　　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此时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lèn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已甘为破鞋，她剪掉长发，正式步入风尘，让我颇为敬佩。至少，她活得很有尊严，不为乞讨一些食物沦为某几个男人的私人二奶；而是将“卖”当作一种自力更生职业。她风姿卓越地与德国军人为伍，让那些曾经打着行善旗号泡她的男人迅速地萎掉，并把女人们充满嫉妒的幻想变成现实：现在，她们的丈夫只需要花点钱就能名正言顺地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lèn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上床了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33440" y="274680"/>
            <a:ext cx="73548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第四阶段：墨索里尼倒台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lèn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惨遭批斗，群魔乱舞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33440" y="1268280"/>
            <a:ext cx="7354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很有文革味道的一场戏，西西里的女人们终于可以发泄多年来的嫉恨了。战争夺走男人的生命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alèn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夺走男人的魂魄，相比之下，前者至少能带来一些荣耀，而后者只能反衬自身的平庸。所以，西西里豺狼般的女人们哦，比憎恨墨索里尼还要多一百倍地来憎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alèn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法西斯要被消灭，比法西斯更蛊惑人心的女人更当千刀万剐！年轻的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enat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站在人群中，惊慌失措地旁观。结尾处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enat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自白：永远不会忘记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alèn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我想，很大的成分在于忏悔，忏悔自己当时的懦弱，忏悔自己其实和西西里的其他禽兽男人没有区别，忏悔自己在那一天彻底丧失了爱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alèn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资格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33440" y="274680"/>
            <a:ext cx="73548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第五阶段：战后重建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lèn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低调归来，众人谈笑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33440" y="1268280"/>
            <a:ext cx="7354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被驱逐的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alèn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回到了西西里。依旧不卑不亢，没有刻意地敛藏锋芒，却已黯然许多。西西里的女人们带着一种骄傲欣赏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alèn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仿佛欣赏自己的一件杰作。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alèn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一句主动问安，化尽干戈，女人们殷勤地接纳这位改头换面的新成员。那谈笑风生的景象让我不禁想起《芙蓉镇》文革后村民们又欢聚一堂吃米豆腐的情景。血和泪都隐入历史的浓雾，施暴者选择忘却，受害者假装忘记。 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美和法西斯几乎是善与恶的两个极端，但西西里岛的人民对待它们的态度却又是如此相近，人性的灰暗在两极的游走变幻间暴露无疑。当周围的人都疯了时，个别清醒者充其量也只能是一个无奈的旁观者，就像小男孩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enat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样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33440" y="274680"/>
            <a:ext cx="73548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和战争相关的影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33440" y="1268280"/>
            <a:ext cx="7354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普通的故事放在一个不普通的背景下就变得神圣了许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33440" y="274680"/>
            <a:ext cx="73548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卡萨布兰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547640" y="1341360"/>
            <a:ext cx="4370400" cy="48578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33440" y="274680"/>
            <a:ext cx="73548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魂断蓝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476360" y="1486080"/>
            <a:ext cx="4010040" cy="48574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33440" y="274680"/>
            <a:ext cx="73548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广岛之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476360" y="2060640"/>
            <a:ext cx="4762440" cy="3581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33440" y="274680"/>
            <a:ext cx="73548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导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476360" y="1701720"/>
            <a:ext cx="2157480" cy="3056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788000" y="1701720"/>
            <a:ext cx="3460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朱塞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托纳多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托纳多雷三部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堂电影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海上钢琴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西西里的美丽传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33440" y="274680"/>
            <a:ext cx="73548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雁南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547640" y="1989000"/>
            <a:ext cx="4724640" cy="3591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33440" y="274680"/>
            <a:ext cx="73548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黄河绝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638440" y="2254320"/>
            <a:ext cx="4743360" cy="28861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33440" y="274680"/>
            <a:ext cx="73548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赎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373560" y="1268280"/>
            <a:ext cx="3274920" cy="48578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33440" y="274680"/>
            <a:ext cx="73548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珍珠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633760" y="2106720"/>
            <a:ext cx="4752720" cy="31813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33440" y="274680"/>
            <a:ext cx="73548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布达佩斯之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643120" y="1982880"/>
            <a:ext cx="473400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33440" y="274680"/>
            <a:ext cx="73548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505240" y="1468440"/>
            <a:ext cx="5010120" cy="44575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33440" y="274680"/>
            <a:ext cx="73548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33440" y="1268280"/>
            <a:ext cx="7354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《红楼梦》中唱妙玉的曲子《世难容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气质美如兰，才华复比仙。天生成孤癖人皆罕。你道是唆肉食腥膻，视绮罗俗厌。却不知太高人愈妒，过洁世同嫌。可叹这，青灯古殿人将老；辜了，红粉朱楼春色阑。到头来，依旧是风尘肮脏违心愿。好一似，无瑕白玉遭泥陷；又何须，王孙公子叹无缘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马莲娜与我们中国妙玉的命运异曲同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古今中外，这个唱词成了不争的事实，无端的嫉妒扼杀了多少英才，甚至学者与学者之间的互相倾轧，最叫人心痛的活生生的例子：可惜沈括能写出《梦溪笔谈》这样的海纳百川传世著作，却不能容忍好友苏轼受到当朝皇帝的重用，一代文豪没有败在与王安石变法的博弈中，却因好友拿出自己赠与其象征着友谊的诗歌作为罪证，为又一个文字狱所累，一贬再贬，叫人无不扼腕叹息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33440" y="274680"/>
            <a:ext cx="73548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33440" y="1268280"/>
            <a:ext cx="7354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众口铄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积毁销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乌合之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33440" y="274680"/>
            <a:ext cx="73548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33440" y="1268280"/>
            <a:ext cx="7354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33440" y="274680"/>
            <a:ext cx="73548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33440" y="1268280"/>
            <a:ext cx="7354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33440" y="274680"/>
            <a:ext cx="73548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主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33080" y="1268280"/>
            <a:ext cx="36082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莫妮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贝鲁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403280" y="2205000"/>
            <a:ext cx="2952720" cy="3824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194440" y="1601640"/>
            <a:ext cx="319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意大利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黑客帝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惊情四百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被称为意大利首席性感偶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33440" y="274680"/>
            <a:ext cx="73548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33440" y="1268280"/>
            <a:ext cx="7354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424160" y="1268280"/>
            <a:ext cx="3427200" cy="48578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33440" y="274680"/>
            <a:ext cx="73548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076720" y="1270080"/>
            <a:ext cx="360864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33440" y="274680"/>
            <a:ext cx="73548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700360" y="1125360"/>
            <a:ext cx="4392720" cy="48578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33440" y="274680"/>
            <a:ext cx="73548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苏菲玛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47640" y="1125360"/>
            <a:ext cx="3862440" cy="4857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869080" y="1197000"/>
            <a:ext cx="287964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法国最漂亮的性感女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芳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初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云上的日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安娜卡列尼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33440" y="274680"/>
            <a:ext cx="73548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两千人选童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33440" y="1268280"/>
            <a:ext cx="7354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导演托纳多雷回到了西西里的老家，闭关猛写剧本，只花了三十三天，就将剧本写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走遍西西里超过六十个城镇，寻访故事中幻想的卡斯提库托镇，后来找到了席拉库萨镇，一个宁静、美丽、充满生命力的地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托纳多雷看过了近两千张童星照片，终于发掘了朱赛贝索法罗，年轻羞涩却又有难得一见的成熟，是他心目中雷纳多的不二人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导演的用意并不仅仅是描绘一个少年性意识萌醒的过程，更主要的是呈现人性的弱点，现实中的欲望与妒忌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405080" y="404640"/>
            <a:ext cx="73548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4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，整个世界都被笼罩在二战的硝烟之中，但西西里岛仍是一片宁和，这里正是男孩雷纳托的家乡。他和所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岁的孩子一样，天真、快乐、不安分，对生活充满幻想。终于有一天遇到了永远改变他生活的女人——梅琳娜。这位漂亮的寡妇令所有的男人着迷，也令所有的女人妒忌。因为她，男孩进入了一个生命的新天地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玛莲娜，她撩着波浪状黑亮的秀发，穿着最时髦的短裙和丝袜，踏着充满情欲诱惑的高跟鞋，来到了西西里岛上宁静的阳光小镇。她的一举一动都引人瞩目、勾人遐想，她的一颦一笑都教男人心醉、女人羡妒。玛莲娜，像个女神一般，征服了这个海滨的天堂乐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333080" y="333000"/>
            <a:ext cx="7356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被荷尔蒙淹没的少年，穿梭在小镇的各个角落，搜寻着玛莲娜的诱人丰姿与万种风情，还悄悄地成为她不知情的小跟班，如影随形地跟监、窥视她的生活。她摇曳的倩影、她聆听的音乐、她贴身的衣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战争让马连娜变成了寡妇，变成了祸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现实中，丈夫阵亡的消息传来，玛琳娜不得不卖身求生存。后来，丈夫回来了，少年希望能够帮他们破镜重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玛莲娜惊人的美丽，就如法庭上律师所说的：“她有什么罪过？她唯一的罪过就是太美丽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/>
  <dcterms:modified xsi:type="dcterms:W3CDTF">2014-11-03T13:27:3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