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E5BB-0749-4371-A71C-D0485470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42244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3717720"/>
            <a:ext cx="640080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4194000"/>
            <a:ext cx="640080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C664-0C23-417F-BC62-007C8511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42244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3717720"/>
            <a:ext cx="312336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1960" y="3717720"/>
            <a:ext cx="312336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4194000"/>
            <a:ext cx="312336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1960" y="4194000"/>
            <a:ext cx="312336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8BE1-3F82-4CF2-A0C9-9BF3EE61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42244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3717720"/>
            <a:ext cx="206064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5960" y="3717720"/>
            <a:ext cx="206064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60280" y="3717720"/>
            <a:ext cx="206064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4194000"/>
            <a:ext cx="206064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5960" y="4194000"/>
            <a:ext cx="206064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60280" y="4194000"/>
            <a:ext cx="206064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89DC-7CC3-49A7-B7AA-EA2D79BC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34FC-5745-45E5-AE8B-6BC9A4F2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42244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71772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802E-FED2-441C-8D81-044390F5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42244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371772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A240-B5C0-4B11-983F-6E8907A3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42244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0" y="3717720"/>
            <a:ext cx="31233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1960" y="3717720"/>
            <a:ext cx="31233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3D72-1782-46C0-9556-43EFD7F5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42244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5544-EF5A-404B-A513-1DEEDA0E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422440"/>
            <a:ext cx="7772400" cy="54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91BF-F4F3-4492-A0B9-E677887F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42244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32000" y="3717720"/>
            <a:ext cx="312336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1960" y="3717720"/>
            <a:ext cx="31233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32000" y="4194000"/>
            <a:ext cx="312336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F079-8F9C-40F1-9663-67A05D0A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42244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371772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C72D-19B5-46D3-862E-FE921839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42244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2000" y="3717720"/>
            <a:ext cx="31233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1960" y="3717720"/>
            <a:ext cx="312336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1960" y="4194000"/>
            <a:ext cx="312336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14E6-C54B-4C9D-8E55-E5F8BDC8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42244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2000" y="3717720"/>
            <a:ext cx="312336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1960" y="3717720"/>
            <a:ext cx="312336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32000" y="4194000"/>
            <a:ext cx="640080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ACF2-FC7B-4690-A92B-833B0C25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42244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3717720"/>
            <a:ext cx="640080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32000" y="4194000"/>
            <a:ext cx="640080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3714-BF91-472F-8024-8E49A114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42244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32000" y="3717720"/>
            <a:ext cx="312336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1960" y="3717720"/>
            <a:ext cx="312336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32000" y="4194000"/>
            <a:ext cx="312336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1960" y="4194000"/>
            <a:ext cx="312336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FDDA-4C59-457C-9B54-B02B4B9C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42244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32000" y="3717720"/>
            <a:ext cx="206064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95960" y="3717720"/>
            <a:ext cx="206064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60280" y="3717720"/>
            <a:ext cx="206064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32000" y="4194000"/>
            <a:ext cx="206064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95960" y="4194000"/>
            <a:ext cx="206064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60280" y="4194000"/>
            <a:ext cx="206064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CC3F-F387-4391-9890-5574BDE5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42244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371772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883E-F546-46C9-8FE7-F407C214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42244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3717720"/>
            <a:ext cx="31233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1960" y="3717720"/>
            <a:ext cx="31233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95A-4CD1-45A7-B65D-8F13CDB2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42244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D22E-6B67-415C-B7A8-50F26E24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422440"/>
            <a:ext cx="7772400" cy="546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622E-A8A4-4DA3-AB58-A2EB4B04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42244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3717720"/>
            <a:ext cx="312336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1960" y="3717720"/>
            <a:ext cx="31233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4194000"/>
            <a:ext cx="312336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63FF-BC54-4E11-A842-8C2D08A3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42244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3717720"/>
            <a:ext cx="31233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1960" y="3717720"/>
            <a:ext cx="312336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1960" y="4194000"/>
            <a:ext cx="312336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CA46-DA68-49C4-AA4D-674583D8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42244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3717720"/>
            <a:ext cx="312336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1960" y="3717720"/>
            <a:ext cx="312336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4194000"/>
            <a:ext cx="6400800" cy="4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1060-339C-4E8B-A929-8D089E2F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4B30-FE27-4275-A4D9-AFC5F25CB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42244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72BF-6DA9-402D-8C70-B72BDBDD2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314960" y="1809720"/>
            <a:ext cx="4829040" cy="5048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314960" y="1809720"/>
            <a:ext cx="4829040" cy="5048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116000" y="620640"/>
            <a:ext cx="1019160" cy="838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5788080" y="-1393920"/>
            <a:ext cx="2600280" cy="12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195640" y="-836640"/>
            <a:ext cx="1019160" cy="836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1403280" y="-530280"/>
            <a:ext cx="685800" cy="419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395280" y="2276640"/>
            <a:ext cx="5038560" cy="1361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98560" y="3371760"/>
            <a:ext cx="352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eam of freed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3994200"/>
            <a:ext cx="43927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自由在人间是一种不切实际的奢望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很小的时候我喜欢飞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可是我不会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但我依然向往那种在天空中没有任何东西触碰的感觉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连一根细线的接触都没有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只有风轻挠着自己的每一根神经发出“沙沙”声的快乐感觉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4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.0132 0.10903 C 0.00434 0.13264 -0.01024 0.15023 -0.02222 0.1706 C -0.02569 0.17616 -0.02829 0.18264 -0.03142 0.18912 C -0.03246 0.19121 -0.03472 0.19144 -0.03611 0.19306 C -0.04704 0.20602 -0.05659 0.21829 -0.0684 0.23009 C -0.08038 0.2419 -0.07899 0.24491 -0.09149 0.25463 C -0.09722 0.26505 -0.09895 0.26227 -0.10677 0.26898 C -0.11614 0.27709 -0.12482 0.28449 -0.13454 0.29167 C -0.16093 0.31111 -0.19704 0.32824 -0.22691 0.33681 C -0.23246 0.33843 -0.23836 0.33843 -0.24375 0.34051 C -0.26354 0.34954 -0.28454 0.35463 -0.30538 0.35509 C -0.32951 0.35556 -0.35347 0.35509 -0.3776 0.35509 E">
                                      <p:cBhvr>
                                        <p:cTn id="13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3.61111E-006 -4.44444E-006 C -0.0092 0.0169 -0.00017 -0.000920000000000001 -0.00764 0.01875 C -0.01076 0.02709 -0.01597 0.03287 -0.0184 0.04144 C -0.02118 0.05116 -0.0217 0.05625 -0.0276 0.06366 C -0.03333 0.07894 -0.04184 0.08936 -0.04913 0.10278 C -0.05191 0.1169 -0.04861 0.10579 -0.05677 0.11899 C -0.06128 0.12616 -0.06406 0.13496 -0.06909 0.14167 C -0.07222 0.14584 -0.07639 0.14885 -0.07829 0.15394 C -0.08229 0.16459 -0.07951 0.16065 -0.08611 0.16621 C -0.09357 0.18125 -0.10416 0.19306 -0.11527 0.20325 C -0.11909 0.21065 -0.12291 0.21274 -0.12916 0.21551 C -0.13402 0.22014 -0.13177 0.21968 -0.13524 0.21968 E">
                                      <p:cBhvr>
                                        <p:cTn id="1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.01771 0.04699 C 0.0092 0.0544 0.01441 0.04907 0.00382 0.06343 C -0.00312 0.07268 -0.01545 0.08102 -0.02378 0.08796 C -0.03021 0.09329 -0.03941 0.10278 -0.04687 0.1044 C -0.06146 0.10764 -0.07552 0.11157 -0.08993 0.11481 C -0.09305 0.11551 -0.0993 0.1169 -0.0993 0.11713 C -0.14844 0.11458 -0.13021 0.11481 -0.15451 0.11481 E">
                                      <p:cBhvr>
                                        <p:cTn id="20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1">
                                  <p:stCondLst>
                                    <p:cond delay="6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8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276960" y="4133880"/>
            <a:ext cx="2867040" cy="2724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533680" cy="1181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4360" y="2997360"/>
            <a:ext cx="518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由在人间是一种不切实际的奢望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很小的时候我喜欢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是我不会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但我依然向往那种在天空中没有任何东西触碰的感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一根细线的接触都没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只有风轻挠着自己的每一根神经发出“沙沙”声的快乐感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24000" y="907920"/>
            <a:ext cx="3528720" cy="95436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4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356000" y="2854440"/>
            <a:ext cx="417600" cy="430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356000" y="2854440"/>
            <a:ext cx="417600" cy="430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057560" y="3328920"/>
            <a:ext cx="18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ing…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348000" y="3078000"/>
            <a:ext cx="847800" cy="642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108320" y="3092400"/>
            <a:ext cx="28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Q:2704555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3338640"/>
            <a:ext cx="192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黑体"/>
                <a:ea typeface="黑体"/>
              </a:rPr>
              <a:t>村 </a:t>
            </a:r>
            <a:r>
              <a:rPr b="0" lang="en-US" sz="15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1500" spc="-1" strike="noStrike">
                <a:solidFill>
                  <a:srgbClr val="000000"/>
                </a:solidFill>
                <a:latin typeface="黑体"/>
                <a:ea typeface="黑体"/>
              </a:rPr>
              <a:t>长 </a:t>
            </a:r>
            <a:r>
              <a:rPr b="0" lang="en-US" sz="15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1500" spc="-1" strike="noStrike">
                <a:solidFill>
                  <a:srgbClr val="000000"/>
                </a:solidFill>
                <a:latin typeface="黑体"/>
                <a:ea typeface="黑体"/>
              </a:rPr>
              <a:t>作 </a:t>
            </a:r>
            <a:r>
              <a:rPr b="0" lang="en-US" sz="15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1500" spc="-1" strike="noStrike">
                <a:solidFill>
                  <a:srgbClr val="000000"/>
                </a:solidFill>
                <a:latin typeface="黑体"/>
                <a:ea typeface="黑体"/>
              </a:rPr>
              <a:t>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 repeatCount="indefinite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" presetSubtype="1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" presetSubtype="1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" presetSubtype="4">
                                  <p:stCondLst>
                                    <p:cond delay="6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78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6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4" nodeType="after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500" autoRev="1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116" dur="500" autoRev="1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52,0)"/>
                                      </p:to>
                                    </p:set>
                                    <p:set>
                                      <p:cBhvr>
                                        <p:cTn id="117" dur="500" autoRev="1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1400"/>
                            </p:stCondLst>
                            <p:childTnLst>
                              <p:par>
                                <p:cTn id="119" nodeType="afterEffect" fill="hold" presetClass="exit" presetID="2" presetSubtype="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2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6:45:45Z</dcterms:created>
  <dc:creator/>
  <dc:description/>
  <dc:language>en-US</dc:language>
  <cp:lastModifiedBy>YE</cp:lastModifiedBy>
  <cp:lastPrinted>1899-12-30T00:00:00Z</cp:lastPrinted>
  <dcterms:modified xsi:type="dcterms:W3CDTF">2008-04-14T17:11:38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