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EF5-F0FE-458D-89F8-DA85DBEB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E1B-497D-44C4-8618-B103B745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E98-C1F8-43FA-A4CE-4B6F25D8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6F6-AA67-4D7C-8541-1AC9B467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295-F13D-448D-B7ED-E49B9DCA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A07-DB7C-49E6-A466-029C0830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6C8-894E-4EF2-B210-4757ADB6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3B2-B44D-46D0-9134-A67349D5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D38-D6F4-4588-916B-BDEFD39E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FB6-8F0E-4B73-B6CE-AE6D3909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55A-1D74-4E0D-B884-39A116D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6CE-07E0-49D3-B28B-7FF44995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299A-1E10-4AEC-87EC-ADE2A945A0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86160" y="314316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214960" y="39783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6-18T02:40:46Z</dcterms:modified>
  <cp:revision>78</cp:revision>
  <dc:subject/>
  <dc:title>幻灯片 1</dc:title>
</cp:coreProperties>
</file>