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chimes.wav" ContentType="audio/x-wav"/>
  <Override PartName="/ppt/media/image6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1.jpeg" ContentType="image/jpeg"/>
  <Override PartName="/ppt/media/image11.jpeg" ContentType="image/jpeg"/>
  <Override PartName="/ppt/media/image9.jpeg" ContentType="image/jpeg"/>
  <Override PartName="/ppt/media/type.wav" ContentType="audio/x-wav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85B-2298-45DC-BDF8-515A5BC2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279-4151-44E2-9CC6-71D6AC07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037-D191-4B28-9449-36D561B3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783-7FDA-4173-8F5D-7FD51972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0902-41DE-42F4-AE4F-CC34DBC2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876A-23D0-4ACB-A113-132AD295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A94B-0AB2-45C1-A566-4F88C2D0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7195-FE8A-4B47-AF6A-BE67DE99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A514-6DFB-4375-BBDB-46783C95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D69E-29B3-4A35-BF56-8C6CBE48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435A-7BD7-4C9C-84B8-C9271B09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334-2835-415B-9232-D689BC48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3D97-D98F-41C3-8839-22DF5155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5AB2-DF70-4F80-8F80-FB0961D3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8274-E355-4A7D-BC1E-71EEFA44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1291-0303-47D4-B612-B06CEBF1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0DC0-707C-40C1-BCC2-5730AD70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EF3-A2C4-4BE2-88D5-D52302EF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568-10C5-4663-B755-F0D8B609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030-82B7-4298-9721-C3D87ABE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B4E-1BF4-4191-BFA4-B3E61FA6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F45-6600-42D2-B37D-915A771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985-71A9-41D0-8398-EE09369B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C5D-93CC-403B-88DA-63ABF60B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7F46-8C79-43E2-A8E7-4B40EFBD12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8F22-BC78-4B90-AACF-1F950F60DA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轮椅上的霍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59280" y="18900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轮椅上的霍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1197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苏教版六年级语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826920" y="1916280"/>
            <a:ext cx="2303640" cy="3816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3132000" y="1628640"/>
            <a:ext cx="57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霍金先生，病魔使你失去很多。你不能                    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5508720" y="2708280"/>
            <a:ext cx="273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 flipV="1">
            <a:off x="4356000" y="3429000"/>
            <a:ext cx="388800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4427640" y="4365720"/>
            <a:ext cx="37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635280" y="4076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56240" y="2112120"/>
            <a:ext cx="44877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霍金先生，病魔已将你永远固定在轮椅上，你不认为命运让你失去太多了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6"/>
          <p:cNvSpPr/>
          <p:nvPr/>
        </p:nvSpPr>
        <p:spPr>
          <a:xfrm>
            <a:off x="5076720" y="260280"/>
            <a:ext cx="3600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全新硬笔楷书简"/>
              </a:rPr>
              <a:t>我的手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全新硬笔楷书简"/>
              </a:rPr>
              <a:t>还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全新硬笔楷书简"/>
              </a:rPr>
              <a:t>活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全新硬笔楷书简"/>
              </a:rPr>
              <a:t>我的大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全新硬笔楷书简"/>
              </a:rPr>
              <a:t>还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全新硬笔楷书简"/>
              </a:rPr>
              <a:t>思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全新硬笔楷书简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全新硬笔楷书简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全新硬笔楷书简"/>
              </a:rPr>
              <a:t>终生追求的理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全新硬笔楷书简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全新硬笔楷书简"/>
              </a:rPr>
              <a:t>我爱和爱我的亲人和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全新硬笔楷书简"/>
              </a:rPr>
              <a:t>对了，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全新硬笔楷书简"/>
              </a:rPr>
              <a:t>还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全新硬笔楷书简"/>
              </a:rPr>
              <a:t>一颗感恩的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643280" cy="5661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6028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依然充满恬静的微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25236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260280"/>
            <a:ext cx="212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1052640"/>
            <a:ext cx="56516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手指还能活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大脑还能思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终生追求的理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我爱和爱我的亲人和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了，我还有一颗感恩的心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44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完全瘫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13372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期禁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440" y="306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彻底剥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22100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彻底变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661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运不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260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轮椅上的霍金，＿＿＿＿＿＿＿＿＿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xinsrc_cbcb9086b41011d6b5d200b0d03f0b06"/>
          <p:cNvPicPr/>
          <p:nvPr/>
        </p:nvPicPr>
        <p:blipFill>
          <a:blip r:embed="rId1"/>
          <a:stretch/>
        </p:blipFill>
        <p:spPr>
          <a:xfrm>
            <a:off x="395280" y="1341360"/>
            <a:ext cx="2952720" cy="4391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492360" y="1484280"/>
            <a:ext cx="49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9d8ec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霍金的魅力不仅在于他是一个充满传奇色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物理天才</a:t>
            </a:r>
            <a:r>
              <a:rPr b="1" lang="zh-CN" sz="4000" spc="-1" strike="noStrike">
                <a:solidFill>
                  <a:srgbClr val="d9d8ec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更因为他是一个令人折服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生活强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3635280" y="400536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627280" y="333360"/>
            <a:ext cx="1440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556000" y="404640"/>
            <a:ext cx="1828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基础练习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7002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、抄下列词语，然后任选两个造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28464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折服   悲悯   景仰   唐突    顶礼膜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静默   恬静   由衷   震颤   神秘莫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  <p:sndAc>
      <p:stSnd>
        <p:snd r:embed="rId2" name="chimes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843280" y="0"/>
            <a:ext cx="18288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练习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55640" y="1125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全新硬笔楷书简"/>
                <a:ea typeface="全新硬笔楷书简"/>
              </a:rPr>
              <a:t>轮椅上的勇士 ，我想对您说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2490840"/>
            <a:ext cx="6335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运让他失去太多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不能＿＿＿＿＿＿＿＿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不能＿＿＿＿＿＿＿＿＿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没有＿＿＿＿＿＿＿＿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没有＿＿＿＿＿＿＿＿＿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  <p:sndAc>
      <p:stSnd>
        <p:snd r:embed="rId2" name="chimes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2" descr="{C29C1D8F-3086-44D5-BFB7-878613A66281}"/>
          <p:cNvPicPr/>
          <p:nvPr/>
        </p:nvPicPr>
        <p:blipFill>
          <a:blip r:embed="rId1"/>
          <a:srcRect l="2480" t="2463" r="4976" b="3295"/>
          <a:stretch/>
        </p:blipFill>
        <p:spPr>
          <a:xfrm>
            <a:off x="179280" y="620640"/>
            <a:ext cx="8785440" cy="583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42560" y="2422080"/>
            <a:ext cx="720108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能正确、流利、有感情的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学会本课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个生字，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个字只识不写。理解由生字组成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理解课文内容，学习霍金勇敢顽强不断求索科学的精神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3706920" y="1413000"/>
            <a:ext cx="201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zoom dir="out"/>
    <p:sndAc>
      <p:stSnd>
        <p:snd r:embed="rId2" name="typ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16360" y="549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13372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2349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霍 金       萎 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86064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会读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3860640"/>
            <a:ext cx="640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撰 写      活 页      顶 礼 膜 拜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 牌      打 扰      巨 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1989000"/>
            <a:ext cx="33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uò           wě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3429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zhuàn              yè                 m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4941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ái           rǎo           jià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type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00360" y="404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初读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1916280"/>
            <a:ext cx="684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轻的女记者认为命运让霍金失去太多，霍金是怎么认为的？你对霍金的回答是怎样理解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课文，想一想从哪几方面可以看出霍金是一个“非凡”的科学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250920" y="1773360"/>
            <a:ext cx="2303280" cy="3816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2771640" y="333360"/>
            <a:ext cx="583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命运对霍金十分残酷。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1963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年，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岁的霍金在剑桥大学读研究生时，不幸患上了会导致肌肉萎缩的卢伽雷氏症，不久就完全瘫痪，被长期禁锢在轮椅上。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198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年，霍金因患肺炎做了穿气管手术，又被彻底剥夺了说话的功能。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年过去了，疾病已使他的身体彻底变形：头只能朝右边倾斜，肩膀也是左低右高，双手紧紧并在当中，握着手掌大小的拟声器键盘，两只脚则朝内扭曲着。嘴已经歪成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型，只要略带微笑，马上就会现出“龇牙咧嘴”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00000" y="260280"/>
            <a:ext cx="12956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5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品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mb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55f0e6ec018814bee0531e2abe7112a2.jpg"/>
          <p:cNvPicPr/>
          <p:nvPr/>
        </p:nvPicPr>
        <p:blipFill>
          <a:blip r:embed="rId1"/>
          <a:stretch/>
        </p:blipFill>
        <p:spPr>
          <a:xfrm>
            <a:off x="1285920" y="714240"/>
            <a:ext cx="3890880" cy="55087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" descr="116909980.jpg"/>
          <p:cNvPicPr/>
          <p:nvPr/>
        </p:nvPicPr>
        <p:blipFill>
          <a:blip r:embed="rId2"/>
          <a:stretch/>
        </p:blipFill>
        <p:spPr>
          <a:xfrm>
            <a:off x="1285920" y="642960"/>
            <a:ext cx="3929040" cy="57643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3" descr="153_1240277696eME2.jpg"/>
          <p:cNvPicPr/>
          <p:nvPr/>
        </p:nvPicPr>
        <p:blipFill>
          <a:blip r:embed="rId3"/>
          <a:stretch/>
        </p:blipFill>
        <p:spPr>
          <a:xfrm>
            <a:off x="1214280" y="642960"/>
            <a:ext cx="5953320" cy="59292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Img16855514.jpg"/>
          <p:cNvPicPr/>
          <p:nvPr/>
        </p:nvPicPr>
        <p:blipFill>
          <a:blip r:embed="rId4"/>
          <a:stretch/>
        </p:blipFill>
        <p:spPr>
          <a:xfrm>
            <a:off x="1214280" y="642960"/>
            <a:ext cx="5919840" cy="59292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xin_1320104020923375277439.jpg"/>
          <p:cNvPicPr/>
          <p:nvPr/>
        </p:nvPicPr>
        <p:blipFill>
          <a:blip r:embed="rId5"/>
          <a:stretch/>
        </p:blipFill>
        <p:spPr>
          <a:xfrm>
            <a:off x="1214280" y="642960"/>
            <a:ext cx="5894640" cy="59292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thumb_26b87294de833d53432c3bd29870d3e5.jpg"/>
          <p:cNvPicPr/>
          <p:nvPr/>
        </p:nvPicPr>
        <p:blipFill>
          <a:blip r:embed="rId6"/>
          <a:stretch/>
        </p:blipFill>
        <p:spPr>
          <a:xfrm>
            <a:off x="1214280" y="642960"/>
            <a:ext cx="5929560" cy="59292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7" descr="normal_18.jpg"/>
          <p:cNvPicPr/>
          <p:nvPr/>
        </p:nvPicPr>
        <p:blipFill>
          <a:blip r:embed="rId7"/>
          <a:stretch/>
        </p:blipFill>
        <p:spPr>
          <a:xfrm>
            <a:off x="1214280" y="642960"/>
            <a:ext cx="5929560" cy="59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xinsrc_cbcb9086b41011d6b5d200b0d03f0b06"/>
          <p:cNvPicPr/>
          <p:nvPr/>
        </p:nvPicPr>
        <p:blipFill>
          <a:blip r:embed="rId8"/>
          <a:stretch/>
        </p:blipFill>
        <p:spPr>
          <a:xfrm>
            <a:off x="1214280" y="642960"/>
            <a:ext cx="5929560" cy="6000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1"/>
          <p:cNvSpPr/>
          <p:nvPr/>
        </p:nvSpPr>
        <p:spPr>
          <a:xfrm>
            <a:off x="7426440" y="1062360"/>
            <a:ext cx="10033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标志性形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50920" y="189000"/>
            <a:ext cx="129528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5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品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557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虽然他的身体没有离开轮椅，但是，他的思维却飞出了地球，飞出了太阳系，飞出了银河系，飞到了上百亿光年的宇宙深处，飞向了神秘莫测的黑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xinsrc_cbcb9086b41011d6b5d200b0d03f0b06"/>
          <p:cNvPicPr/>
          <p:nvPr/>
        </p:nvPicPr>
        <p:blipFill>
          <a:blip r:embed="rId2"/>
          <a:srcRect l="0" t="4483" r="0" b="0"/>
          <a:stretch/>
        </p:blipFill>
        <p:spPr>
          <a:xfrm>
            <a:off x="6192720" y="3213000"/>
            <a:ext cx="2951280" cy="3645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492360" y="-243000"/>
            <a:ext cx="5472360" cy="3024360"/>
          </a:xfrm>
          <a:prstGeom prst="cloudCallout">
            <a:avLst>
              <a:gd name="adj1" fmla="val 13967"/>
              <a:gd name="adj2" fmla="val 5897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>
            <a:lum bright="-30000"/>
          </a:blip>
          <a:srcRect l="17290" t="12189" r="13660" b="0"/>
          <a:stretch/>
        </p:blipFill>
        <p:spPr>
          <a:xfrm>
            <a:off x="4859280" y="0"/>
            <a:ext cx="3025800" cy="2205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476360" y="907920"/>
            <a:ext cx="69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能发现发现黑洞蒸发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能推论黑洞的大爆炸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能建立宇宙模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能出版《时间简史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能成为英国皇家学会最年轻的会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能成为像牛顿这样的大科学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0" t="906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3T05:39:45Z</dcterms:created>
  <dc:creator>已锁定</dc:creator>
  <dc:description/>
  <dc:language>en-US</dc:language>
  <cp:lastModifiedBy>已锁定</cp:lastModifiedBy>
  <dcterms:modified xsi:type="dcterms:W3CDTF">2014-05-23T11:31:06Z</dcterms:modified>
  <cp:revision>4</cp:revision>
  <dc:subject/>
  <dc:title>10 轮椅上的霍金</dc:title>
</cp:coreProperties>
</file>