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DCF99-140B-4B0B-98B9-AAB4A9EE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F735B-23DC-46E8-97D3-E5D3E78E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AB26E-4468-47F2-8434-9DC907C7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7957A-89AB-4282-A045-BDC60C4B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0BB1C-B498-4B6B-A491-504D6F25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22097-E19A-4EE6-9A63-35E9444E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0A22F-F6C9-4750-9BCF-DC776A0F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C2281-AF3E-4B51-A6FD-30C18393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C1FBA-11A4-4856-A6DF-6E4EFA9D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9AC06-E050-4AA0-BD84-AEBF0E23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CF1B2-1898-4CF1-B6BF-7C1F8BBD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B730E-7F3E-49AE-9F8D-1A0AF97A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85281-B9D9-4645-9DE1-A11FFF7F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22BEC-15C7-4065-8BFF-E03AEDE0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31F72-FDEB-4E1F-B0C7-5EEAAF98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F50D3-193C-4CD1-AC42-BD8EF82E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E47E3-E203-48D8-8FB6-2B3335CB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2B8FD-1822-4BA1-8D00-530FC78B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FEFED-4CA3-4D0D-BBCF-4D2363D7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68BB6-C476-4673-9249-70CD54A3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A7A08-93CF-4960-98AA-D7040F68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6760B-2176-4B06-8404-1F256B40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79039-DB07-4307-BB6A-339E3EDB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F65A5-7C10-47C2-829C-9A6BC863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49FD1-D410-4973-BD66-E00DCB5E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1F292-FE25-434F-960D-33EF6763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A8071-60B0-46EB-A633-CCE8FAF8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00026-D6BD-46D6-9513-3941D214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93787-7E34-4452-989D-B722A826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6A303-D3B8-4FB0-A66C-F7F9EFA3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ECB-C42C-408B-AAAC-DC153DC7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37EB1-1139-4938-87D3-CED650A3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CBD28-83EB-4567-9F56-831A6A65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5FACA-2C7A-4411-9AAC-6A66A639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A7568-55DC-4D2B-ACE4-7CA1AA8A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F3330-6E0B-4502-9D6E-BD6677C1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EB5B6-724E-44E7-9F62-5B9FC6CE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17D9B-FC26-4F5D-A57C-272CC13A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D2A32-FE0C-45D7-B7A1-0D734AF4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BB82D-668F-46E0-B152-0F62BF81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5EDF0-F3D3-4AF4-BF55-582C6DFD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396D-FEFB-4F5D-B65A-8A55F81C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6544F-D55E-45F2-8E4A-B6684F70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F6951-5116-4923-B4AE-F5EB712E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197F7-A381-4437-A080-BECB4F8A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606A2-99D8-4645-8EC1-4621EF8C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3C76E-0868-4F65-9317-90CE11B0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27CBB-4A40-451D-9469-81342206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07675-5627-4454-93C6-DABAFDF6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288C2-41FA-4CF6-A991-A4FDFC83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F541C-2F6E-49F9-8AC1-133E99C0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C6E58-0E72-4ADD-B153-A73F9D18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77A-3433-40BE-93F5-75FF6F9F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35D61-1134-474D-88C3-AA264129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11913-18B5-45F2-949A-56B8FDB2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AB4F8-3FE1-4D42-B63E-5BD98D02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C3811-78E9-4C1D-9523-085BABCF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7928F-8944-4BED-A21F-E0150B80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86F7E-5391-4100-9A67-B390E7E0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D0F06-9CB7-43AA-96DB-58B02BEE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CB8F4-9627-4754-8D37-02D4C0B2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581C88-EF76-4672-8334-519B12CC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BC926-1038-4FD3-837E-55B1EAC8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1456-F97E-4CF0-9C96-31C72F39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BD149-354F-41CE-A63B-BF875AEC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A4EDD8-0832-4333-87C2-EC996254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630F2C-8329-4C34-8D89-D5BB4450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2F689-6865-4965-9F33-11650518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841B7-16CC-4266-B079-BFE68FBC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BF96E-14F2-4A83-BAE1-3526E305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2CC60E-819A-4268-8661-63C66D11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1B7461-EE0C-4F20-B348-1B942DF0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C99C4-D5BA-4C1D-85A5-E6CA79C7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4A4F2C-3BC2-48AB-BAC3-9001F27A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74D1-364E-4BF5-A6D9-6F17F361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990624-638D-4ED9-9AEB-3C52340D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24D794-9174-436B-B1D2-8787DB68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7CE5D2-A469-4E86-A593-71E182FE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91D463-2C18-42B0-A4C0-E917253F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ABF0C4-875A-4EE1-BEA4-764111BD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F26F25-7CA0-4BB7-9CFF-91D0C4DC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004407-EF08-4B0F-880A-EB4AAC0C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76C908-6DE0-4B70-9265-F347B0C4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DCA2C9-99DE-4187-9BE2-D8B952E9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070CDE-97A4-4248-9156-87E35BFC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14F8-607E-45A0-A721-FF062560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0C1DE9-19CA-419A-8358-15978C52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420C50-A571-4C02-9201-0E720B74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741AC3-4B65-4A96-BD39-7FE1A6E4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BDDFE8-AC9F-4CE7-945E-0E3ADFA0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491FA0-0FC8-4E02-AE94-C11D9A51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D997C1-EE9C-44F0-BA92-C8D7DF39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483EEF-1B89-46AF-9FB1-A9637756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B567F8-D648-422F-99F0-33E10418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4AEE95-227C-4D79-AA34-E9ECEE9C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23D2C9-CAF2-4393-BA4D-4704B39E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2C5-6A66-48CD-8332-6056038A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A89F63-1467-4F1A-BABE-67337EF7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9E6B52-6F19-498A-BEC0-27DF2B54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D23209-5BA2-4048-B8EF-D6A5EDBD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59343C-C0E2-43CE-A1CE-F9A39FDD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9B2C02-8842-4579-A7C8-6ED06F33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32A596-07DE-4F83-815D-06E4E98C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ED743E-232B-4E73-B76C-EBBD271F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028AE1-AB1C-46FD-9E38-DF2DA3C9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178212-F759-4F7C-A9CD-E37AEBCA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AAD225-2969-454F-9D75-3FA53DFD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204A-93FB-4B08-B0AF-42CBF4DA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577AF1-A445-4681-B1DC-0B219891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501348-5D33-459C-80EE-EBA054A8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FE3591-2967-45DF-BE21-CBF96EED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58B965-268A-47B1-A7AF-C7AADD4B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D52D75-11C4-4EC6-9DB7-AA10B7EF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64FEB9-4F29-4039-867D-BAED0D46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14974C-2AE6-4C7A-AA79-E332795A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B85D9D-906E-4EDF-B7C6-33F45DED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18A933-4453-4A7D-97E3-002D4DD4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116661-62E1-4073-B372-C4C22C6B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D9A1-433D-4DC3-A327-7694EDFE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ED3BE3-1BFF-4920-AE78-87BBFFAB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CAFFAB-6061-4CE5-AA64-DB8B6656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352220-F261-474D-BDE7-C8AFC51F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3CC88A-23E7-4F4C-8438-94ED38FE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AC0AA1-0073-4654-9ED8-2BDF1D3F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59E39E-4BA6-40CA-AF38-E8DF155D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B943CC-2E36-4BF6-852C-B3565E72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022552-BC96-42D5-97BD-0BC9DC18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77D745-AF76-47F9-98FD-F948FD52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22DC85-67AF-4E15-BA06-8760198C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EB1E-5D6D-4BA8-A2AD-490B03FD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C20167-035A-43BE-A734-F4E745F1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EC54C6-FEB8-4E40-9142-9A43E1A5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F38224-27A3-4C86-B1E5-AEF02F40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09581-5B86-41FD-BE82-E8AFF6C3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031645-BE37-4880-804E-B7D6B392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6E7D3F-561C-4679-9A3E-A584C453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D050A8-DB7D-445E-B20E-38469354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A0C525-43AA-4259-B228-6B71ECB5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3155BB-40AE-40A0-9488-572018F3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0B933F-1506-4E2F-94EB-72AEE463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59B-0C3A-4A88-8D46-3333BFCE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37D660-C10B-4430-AB44-E61DFAB9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533408-3FA8-4762-A088-802BC34C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5CA150-1125-41D8-9033-996F066A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481A9B-4E3B-4C29-9B3B-5B361D4D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87E50C-8E48-440C-974B-50585A5E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FF6B5F-85BF-440A-8E27-49F3A81E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BD5139-8226-441D-B164-C953C959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F0ECDF-B56E-49E0-B7D4-A0943CA0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0A38A1-88B7-4720-971F-FC1D98D5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A9C71D-4CD9-4782-B11C-4702DF33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B6C-FDA9-4764-A0D5-C0D74CA4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4498A9-2355-42F6-A9A9-53B02E15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DC0E63-B114-4633-AEBB-EC8D343F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12679D-A99E-4D87-9B3A-895C5F4D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67879C-FFBE-49C9-9973-8006DD19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50A873-E9BC-480A-9557-CBCC1D06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FA406C-99EF-45F3-82C8-CBA58AB2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9F31E9-7062-437A-AA4B-178501EF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209351-658E-4464-8784-28E52802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6C30AB-54AD-43BB-9714-0F84CEDB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7A0F3C-379C-4E4F-9AED-1A710052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3425-9AEB-42E7-92E6-36FC4D72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7A2901-81C8-4111-AD22-07A16284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0C7071-B076-4632-8359-854D590A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0496E6-090C-47B0-8682-9F92C3C6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58E823-476E-431E-AEF8-A6C1E814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DEB2AB-4B91-4146-A605-71B8A346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CE8366-7D58-4CBF-B7BB-5E428C4A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0C6648-1D98-4B00-9547-7678DEFB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E49AB3-0894-4160-998D-594C6047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F6AF31-6B21-47F5-85BD-DF777FC0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54FAC3-6301-411D-BD2B-69A44AC2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6997-036A-4017-8576-7B100A62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030B24-9E8F-48BE-9A90-93CFB356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141413-A156-4AA6-970C-A9631337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072075-8367-427F-94EA-0BCCAD62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D19F04-BA5C-4D08-8555-27DB7DD1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FCA941-FC3B-4DB4-A9D6-47AD37CA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7F0C5A-2C36-41B8-B672-F2E5245A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08F323-BD26-4C1B-A02B-3CBFF5BB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C57BF0-7196-4179-8D5B-2FE896F0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5D9AC8-3FA6-423C-AA79-68BAA60F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F78194-DC61-4827-8B1F-2F3EAA8B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B54B-E8BA-4FD5-AC7B-45C69B7C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BEB2D4-0C6E-4241-8286-9EC867ED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0811D0-21B0-4864-BAE7-D367A294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89169D-0FC8-4463-BBDC-7C1F5B9D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DD66F8-25CC-41D4-B5B6-ACE16391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DE523D-F5C2-4674-8137-23F98E6F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715FC7-E850-4817-BCB4-11013924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DC1DD9-5351-44F8-B49F-C75FFDF8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AF8CA4-A065-465B-A5D9-8973D603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854F8F-EFE1-47FD-818B-2F49C0FC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29F305-C4A4-4765-8EC5-B90C0FA4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1A33-9979-410F-BC9B-516872B3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4123B4-D27D-4615-87F1-E1F3385D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AAEDD1-B2E3-474C-B097-EA83C8C6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759BD6-B92A-4D3B-AF30-A4D11E97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931B55-AEA3-47D6-A764-9E548C66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D117C7-4667-40CB-A8D2-BDDFA411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331CBC-78D6-4F1C-B4B9-B5A51D06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4311B6-22FF-4CB1-9F40-12A62E9B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8116DC-1799-435C-A9DB-D27865D9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55377F-B9F7-460A-A0C6-FE24EC21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371C-21BB-49BF-8904-2917A8CB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D81F-C847-4375-94C6-6ABA1A00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3D6D-ED5E-485E-AF02-2DA8AE7D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C9B8-CBA5-4869-A019-89430675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3686-2882-4C4D-BF60-3A9F24D9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E872-B524-4B3B-825D-1E3D170D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82F5-F109-438D-A412-0FDA2083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9910-1CC4-4DA7-B03D-EC34DCAD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3FA7F-5CD3-45EC-872D-AD102EF1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16CA1-6AE7-46EE-886C-CB20765A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FEED0-59DA-4E57-BBA0-0EAFB758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E9C51-C4B3-4786-80E7-40C3A53F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D317E-BBE3-491B-86E6-7374171E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8338C-7AFF-4626-9FF7-ACA9A872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2A37B-DB33-4E1B-9BB7-1406B160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A98F7-13B0-4294-B403-63BC3A0A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86A6B-DCFC-4D6A-8B8B-E44A1883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EC503-FE02-40CD-B75C-2E7A1992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598E8-2006-4A1C-9504-B932F932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5ADC1-1F03-4554-9F65-4E165403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F494E-3B36-441B-8CD3-907B2527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E2A25-1585-45D8-90C1-E47AE96F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D5E0A-9BA5-4D5A-AAFA-EFAF3C6C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B48D0-4133-4FD9-B6EE-910BD8FB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B7DC2-7AD5-4B62-A214-CC4D5178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4CA56-1891-497C-86FE-8E66EA08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8F4E2-33EB-4B59-90A0-8E929348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6BC21-C674-4CD5-BB55-DA4CB8BB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01EE7-769C-4D34-9723-E4EA4D6F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42539-9AEF-498F-8224-764C03E5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2C468-0B02-43D2-9B64-F1070962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EBE70-9F9C-4CA6-B4BF-B7235210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5E3D2-DAAA-4E5A-804E-A24199C0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1A202-F5FD-4C44-B905-245D17BB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EEE7D-83B1-4E5E-B374-32D493AB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A2515-7FB6-4DAA-9449-ABD2432B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939F5-AE80-4D08-90BB-1D5CEB61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DBA2A-6029-4F09-8D98-C43F93A6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FFE3C-4614-4C71-BB01-27568859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AB39A-64F6-4AFB-A44D-CBD72E2C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9BDA0-4D0D-4C69-B599-C868D8E2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6396F-A59A-47B3-B7B1-89C7BDE6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A06A1-FBBF-49E7-9E5F-BB3627AD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C32D6-4887-4120-996A-722D72A6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3EA63-3DFF-4CBD-8530-4A868145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4E7F8-663C-4CAC-B8DA-FAD4BAC8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04A67-3E58-4AEC-9B38-BE581B16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E48B4-59F3-4E4F-AF14-B14260FF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8BA55-DEAC-4C42-8283-5EC8C21B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7D426-8695-4D20-8C98-5DB418F9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0ABAE-9F09-4C13-BCC5-0EBE8069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E16DC-09D5-480B-A6B9-5A838E5E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16948-0314-4E7E-A5AC-6BDB81A2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10624-0574-4FD1-89EC-66574386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FA5AC-6CBE-400A-B280-43BCE566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3A013-F042-4D31-BAE3-92581DF3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8A974-6031-4C5E-A155-E7119F3E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B7808-BBF4-4A70-AF74-59E9A400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58FFC-AA45-4514-9598-3F40FDAF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74E1F-1DC5-40BB-82C4-DB17B2CE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1C542-183B-4ABA-85D1-D8BD7C27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C5ADB-CD75-45F2-B84F-86290866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C27A2-B4DF-46D0-98AD-588BCD01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4F22E-3960-4033-BED4-63B33377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8505A-E277-447C-8D22-9AE4D193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F4C27-BA9C-4C75-99EB-900196BE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CD0B8-27E5-4DF5-AB97-6D342BBC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CCAB9-182B-4171-8E5C-483F2EA0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1051E-23A8-44C9-B40A-D54FACAC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481A2-EAE1-4E8E-9153-272128D4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063F6-7B84-45C0-B756-9CABF4CF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1737-F9F6-4D89-8420-AD9F05B17A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DE83-4A0C-4B00-BBE7-EF33A0E15D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9D99-C424-4768-9887-DFEA2C29FA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58F8-5BEB-4E20-9005-FC5D48865F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C93B-CDAC-44FB-B5D7-1FA59457BF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6F85-38E9-43AB-8EE2-9676E84C8D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C2D3-56DF-4552-8E17-E4A0CE0C000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A45D-5721-4A57-99A8-770DA7C635E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B788-092F-4215-B3BC-C900701F46A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BBE2-2A59-4207-B621-76FDEA9FC3A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384D-B41A-4FCB-9778-8C7BEF9CA6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30AE-371B-422C-9B3F-31935FE5D0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4F25-83CC-4597-8FC1-F05B88FDCD4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BEB5-8ED0-4BBD-9F31-A45B5A292B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D677-7365-4A8D-B379-2F5C18948A0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A2F3-5049-4887-B6CF-DBD1B8659D1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A9AA-AF82-4688-857F-E83F97CBF8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2BE5-72ED-4FCA-967A-545B804C2A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182A-6CE5-4F97-83EE-12B234063F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360E-2D67-4FEB-96F9-AE811C4809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732B-BCA0-48B8-8F54-B5545C5B9A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0E5C-8127-481D-BCC0-228D2B4339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143F-A0E9-4146-8891-AD57D12859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3.jpeg"/><Relationship Id="rId17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Picture 3" descr=""/>
          <p:cNvPicPr/>
          <p:nvPr/>
        </p:nvPicPr>
        <p:blipFill>
          <a:blip r:embed="rId1"/>
          <a:stretch/>
        </p:blipFill>
        <p:spPr>
          <a:xfrm>
            <a:off x="1952640" y="1047600"/>
            <a:ext cx="52387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Picture 3" descr=""/>
          <p:cNvPicPr/>
          <p:nvPr/>
        </p:nvPicPr>
        <p:blipFill>
          <a:blip r:embed="rId1"/>
          <a:stretch/>
        </p:blipFill>
        <p:spPr>
          <a:xfrm>
            <a:off x="0" y="135252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3" descr=""/>
          <p:cNvPicPr/>
          <p:nvPr/>
        </p:nvPicPr>
        <p:blipFill>
          <a:blip r:embed="rId1"/>
          <a:stretch/>
        </p:blipFill>
        <p:spPr>
          <a:xfrm>
            <a:off x="0" y="135252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3" descr=""/>
          <p:cNvPicPr/>
          <p:nvPr/>
        </p:nvPicPr>
        <p:blipFill>
          <a:blip r:embed="rId1"/>
          <a:stretch/>
        </p:blipFill>
        <p:spPr>
          <a:xfrm>
            <a:off x="0" y="135252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矩形 5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3" descr=""/>
          <p:cNvPicPr/>
          <p:nvPr/>
        </p:nvPicPr>
        <p:blipFill>
          <a:blip r:embed="rId16"/>
          <a:stretch/>
        </p:blipFill>
        <p:spPr>
          <a:xfrm>
            <a:off x="0" y="135252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Picture 3" descr=""/>
          <p:cNvPicPr/>
          <p:nvPr/>
        </p:nvPicPr>
        <p:blipFill>
          <a:blip r:embed="rId1"/>
          <a:stretch/>
        </p:blipFill>
        <p:spPr>
          <a:xfrm>
            <a:off x="0" y="135252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3" descr=""/>
          <p:cNvPicPr/>
          <p:nvPr/>
        </p:nvPicPr>
        <p:blipFill>
          <a:blip r:embed="rId1"/>
          <a:stretch/>
        </p:blipFill>
        <p:spPr>
          <a:xfrm>
            <a:off x="1952640" y="1047600"/>
            <a:ext cx="52387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Picture 3" descr=""/>
          <p:cNvPicPr/>
          <p:nvPr/>
        </p:nvPicPr>
        <p:blipFill>
          <a:blip r:embed="rId1"/>
          <a:stretch/>
        </p:blipFill>
        <p:spPr>
          <a:xfrm>
            <a:off x="0" y="135252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Picture 4" descr=""/>
          <p:cNvPicPr/>
          <p:nvPr/>
        </p:nvPicPr>
        <p:blipFill>
          <a:blip r:embed="rId1"/>
          <a:stretch/>
        </p:blipFill>
        <p:spPr>
          <a:xfrm>
            <a:off x="0" y="135252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Picture 3" descr=""/>
          <p:cNvPicPr/>
          <p:nvPr/>
        </p:nvPicPr>
        <p:blipFill>
          <a:blip r:embed="rId1"/>
          <a:stretch/>
        </p:blipFill>
        <p:spPr>
          <a:xfrm>
            <a:off x="0" y="135252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icture 3" descr=""/>
          <p:cNvPicPr/>
          <p:nvPr/>
        </p:nvPicPr>
        <p:blipFill>
          <a:blip r:embed="rId1"/>
          <a:stretch/>
        </p:blipFill>
        <p:spPr>
          <a:xfrm>
            <a:off x="0" y="135252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3" descr=""/>
          <p:cNvPicPr/>
          <p:nvPr/>
        </p:nvPicPr>
        <p:blipFill>
          <a:blip r:embed="rId1"/>
          <a:stretch/>
        </p:blipFill>
        <p:spPr>
          <a:xfrm>
            <a:off x="0" y="135252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3" descr=""/>
          <p:cNvPicPr/>
          <p:nvPr/>
        </p:nvPicPr>
        <p:blipFill>
          <a:blip r:embed="rId1"/>
          <a:stretch/>
        </p:blipFill>
        <p:spPr>
          <a:xfrm>
            <a:off x="0" y="135252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Picture 3" descr=""/>
          <p:cNvPicPr/>
          <p:nvPr/>
        </p:nvPicPr>
        <p:blipFill>
          <a:blip r:embed="rId1"/>
          <a:stretch/>
        </p:blipFill>
        <p:spPr>
          <a:xfrm>
            <a:off x="0" y="135252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3" descr=""/>
          <p:cNvPicPr/>
          <p:nvPr/>
        </p:nvPicPr>
        <p:blipFill>
          <a:blip r:embed="rId1"/>
          <a:stretch/>
        </p:blipFill>
        <p:spPr>
          <a:xfrm>
            <a:off x="0" y="135252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3" descr=""/>
          <p:cNvPicPr/>
          <p:nvPr/>
        </p:nvPicPr>
        <p:blipFill>
          <a:blip r:embed="rId1"/>
          <a:stretch/>
        </p:blipFill>
        <p:spPr>
          <a:xfrm>
            <a:off x="0" y="135252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Picture 3" descr=""/>
          <p:cNvPicPr/>
          <p:nvPr/>
        </p:nvPicPr>
        <p:blipFill>
          <a:blip r:embed="rId1"/>
          <a:stretch/>
        </p:blipFill>
        <p:spPr>
          <a:xfrm>
            <a:off x="0" y="135252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7T08:37:17Z</dcterms:created>
  <dc:creator/>
  <dc:description/>
  <dc:language>en-US</dc:language>
  <cp:lastModifiedBy>User</cp:lastModifiedBy>
  <dcterms:modified xsi:type="dcterms:W3CDTF">2015-07-17T08:55:4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