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wmf" ContentType="image/x-wmf"/>
  <Override PartName="/ppt/media/image8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94B-7C3E-4765-9F95-16AD9D0A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3D8-D1E8-4A82-9955-4F99D49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790-D97F-453C-8180-203BD9EC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102-1FFC-4388-AE5A-186FC853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0F24-67C4-4C19-93BE-3EBC6D1E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8D8-EA12-4BBE-8CC1-5D35F94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B0EE-2B09-4EE3-A9BE-356E812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EB88-53EF-413B-ABB9-FB1F262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AF7-A508-46C7-81CA-5126377D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408E-AB6D-43BF-A115-956353A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5193-F951-48D1-B34F-2305DA6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C87-D114-414E-B842-7647026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05E6-E054-4546-AB26-B001B6A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9B1-F8F1-4CFF-B48F-1D43E80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7EFF-0D51-415F-BE80-801F923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446E-7E27-4866-AC7F-D02EAFE6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04DA-5BC5-4E4D-AA1B-AB357518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2764-6118-4AD9-A032-398A2DB9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56AD-7A99-4EB4-8036-62937CE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325A-10F9-4229-B507-C383077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861B-5B95-49BE-8D85-9F693ED4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2281-4554-4179-BD8B-88053FA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F91-B41F-4E5F-A8EA-D358094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CD94-EAFE-414D-B63B-14BB673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00DA-8704-470E-84CF-1B013CB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1D2B-D879-44FD-98EC-2048973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A643-72D7-43F2-B0A6-3D432F4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417E-055A-4736-9AED-8B2B288C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7313-A7DB-4671-9BDA-85A64623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370D-5A74-4AD5-BC3B-583E97D4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6B093-377A-438B-8DB3-320788A0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9025-5DB1-4E1D-96E8-D4530F7F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EF30-D23F-44C2-BF7D-D27BC5D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848-C1FE-404D-AAAF-B454FCB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97C9-CF19-4A70-BB34-80408B8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D63C-1E35-4DE4-8155-3AD8E49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6679-1273-4278-BFE2-8619C423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37D0-5264-4678-9142-E7061BF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E686-C786-482D-8159-9013682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CE12-D40D-45E3-9900-CA977E5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E3FD-A685-4C1D-89D6-EC80EDB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5B8E-0CA3-45F2-BAE2-B644FF3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5F16-6FC8-46E1-904E-18D85CCE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A401-7611-439F-8681-7EE54B71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7DE-DE8A-4A2B-B475-E17A34F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04F95-7239-4163-A809-473AA5F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F062-00B6-4A93-A7B9-859E76E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D75F4-9F9A-4FEB-B7DE-FC8723B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F0126-94FB-4FF9-9CDE-25F0D7A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F422-C594-4D6D-9D80-7A67A7E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CF3E-E074-4406-94CA-D31CD53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EF72-CFA8-43E0-9864-4D5D259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09D9-3FA3-448E-91CA-00E017D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44D0-C81A-4219-B164-F5F68F9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42F64-28B6-435C-AE5D-7439491A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8F1-A835-4297-8B05-ADD357C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89FE-4440-4CE7-A9B3-04F6E6F8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4C2-8D00-4628-ADBA-7DC48B5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910-11A6-434D-9E20-F826324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327-5601-4579-9840-F07052A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B9BD-5AB8-4FB1-9D39-CD3F5BF9846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EC4-8A6C-436B-9216-8D277854ED0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1F56-3F21-4E87-A079-D9D81DDB3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8660-BBC5-4504-BE8C-198B407F8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332-5E1A-4F44-B313-C825FE151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hyperlink" Target="http://baike.baidu.com/view/553970.htm" TargetMode="External"/><Relationship Id="rId5" Type="http://schemas.openxmlformats.org/officeDocument/2006/relationships/hyperlink" Target="http://baike.baidu.com/view/112125.htm" TargetMode="External"/><Relationship Id="rId6" Type="http://schemas.openxmlformats.org/officeDocument/2006/relationships/hyperlink" Target="http://baike.baidu.com/view/135602.htm" TargetMode="External"/><Relationship Id="rId7" Type="http://schemas.openxmlformats.org/officeDocument/2006/relationships/hyperlink" Target="http://baike.baidu.com/view/67073.htm" TargetMode="External"/><Relationship Id="rId8" Type="http://schemas.openxmlformats.org/officeDocument/2006/relationships/hyperlink" Target="http://baike.baidu.com/view/587353.htm" TargetMode="External"/><Relationship Id="rId9" Type="http://schemas.openxmlformats.org/officeDocument/2006/relationships/hyperlink" Target="http://baike.baidu.com/view/1296405.htm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wikilib.com/wiki?title=&#26149;&#31179;&amp;variant=zh-cn" TargetMode="External"/><Relationship Id="rId3" Type="http://schemas.openxmlformats.org/officeDocument/2006/relationships/hyperlink" Target="http://www.wikilib.com/wiki?title=&#35770;&#35821;&amp;variant=zh-cn" TargetMode="External"/><Relationship Id="rId4" Type="http://schemas.openxmlformats.org/officeDocument/2006/relationships/hyperlink" Target="http://www.wikilib.com/wiki?title=&#20122;&#22307;&amp;variant=zh-cn" TargetMode="External"/><Relationship Id="rId5" Type="http://schemas.openxmlformats.org/officeDocument/2006/relationships/hyperlink" Target="http://www.wikilib.com/wiki?title=&#23391;&#23376;&amp;variant=zh-cn" TargetMode="External"/><Relationship Id="rId6" Type="http://schemas.openxmlformats.org/officeDocument/2006/relationships/hyperlink" Target="http://www.wikilib.com/wiki?title=&#23391;&#23376;&amp;variant=zh-cn" TargetMode="External"/><Relationship Id="rId7" Type="http://schemas.openxmlformats.org/officeDocument/2006/relationships/hyperlink" Target="http://www.wikilib.com/wiki?title=&#22235;&#20070;&amp;variant=zh-cn" TargetMode="External"/><Relationship Id="rId8" Type="http://schemas.openxmlformats.org/officeDocument/2006/relationships/hyperlink" Target="http://www.wikilib.com/wiki?title=&#22235;&#20070;&#20116;&#32463;&amp;variant=zh-cn" TargetMode="External"/><Relationship Id="rId9" Type="http://schemas.openxmlformats.org/officeDocument/2006/relationships/hyperlink" Target="http://www.wikilib.com/wiki?title=&#20754;&#23478;&amp;variant=zh-cn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baike.baidu.com/view/4380.htm" TargetMode="External"/><Relationship Id="rId3" Type="http://schemas.openxmlformats.org/officeDocument/2006/relationships/hyperlink" Target="http://baike.baidu.com/view/7504.htm" TargetMode="External"/><Relationship Id="rId4" Type="http://schemas.openxmlformats.org/officeDocument/2006/relationships/hyperlink" Target="http://baike.baidu.com/view/2574.htm" TargetMode="External"/><Relationship Id="rId5" Type="http://schemas.openxmlformats.org/officeDocument/2006/relationships/hyperlink" Target="http://baike.baidu.com/view/4821.htm" TargetMode="External"/><Relationship Id="rId6" Type="http://schemas.openxmlformats.org/officeDocument/2006/relationships/hyperlink" Target="http://baike.baidu.com/view/6022.htm" TargetMode="External"/><Relationship Id="rId7" Type="http://schemas.openxmlformats.org/officeDocument/2006/relationships/hyperlink" Target="http://baike.baidu.com/view/6022.htm" TargetMode="External"/><Relationship Id="rId8" Type="http://schemas.openxmlformats.org/officeDocument/2006/relationships/hyperlink" Target="http://baike.baidu.com/view/6022.htm" TargetMode="External"/><Relationship Id="rId9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cctv.com/kids/special/C16315/20060818/103183.shtm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05920" y="6781680"/>
            <a:ext cx="75960" cy="76320"/>
          </a:xfrm>
          <a:prstGeom prst="rect">
            <a:avLst/>
          </a:prstGeom>
        </p:spPr>
        <p:txBody>
          <a:bodyPr wrap="none" lIns="90000" rIns="90000" tIns="29520" bIns="29520" anchor="b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名人故事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-3809880" y="-380880"/>
            <a:ext cx="12648960" cy="7619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-8839080" y="-76320"/>
            <a:ext cx="8001000" cy="76320"/>
          </a:xfrm>
          <a:prstGeom prst="rect">
            <a:avLst/>
          </a:prstGeom>
        </p:spPr>
        <p:txBody>
          <a:bodyPr wrap="none" lIns="90000" rIns="90000" tIns="29520" bIns="29520" anchor="b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efe50">
                        <a:alpha val="98039"/>
                      </a:srgbClr>
                    </a:gs>
                    <a:gs pos="50000">
                      <a:srgbClr val="ff9900"/>
                    </a:gs>
                    <a:gs pos="100000">
                      <a:srgbClr val="fefe50">
                        <a:alpha val="98039"/>
                      </a:srgbClr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新宋体"/>
              </a:rPr>
              <a:t>名人故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efe50">
                      <a:alpha val="98039"/>
                    </a:srgbClr>
                  </a:gs>
                  <a:gs pos="50000">
                    <a:srgbClr val="ff9900"/>
                  </a:gs>
                  <a:gs pos="100000">
                    <a:srgbClr val="fefe50">
                      <a:alpha val="98039"/>
                    </a:srgbClr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新宋体"/>
              <a:ea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efe50">
                      <a:alpha val="98039"/>
                    </a:srgbClr>
                  </a:gs>
                  <a:gs pos="50000">
                    <a:srgbClr val="ff9900"/>
                  </a:gs>
                  <a:gs pos="100000">
                    <a:srgbClr val="fefe50">
                      <a:alpha val="98039"/>
                    </a:srgbClr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新宋体"/>
              <a:ea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efe50">
                      <a:alpha val="98039"/>
                    </a:srgbClr>
                  </a:gs>
                  <a:gs pos="50000">
                    <a:srgbClr val="ff9900"/>
                  </a:gs>
                  <a:gs pos="100000">
                    <a:srgbClr val="fefe50">
                      <a:alpha val="98039"/>
                    </a:srgbClr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2057400" y="2286000"/>
            <a:ext cx="8839080" cy="28195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名人故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609120"/>
            <a:ext cx="7925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在那一刻，他知道甚至这一些无关痛痒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感伤都将永远离他而去，而眼泪流到脸颊时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一股难以形容的感觉自他身上奔泻而出。经过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段安静之后，毛皮商人听到有脚步声靠近他，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的眼罩被解了下来。因为突来的阳光使得他睁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开眼，他可以看见拿破仑的眼睛深深地又故意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望着他自己的眼睛， 似乎想看穿他灵魂里的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个角落。 然后拿破仑轻柔地   说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现在你知道了。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578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先师孔子行教像，为唐朝画家吴道子所画"/>
          <p:cNvPicPr/>
          <p:nvPr/>
        </p:nvPicPr>
        <p:blipFill>
          <a:blip r:embed="rId2">
            <a:lum contrast="48000"/>
          </a:blip>
          <a:srcRect l="0" t="11117" r="0" b="0"/>
          <a:stretch/>
        </p:blipFill>
        <p:spPr>
          <a:xfrm>
            <a:off x="0" y="0"/>
            <a:ext cx="420840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Yin Yang"/>
          <p:cNvPicPr/>
          <p:nvPr/>
        </p:nvPicPr>
        <p:blipFill>
          <a:blip r:embed="rId3">
            <a:lum contrast="66000"/>
          </a:blip>
          <a:srcRect l="14664" t="18843" r="21315" b="19187"/>
          <a:stretch/>
        </p:blipFill>
        <p:spPr>
          <a:xfrm>
            <a:off x="3048120" y="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528080" y="-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孔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9200" y="1905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97080"/>
            <a:ext cx="4114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孔子，名丘，字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仲尼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春秋时期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鲁国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陬邑昌平乡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今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曲阜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南辛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人。家中排行第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是文学家，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思想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政治家和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教育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社会活动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儒家学派创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504960" y="0"/>
            <a:ext cx="563868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教育贡献：</a:t>
            </a: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相传</a:t>
            </a:r>
            <a:r>
              <a:rPr b="0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2"/>
              </a:rPr>
              <a:t>春秋</a:t>
            </a:r>
            <a:r>
              <a:rPr b="0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是孔子所作</a:t>
            </a: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；</a:t>
            </a: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孔子思想最主要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文献</a:t>
            </a: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是</a:t>
            </a:r>
            <a:r>
              <a:rPr b="0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3"/>
              </a:rPr>
              <a:t>论语</a:t>
            </a: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；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大学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庸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两篇与反映被称为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4"/>
              </a:rPr>
              <a:t>亚圣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的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丘之后最伟大的儒家代表人物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5"/>
              </a:rPr>
              <a:t>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6"/>
              </a:rPr>
              <a:t>子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思想的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孟子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一书合在一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四书集注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，是谓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7"/>
              </a:rPr>
              <a:t>四书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四书与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诗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（诗经）、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书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（尚书）、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礼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（礼记）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易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（易经）、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春秋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五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经典合称“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8"/>
              </a:rPr>
              <a:t>四书五经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”，乃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华文新魏"/>
                <a:ea typeface="华文新魏"/>
                <a:hlinkClick r:id="rId9"/>
              </a:rPr>
              <a:t>儒家</a:t>
            </a: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说之核心经典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0"/>
          <a:stretch/>
        </p:blipFill>
        <p:spPr>
          <a:xfrm>
            <a:off x="609480" y="990720"/>
            <a:ext cx="2430720" cy="4419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495080" y="601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270160" y="297180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63200" y="397080"/>
            <a:ext cx="48362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mic Sans MS"/>
              </a:rPr>
              <a:t>　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出生地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安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合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英文名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V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生　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1986-05-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身　高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180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体　重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60k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星　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金牛座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专 长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写作、音乐创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乐 器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钢琴，电子合成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小时侯的梦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开发出如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样棒的操作系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最满意的动画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哆啦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A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喜爱的音乐类型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各种类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通常衣着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休闲随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最喜爱的食物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对吃没有兴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　最喜欢的地方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家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223200"/>
            <a:ext cx="40384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头像叫灰色头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无语叫叹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雪叫断桥残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月景叫庐州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态度叫认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解释叫多余的解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理由叫有何不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房子叫城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无奈叫我无所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结局叫两种悲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衣服叫情侣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假如叫如果当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麻烦叫别咬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感情叫不煽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动物叫白马非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假如叫如果当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麻烦叫别咬我。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-10080"/>
            <a:ext cx="4114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假如叫如果当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麻烦叫别咬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感情叫不煽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动物叫白马非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礼物叫送你的独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浪漫叫你若成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表达叫浅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书本叫星座书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季节叫清明雨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天气叫墨尔本，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公园叫七号公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笑容叫烟花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人物叫天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童话叫安徒生不后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声音叫伤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Comic Sans MS"/>
              </a:rPr>
              <a:t>有一种城堡叫幻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有一个才子叫许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24640" y="588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Comic Sans MS"/>
                <a:ea typeface="楷体_GB2312"/>
              </a:rPr>
              <a:t>赵本山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52320" y="1219320"/>
            <a:ext cx="5334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  <a:ea typeface="隶书"/>
              </a:rPr>
              <a:t>人生经历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7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出生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时成为孤儿，开始跟二叔（盲人）学艺。拉二胡、吹唢呐、抛手绢、唱小曲、二人转小帽等样样精通，尤其是三弦功底尤为突出。苦难的童年成了赵本山一生的财富，为其日后的小品、演艺生涯奠定了坚实的基础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18001" t="0" r="24001" b="0"/>
          <a:stretch/>
        </p:blipFill>
        <p:spPr>
          <a:xfrm>
            <a:off x="0" y="1295280"/>
            <a:ext cx="345924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贡献：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他把二人转带到全国各地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他是中国小品之王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他提出的‘绿色二人转’是一种创新，把一些糟粕的东西去掉，加入更加吸引人的乡土气息。让二人转为全国人民带去更多的欢乐。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18.jpg"/>
          <p:cNvPicPr/>
          <p:nvPr/>
        </p:nvPicPr>
        <p:blipFill>
          <a:blip r:embed="rId2"/>
          <a:stretch/>
        </p:blipFill>
        <p:spPr>
          <a:xfrm>
            <a:off x="4495680" y="4024440"/>
            <a:ext cx="4648320" cy="2833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000680"/>
            <a:ext cx="441972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Comic Sans MS"/>
                <a:ea typeface="华文新魏"/>
              </a:rPr>
              <a:t>文化战士—鲁迅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07cb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鲁迅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(1881-1936)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，中国现代伟大的文学家和翻译家和新文学运动的奠基人。原名周树人，字豫才，浙江绍兴人，出身于破落的封建家庭。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1918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年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月，首次用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"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鲁迅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"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为笔名，发表中国现代文学史上第一篇白话小说《狂人日记》，五四运动前后，参加《新青年》，成为五四新文化运动的伟大旗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-152640" y="2286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鲁迅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1902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留学日本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，原学医，后从文，企图用以改变国民精神。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1909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回国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。前期主要著作： 《阿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Q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正传》 《呐喊》《坟》《热风》《彷徨》《野草》《朝花夕拾》《华盖集》《华盖集续编》等专集，表现出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爱国主义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和彻底的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民主主义的思想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特色。《而已集》《三闲集》《二心集》《南腔北调集》《伪自由书》《准风月谈》《花边文学》《且介亭杂文》等为后期作品。其中 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《阿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Q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正传》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，是中国现代文学史上杰出的作品之一。</a:t>
            </a:r>
            <a:r>
              <a:rPr b="1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鲁迅的一生，对中国的文化事业作出了巨大的贡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1936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月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日病逝于上海。</a:t>
            </a:r>
            <a:r>
              <a:rPr b="0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rcRect l="8145" t="14143" r="29200" b="6159"/>
          <a:stretch/>
        </p:blipFill>
        <p:spPr>
          <a:xfrm>
            <a:off x="0" y="1371600"/>
            <a:ext cx="4070520" cy="54864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cc33"/>
                </a:solidFill>
                <a:latin typeface="Comic Sans MS"/>
                <a:ea typeface="华文新魏"/>
              </a:rPr>
              <a:t>伊丽莎白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33560" y="1752120"/>
            <a:ext cx="5181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533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日，伊丽莎白降生于格林威治宫。她的母亲是安娜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博林，父亲是英王亨利八世。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547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年亨利去世， 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557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日，伊丽莎白在经历了种种打击与苦难后，终于登上了英格兰的王位； 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1603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日，女王去世。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1446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拿破伦一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0"/>
            <a:ext cx="396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7603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爱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131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3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6558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许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265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50274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伊丽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-76320" y="1523880"/>
            <a:ext cx="3276720" cy="1600200"/>
          </a:xfrm>
          <a:prstGeom prst="rect">
            <a:avLst/>
          </a:prstGeom>
        </p:spPr>
        <p:txBody>
          <a:bodyPr wrap="none" lIns="90000" rIns="90000" tIns="46800" bIns="46800" anchor="b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目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伊丽莎白时代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 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伊丽莎白在位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44</a:t>
            </a:r>
            <a:r>
              <a:rPr b="0" lang="zh-CN" sz="3200" spc="-1" strike="noStrike">
                <a:solidFill>
                  <a:srgbClr val="f907cb"/>
                </a:solidFill>
                <a:latin typeface="华文新魏"/>
                <a:ea typeface="华文新魏"/>
              </a:rPr>
              <a:t>年。在即位后，以她坚定的意志、丰富的政治经验，把玛丽遗留下来的财力匮乏、军事软弱的英国，带进了一个政治稳定、财力充实、军事强大的时期；确立了女王在国教中的最高地位，从而使英国摆脱了罗马教廷的控制。从而出现了一个被英国人称之为“光荣的时代”——伊丽莎白时代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07280" y="836280"/>
            <a:ext cx="30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ye-by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4658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最後，请欣赏许嵩《苏格拉没有底》的以后搜主打歌曲，《河山大好》。这首歌曲调洒脱。不落俗套的旋律，清新的念唱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R&amp;B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节奏骨架，构建起了整首歌的律动，有“出去走走”的冲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4022640"/>
            <a:ext cx="1066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27160" y="3392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5848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即将迎来五一小长假，趁着放假大家一起出去走走。别宅在家啊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660680" y="2249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84360" y="3468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4080" y="-7200"/>
            <a:ext cx="36158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近亚健康状态  坐久了腿发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电脑看久了脖子它也会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数字时代貌似把生活节奏加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也让人变得行动迟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忙忙忙 忙出个什么所以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地球离了谁它都照样公转自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叹叹叹 弹指一挥人生苦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终点不明沿途风景要好好看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304920" y="2878200"/>
            <a:ext cx="6096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隐隐期待 途中佳缘到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保持浪漫心态 活着就不算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家国大好河山 不必崇洋媚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好地方一生都看不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峨眉山庐山黄山嵩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抓紧周末带爸爸妈妈去转一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北京西安洛阳开封安阳南京杭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睹一睹古都的风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心情大好 出去走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碧海蓝天 吹吹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河山大好 出去走走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28600" y="5908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爱迪生是位举世闻名的美国电学家和发明家，他除了在留声机、电灯、电话、电报、电影等方面的发明和贡献以外，在矿业、建筑业、化工等领域也有不少著名的创造和真知灼见。爱迪生一生共有约两千项创造发明，为人类的文明和进步作出了巨大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66680" y="304920"/>
            <a:ext cx="4114800" cy="1218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爱迪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392280" cy="4267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 rot="2074800">
            <a:off x="6629040" y="3886200"/>
            <a:ext cx="15922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879/10/3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爱迪生发明电灯，他每天工作超过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小时以上，不停的努力，不断发明有用的东西，一生中发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9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件专利，有人认为他是天才，他认为天才是百分之一的灵感加上百分之九十九的努力，他有很大的勇气和坚强的毅力承受失败的打击，他也常说这样鼓励别人，到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岁还在研究他完全不懂的植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801800" cy="1827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1801800" cy="1827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257800" y="4495680"/>
            <a:ext cx="1801800" cy="1827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162920" y="59670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Comic Sans MS"/>
                <a:ea typeface="楷体_GB2312"/>
                <a:hlinkClick r:id="rId5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omic Sans MS"/>
                <a:ea typeface="华文新魏"/>
              </a:rPr>
              <a:t>成吉思汗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5639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大约生于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1162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年。父亲是一位蒙古酋长，九岁时，父亲被杀。年青时，他在一次敌对部落的突然袭击中被俘。由于怕他逃跑，他们给他脖子上套了一个木枷。但是铁木真却在一片原始荒凉的国土上，由一个无依无靠目不识丁的囚犯崛身而起，成为世界上最强大的人物—伟大的蒙古征服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8576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666880" y="304560"/>
            <a:ext cx="6096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铁木真容军事雄才大略、外交手腕、无情残忍和组织能力于一身，在他的领导下所有的这些部落都结为一体。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206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的一次蒙古酋长大会正式宣布他为成吉思汗，即“万国皇帝”。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219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成吉思汗率军向花剌子模国王进攻，侵战了波斯和中亚；正当其他蒙古部队向俄国进攻的时候，成吉思汗亲自率军对阿富汗和印度北方发动了一次袭击。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22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他返回蒙古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227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年在那里溘然而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119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Comic Sans MS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870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拿破仑一世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57240" y="236232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拿破仑一世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804-1815)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法兰西帝国缔造者，卓越的军事家，野心勃勃的政治家。先后多次打垮了欧洲各个封建君主国组织的“反法同盟”，并在欧、非、北美各战场上，进行了对欧洲各国家的战争，削弱了欧洲大陆的封建势力。他颁布了重要的《拿破仑法典》，确立了资本主义社会的立法规范，至今还发挥着重要作用。</a:t>
            </a:r>
            <a:br>
              <a:rPr sz="28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华文新魏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6162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拿破仑入侵俄国时，部队在一个小镇作战，他与军队脱离时，俄国人盯上他，拿破仑开始逃命，并潜入毛皮商人家。他对毛皮商人可怜地大叫：“救救我，救救我！我可以藏在哪里？”毛皮商用很多张毛皮盖住拿破仑。这时俄国人就已冲到门口，他们把他的店给拆了，想找到拿破仑。他们将剑刺入毛皮内，但是没有发现他。不久，他们离开了。一会儿，拿破仑毫发无损地从毛皮下爬出来。毛皮商向拿破仑胆怯地说：“原谅我对一个伟人问这个问题，但是躲在毛皮下，那是什么样的感觉？”</a:t>
            </a:r>
            <a:br>
              <a:rPr sz="3200"/>
            </a:br>
            <a:r>
              <a:rPr b="0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　　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拿破仑愤怒地说：“你竟然对拿破仑皇帝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这样的问题？警卫，将这个不知轻重的人带                                                                                                                                                                         出去，蒙住眼睛，处决他。”毛皮商被蒙住双眼看不见东西，但是他可以听到警卫的动作，他们排成一列，准备他们的步枪时，他听见自己的衣服在冷风中簌簌作响。他感觉到寒风正轻轻摇着他的衣摆、冷却他的脸颊，他的双脚正颤抖着。然后，他听见拿破仑清清喉咙，慢慢地喊着“预备……瞄准……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1-18T07:13:2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