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EF8-F9ED-439D-AA17-7FFB4B95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D09-4A3C-4CD2-B4E9-63D74970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939-561F-4F9E-9193-9321EC7A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08B-03CD-46BB-B48A-187BC121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604F-E74B-4455-A7AF-0D8559DF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993E-02E5-40C0-9794-A993530A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C697-924C-4607-9A68-69F5086E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49CC-E111-47D7-841B-B7A5891C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3214-D1BE-41B0-AF91-D92C742B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645C-DFB9-4593-928F-CA5B3687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E5E7-EC6C-4D6E-82D1-6ADEA77C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DE5-6C95-492D-9B89-C0B9DEE9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030F-068A-4D70-9575-06A1D71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3346-0673-4E09-85E1-63FA5F4F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EC17-8381-4426-A852-D6F8B98F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8C0D-12F8-4B41-B228-2A31807C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2E33-B736-4F31-99AC-4F547B0E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0D6-6A95-4740-B00A-A1F5BCF4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1E6-8D41-476C-8644-B12B29C6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8EE-727E-4855-8314-44BC9496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4DE-76E3-41B7-8F99-F2886B48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F29-51FC-4433-9C69-8C7B8E9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F33-A7D2-46B3-8C1A-4E60EFF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04D-7107-405A-9579-E7DED9FB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710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1D0F-D1A5-4CAA-BFB1-247A2C25FA29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710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F456-30AF-4C6E-9B0C-8F755ECD6B1A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0c0c0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4941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7102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66360"/>
            <a:ext cx="7859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5456160" y="49132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8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5934240" y="5627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8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PPT</dc:creator>
  <dc:description/>
  <dc:language>en-US</dc:language>
  <cp:lastModifiedBy>微软用户</cp:lastModifiedBy>
  <dcterms:modified xsi:type="dcterms:W3CDTF">2014-09-18T14:05:24Z</dcterms:modified>
  <cp:revision>125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