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ED7-BEA3-4DCF-835C-AC615E90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A1C-530B-4C1A-B9A4-D01B27D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285-6442-40E9-8D23-D9B5E8D2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E92-7685-4885-B3FF-CF337A15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932-BF1D-4536-9FD5-FC0C968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BC9-CFEA-4FAA-995B-FCEB011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10C-6F8B-4CAA-A70D-B167843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DF9-637D-4987-9A77-297D422D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D09-3704-408E-9192-1FE8BB2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ADD-D17A-499C-8D7A-BAE3507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989-8245-4BB5-8AAD-D79DE71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59B-BD3E-4182-810D-44FA849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464-5E2D-46EA-8CA5-7CE21D7656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71720" y="400068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143000" y="47642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4-09T06:21:39Z</dcterms:modified>
  <cp:revision>76</cp:revision>
  <dc:subject/>
  <dc:title>幻灯片 1</dc:title>
</cp:coreProperties>
</file>