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BF7-308E-4572-9C8A-057EA5DC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91E-B985-4F9C-B38B-C9D1EB84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52D-8A79-49C6-994D-C4179742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BDB-3681-4991-ACF2-595A40A4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B3D-BEF2-4531-8277-599F8BF8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E19-63B1-4075-8D6E-EE158B83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BD4-E86A-4684-905F-E74419CC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6E5-D9B8-4B31-8E23-596B6167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20D-9367-44CB-BF1D-26B075C1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539-185F-428C-BB1B-7E72A483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A80-5870-4206-8D9D-F4B1B1D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F19-C062-45AF-9E29-3A6632E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FFA2-83CA-485B-A341-F6202279BC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母亲节的那一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您的节日来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给你的情，不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向您诉说我的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53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9239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母亲节的由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4508280"/>
            <a:ext cx="74883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亲节起源于美国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90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，美国费城的安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贾薇丝的母亲不幸去世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悲痛万分。在次年母亲逝世周年忌日，安娜小姐组织了追思母亲的活动，并鼓励他人也以类似方式来表达对各自慈母的感激之情。此后，她到处游说并向社会各界呼吁，号召设立母亲节。她的呼吁获得热烈响应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美国参众两院通过决议案，由威尔逊总统签署公告，决定每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的第二个星期日为母亲节。这一举措引起世界各国纷纷仿效，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安娜谢世时，已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国家设立了母亲节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3720" y="1197000"/>
            <a:ext cx="458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8567640" y="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00" y="4508640"/>
            <a:ext cx="5265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许，语言并不优美；也许，没有像您那么伟大的情感；也许，许许多多个也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放游一盏五彩神灯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摇曳我的心声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送一句佳节的问候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明我的真情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紧握住您温暖的手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触摸您的温情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感受到母爱的无穷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沉浸在温馨之中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亲吻您最美的面颊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给您女儿的温情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告诉您女儿不在懵懂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爱你直到山无棱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5000" y="1268280"/>
            <a:ext cx="854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459640" y="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5109"/>
                </a:moveTo>
                <a:lnTo>
                  <a:pt x="13376" y="7720"/>
                </a:lnTo>
                <a:lnTo>
                  <a:pt x="13376" y="5979"/>
                </a:lnTo>
                <a:lnTo>
                  <a:pt x="15152" y="5979"/>
                </a:lnTo>
                <a:lnTo>
                  <a:pt x="15152" y="9496"/>
                </a:lnTo>
                <a:lnTo>
                  <a:pt x="17763" y="12072"/>
                </a:lnTo>
                <a:lnTo>
                  <a:pt x="16109" y="12072"/>
                </a:lnTo>
                <a:lnTo>
                  <a:pt x="16109" y="19261"/>
                </a:lnTo>
                <a:lnTo>
                  <a:pt x="5491" y="19261"/>
                </a:lnTo>
                <a:lnTo>
                  <a:pt x="5491" y="12072"/>
                </a:lnTo>
                <a:lnTo>
                  <a:pt x="3837" y="12072"/>
                </a:lnTo>
                <a:close/>
              </a:path>
              <a:path fill="darkenLess" w="21600" h="24144">
                <a:moveTo>
                  <a:pt x="13376" y="7720"/>
                </a:moveTo>
                <a:lnTo>
                  <a:pt x="13376" y="5979"/>
                </a:lnTo>
                <a:lnTo>
                  <a:pt x="15152" y="5979"/>
                </a:lnTo>
                <a:lnTo>
                  <a:pt x="15152" y="9496"/>
                </a:lnTo>
                <a:close/>
              </a:path>
              <a:path fill="darkenLess" w="21600" h="24144">
                <a:moveTo>
                  <a:pt x="9877" y="15571"/>
                </a:moveTo>
                <a:lnTo>
                  <a:pt x="11723" y="15571"/>
                </a:lnTo>
                <a:lnTo>
                  <a:pt x="11723" y="19261"/>
                </a:lnTo>
                <a:lnTo>
                  <a:pt x="16109" y="19261"/>
                </a:lnTo>
                <a:lnTo>
                  <a:pt x="16109" y="12072"/>
                </a:lnTo>
                <a:lnTo>
                  <a:pt x="5491" y="12072"/>
                </a:lnTo>
                <a:lnTo>
                  <a:pt x="5491" y="19261"/>
                </a:lnTo>
                <a:lnTo>
                  <a:pt x="9877" y="19261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34900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向您诉说我的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4437000"/>
            <a:ext cx="5122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不是您对我的管教，那我不会变成现这样子；如果不是您对我说要做自己喜欢的事，那我现在还是不会明白自己想要的是什么；如果不是您放任了我的叛逆，那我还不会懂得悔改。正因为您对我的管教之严，才有了现在的我，母亲，你辛苦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firstslide"/>
          </p:cNvPr>
          <p:cNvSpPr/>
          <p:nvPr/>
        </p:nvSpPr>
        <p:spPr>
          <a:xfrm>
            <a:off x="8459640" y="0"/>
            <a:ext cx="684360" cy="7207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20720"/>
              <a:gd name="textAreaBottom" fmla="*/ 676440 h 720720"/>
            </a:gdLst>
            <a:ahLst/>
            <a:rect l="textAreaLeft" t="textAreaTop" r="textAreaRight" b="textAreaBottom"/>
            <a:pathLst>
              <a:path w="21600" h="22747">
                <a:moveTo>
                  <a:pt x="0" y="0"/>
                </a:moveTo>
                <a:lnTo>
                  <a:pt x="21600" y="0"/>
                </a:lnTo>
                <a:lnTo>
                  <a:pt x="21600" y="22747"/>
                </a:lnTo>
                <a:lnTo>
                  <a:pt x="0" y="22747"/>
                </a:lnTo>
                <a:close/>
              </a:path>
              <a:path fill="lightenLess" w="21600" h="227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47">
                <a:moveTo>
                  <a:pt x="21600" y="0"/>
                </a:moveTo>
                <a:lnTo>
                  <a:pt x="21600" y="22747"/>
                </a:lnTo>
                <a:lnTo>
                  <a:pt x="20200" y="21347"/>
                </a:lnTo>
                <a:lnTo>
                  <a:pt x="20200" y="1400"/>
                </a:lnTo>
                <a:close/>
              </a:path>
              <a:path fill="darkenLess" w="21600" h="22747">
                <a:moveTo>
                  <a:pt x="21600" y="22747"/>
                </a:moveTo>
                <a:lnTo>
                  <a:pt x="0" y="22747"/>
                </a:lnTo>
                <a:lnTo>
                  <a:pt x="1400" y="21347"/>
                </a:lnTo>
                <a:lnTo>
                  <a:pt x="20200" y="21347"/>
                </a:lnTo>
                <a:close/>
              </a:path>
              <a:path fill="lighten" w="21600" h="22747">
                <a:moveTo>
                  <a:pt x="0" y="227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47"/>
                </a:lnTo>
                <a:close/>
              </a:path>
              <a:path fill="darken" w="21600" h="22747">
                <a:moveTo>
                  <a:pt x="10800" y="4411"/>
                </a:moveTo>
                <a:lnTo>
                  <a:pt x="13376" y="7022"/>
                </a:lnTo>
                <a:lnTo>
                  <a:pt x="13376" y="5281"/>
                </a:lnTo>
                <a:lnTo>
                  <a:pt x="15152" y="5281"/>
                </a:lnTo>
                <a:lnTo>
                  <a:pt x="15152" y="8797"/>
                </a:lnTo>
                <a:lnTo>
                  <a:pt x="17763" y="11374"/>
                </a:lnTo>
                <a:lnTo>
                  <a:pt x="16109" y="11374"/>
                </a:lnTo>
                <a:lnTo>
                  <a:pt x="16109" y="18563"/>
                </a:lnTo>
                <a:lnTo>
                  <a:pt x="5491" y="18563"/>
                </a:lnTo>
                <a:lnTo>
                  <a:pt x="5491" y="11374"/>
                </a:lnTo>
                <a:lnTo>
                  <a:pt x="3837" y="11374"/>
                </a:lnTo>
                <a:close/>
              </a:path>
              <a:path fill="darkenLess" w="21600" h="22747">
                <a:moveTo>
                  <a:pt x="13376" y="7022"/>
                </a:moveTo>
                <a:lnTo>
                  <a:pt x="13376" y="5281"/>
                </a:lnTo>
                <a:lnTo>
                  <a:pt x="15152" y="5281"/>
                </a:lnTo>
                <a:lnTo>
                  <a:pt x="15152" y="8797"/>
                </a:lnTo>
                <a:close/>
              </a:path>
              <a:path fill="darkenLess" w="21600" h="22747">
                <a:moveTo>
                  <a:pt x="9877" y="14872"/>
                </a:moveTo>
                <a:lnTo>
                  <a:pt x="11723" y="14872"/>
                </a:lnTo>
                <a:lnTo>
                  <a:pt x="11723" y="18563"/>
                </a:lnTo>
                <a:lnTo>
                  <a:pt x="16109" y="18563"/>
                </a:lnTo>
                <a:lnTo>
                  <a:pt x="16109" y="11374"/>
                </a:lnTo>
                <a:lnTo>
                  <a:pt x="5491" y="11374"/>
                </a:lnTo>
                <a:lnTo>
                  <a:pt x="5491" y="18563"/>
                </a:lnTo>
                <a:lnTo>
                  <a:pt x="9877" y="18563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7:08:58Z</dcterms:created>
  <dc:creator>微软用户</dc:creator>
  <dc:description/>
  <dc:language>en-US</dc:language>
  <cp:lastModifiedBy>微软用户</cp:lastModifiedBy>
  <dcterms:modified xsi:type="dcterms:W3CDTF">2014-05-15T07:38:58Z</dcterms:modified>
  <cp:revision>2</cp:revision>
  <dc:subject/>
  <dc:title>母亲节的那一天</dc:title>
</cp:coreProperties>
</file>